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E44-6C6C-4022-B0E7-1A59B3E9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25A-D2DB-4BFB-9F67-53821D2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D5B-F694-4349-8CE4-AF91E41B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8F8-C40C-45CA-B5F7-E610C324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42A-9880-4BB3-BB37-98AAFA84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C96-6074-40A0-8E87-D79CA961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3FF-91D3-4503-8AA4-3CBB7035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71E-04C9-44C7-97B0-C479736E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C8D-B5B7-4C27-A230-C8CB4B7D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FCE-C225-4D37-B779-89582AFD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F2C-A0EC-487C-B849-2305FF9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C02-2520-474B-8D28-B0215DB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2FB7-03FB-4AFD-BC64-0A3E7976E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tellitemps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7080" y="2205000"/>
            <a:ext cx="393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STÁGIO NOS E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JAN – JUL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4320" y="4149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CARDO S. R. SI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50400" y="409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DRAGAG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4056120" cy="3047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2360" y="404640"/>
            <a:ext cx="47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BACIAS DE CONTENÇÃO DE S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81169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714840" cy="4162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3657600" cy="361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000" y="404640"/>
            <a:ext cx="47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BACIAS DE CONTENÇÃO DE SED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39440" y="620640"/>
            <a:ext cx="52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Comic Sans MS"/>
              </a:rPr>
              <a:t>SEDIMENTOS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E CONSUMO DE O2 - “CAPP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73416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05880" y="4762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ENCOSTAS – GEOTEXT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8760" y="1128600"/>
            <a:ext cx="82864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64440" y="508464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PERMISS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54920" y="5805360"/>
            <a:ext cx="975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04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INFESTAÇÃO DE ESPÉCIES NÃO-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7760" y="256536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RFB E RF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6120" y="1103400"/>
            <a:ext cx="62229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moção manual ( Aroeira vermelha/ Brazilian pepp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licação de químicos não danos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colha de espécies nativas pra reflores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4320" y="3141720"/>
            <a:ext cx="392184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ecção de documentos ofi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cific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enh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sitos leg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31400" y="40464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AVALIAÇÃO DE SU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28600" y="25653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O QUE FOI FEI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32000" y="1268280"/>
            <a:ext cx="3103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AÇÕES DE TELEME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O-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62600" y="40464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MAIS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35960" y="3141720"/>
            <a:ext cx="29163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INTELLITEMP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ZEZE@REDECASD.ITA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4280" y="25956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2160" y="2275920"/>
            <a:ext cx="42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DADA POR JOHN C CAPECE, PH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6680" y="2636280"/>
            <a:ext cx="7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1052640"/>
            <a:ext cx="2324160" cy="81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1440" y="4220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LOC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4720" y="4842000"/>
            <a:ext cx="23184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BELLE -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0280" y="2997360"/>
            <a:ext cx="35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ENVOLVIMENTO PESQU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00960" y="3429000"/>
            <a:ext cx="38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TADA A CAUSAS AMBI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4869000"/>
            <a:ext cx="456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ITOS PROBLEMAS COM ÁGU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ITAS VERBAS GOVERNAMENTAIS PARA ESTUDOS HIDROLÓGICOS E EC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08360" y="4173480"/>
            <a:ext cx="353376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34320" y="980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ATU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37000" y="31824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10440" y="371556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TAURAÇÃO ECOLÓG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5076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JETOS PARA UNIVERSIDADE DA FLORIDA E GOVERNO (COND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5320" y="15573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SQUISAS HIDR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13372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ER SAMPL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 SIMULATIO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LEMETRY DATA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98480" y="3182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ESTÁG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76600" y="1586880"/>
            <a:ext cx="716652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66 ESTAGIÁRIOS DESDE 1999 DE 50 PAISES DI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ÁGIOS NÃO REMUN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RAÇÃO DE 3 A 18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ADIA E CARRO CEDIDOS PE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EGAÇÃO DE TAREFAS DE ACORDO COM SUAS CAPAC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60640" y="3182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MEU ESTA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4200" y="1130400"/>
            <a:ext cx="530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JETO PRINCIPAL 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OXBOW 24 REST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9320" y="17049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GROUN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71760" y="17002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ONIZAÇÃO DA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7720" y="2290680"/>
            <a:ext cx="37587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AR ENCHENT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MENTAR AS TERRAS CULTIVÁVE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VEG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349360"/>
            <a:ext cx="27370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ALIZAÇÃO DOS RIOS (DRENAGEM DOS PÂNTAN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3357720"/>
            <a:ext cx="4896000" cy="3120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03640" y="2565360"/>
            <a:ext cx="935280" cy="360360"/>
          </a:xfrm>
          <a:prstGeom prst="rightArrow">
            <a:avLst>
              <a:gd name="adj1" fmla="val 50000"/>
              <a:gd name="adj2" fmla="val 64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81600" y="318240"/>
            <a:ext cx="46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CALOOSAHATCHEE RIVER - OXB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16000" y="3357720"/>
            <a:ext cx="72723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82440" y="33336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RESTAU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8920" y="134136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POR QUE RESTAURA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184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2560" y="2162160"/>
            <a:ext cx="3269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A SELVAGEM (HABIT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DIMENTOS /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0" y="378936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OXBOW 24 RESTOR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4653000"/>
            <a:ext cx="4105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E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BLEMAS / SOLU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2200" cy="6156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50515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5231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20:07:43Z</dcterms:created>
  <dc:creator>Ricardo</dc:creator>
  <dc:description/>
  <dc:language>en-US</dc:language>
  <cp:lastModifiedBy>Ricardo</cp:lastModifiedBy>
  <dcterms:modified xsi:type="dcterms:W3CDTF">2005-10-19T17:20:48Z</dcterms:modified>
  <cp:revision>82</cp:revision>
  <dc:subject/>
  <dc:title>Slide 1</dc:title>
</cp:coreProperties>
</file>