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C992-FA12-4297-9618-8AD23F58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EB34-A228-40F9-B543-C670A348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587-F0CA-4959-980A-15EEF317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EBE-5B75-46E3-A881-7DC56788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5A86-00BE-46A4-B616-66F1F695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8EB3-BA05-402F-9388-07FD0266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A05-ACAC-48B1-8446-9FD7AF06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0574-27B5-4ADE-A083-3F9F982B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1163-DECC-4EBA-BBC1-22F3F382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A476-B9D0-4737-851F-944ACC56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5573-3B3C-4394-A2DA-78C2FB01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8B7-392C-456E-9EE2-72A69838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DE0F-8F6A-4234-AE44-7D3F2F8E6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_lg_empreendimento_p" descr=""/>
          <p:cNvPicPr/>
          <p:nvPr/>
        </p:nvPicPr>
        <p:blipFill>
          <a:blip r:embed="rId1"/>
          <a:stretch/>
        </p:blipFill>
        <p:spPr>
          <a:xfrm>
            <a:off x="5219640" y="1052640"/>
            <a:ext cx="2086200" cy="1428480"/>
          </a:xfrm>
          <a:prstGeom prst="rect">
            <a:avLst/>
          </a:prstGeom>
          <a:ln w="0">
            <a:noFill/>
          </a:ln>
        </p:spPr>
      </p:pic>
      <p:pic>
        <p:nvPicPr>
          <p:cNvPr id="42" name="ITA_LOGO" descr=""/>
          <p:cNvPicPr/>
          <p:nvPr/>
        </p:nvPicPr>
        <p:blipFill>
          <a:blip r:embed="rId2"/>
          <a:stretch/>
        </p:blipFill>
        <p:spPr>
          <a:xfrm>
            <a:off x="1258920" y="1197000"/>
            <a:ext cx="2700360" cy="104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4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3280" y="4796640"/>
            <a:ext cx="42649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icardo de Souza Ramos da Si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ão José dos Camp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julho / 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61680" y="3171240"/>
            <a:ext cx="602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stágio Curricular Supervisio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2720" y="475560"/>
            <a:ext cx="26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equação à ISO 9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20880" y="2008080"/>
            <a:ext cx="507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o de implantação da ISO 9001 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que é a ISSO 90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que é interessan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ltoria ex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uação como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boração de procedimentos (PO e 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12360" y="619920"/>
            <a:ext cx="194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ro de Arri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4543560" cy="3392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067280" y="2781360"/>
            <a:ext cx="44830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56960" y="76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efas Administrativ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55880" y="3071160"/>
            <a:ext cx="28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as em Outras Obr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73360" y="3719520"/>
            <a:ext cx="5823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apeamento na Praça Gastão Vidigal – PMSJ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bilitação do Pavimento na Av Jorge Zarur - PMSJ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lhoria Viária na rotatória de acesso da Câmara Municipal  - PMSJ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trução de galeria de Águas Pluviais no Jd das Indústrias – PMSJ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61680" y="1415880"/>
            <a:ext cx="395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efas  burocr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namento de novos funcionári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53080" y="2780640"/>
            <a:ext cx="53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rigado pela atenção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7440" y="519480"/>
            <a:ext cx="16923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800000"/>
                </a:solidFill>
                <a:latin typeface="Arial"/>
              </a:rPr>
              <a:t>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57960" y="2224080"/>
            <a:ext cx="64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presa do ramo de Infra-estrutura e Construção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ndada em 1981 por Aguinaldo Mendes Si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icialmente voltada para projetos de E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ualmente somente executa e gerencia ob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ntativas de entrar no mercado de incorporação imobiliá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rande acervo tecnico nos últimos 25 a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02520" y="389520"/>
            <a:ext cx="40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TIVIDA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DESENVOLVID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6920" y="134064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fício Vivendas do Lag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4120" y="2060640"/>
            <a:ext cx="607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difício residencial  (primeiro da litoral empreendimen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 pavimentos (sem elev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4 apartamentos (56 m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-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fachada_p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38102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iving_p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2857680" cy="2352960"/>
          </a:xfrm>
          <a:prstGeom prst="rect">
            <a:avLst/>
          </a:prstGeom>
          <a:ln w="0">
            <a:noFill/>
          </a:ln>
        </p:spPr>
      </p:pic>
      <p:pic>
        <p:nvPicPr>
          <p:cNvPr id="54" name="planta_tipo_p" descr=""/>
          <p:cNvPicPr/>
          <p:nvPr/>
        </p:nvPicPr>
        <p:blipFill>
          <a:blip r:embed="rId2"/>
          <a:stretch/>
        </p:blipFill>
        <p:spPr>
          <a:xfrm>
            <a:off x="5867280" y="549360"/>
            <a:ext cx="1876680" cy="2857320"/>
          </a:xfrm>
          <a:prstGeom prst="rect">
            <a:avLst/>
          </a:prstGeom>
          <a:ln w="0">
            <a:noFill/>
          </a:ln>
        </p:spPr>
      </p:pic>
      <p:pic>
        <p:nvPicPr>
          <p:cNvPr id="55" name="implanta_g" descr=""/>
          <p:cNvPicPr/>
          <p:nvPr/>
        </p:nvPicPr>
        <p:blipFill>
          <a:blip r:embed="rId3"/>
          <a:stretch/>
        </p:blipFill>
        <p:spPr>
          <a:xfrm>
            <a:off x="2050920" y="3789360"/>
            <a:ext cx="4762800" cy="2714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6920" y="47556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fício Vivendas do Lag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03160" y="1690560"/>
            <a:ext cx="48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ularida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venaria estru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je suspensa no primeiro pa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71560" y="3417840"/>
            <a:ext cx="383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cessos acompanh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ferencia de pro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op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avação de fus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cução da arm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cretagem dos tubul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6920" y="33264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fício Vivendas do Lag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4649760" cy="3467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211640" y="3357720"/>
            <a:ext cx="4327560" cy="3255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2560" y="40392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fício Vivendas do Lag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48360" y="260280"/>
            <a:ext cx="2949480" cy="3932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5280" y="3284640"/>
            <a:ext cx="4471920" cy="3311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2560" y="40392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fício Vivendas do Lag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356000" y="549360"/>
            <a:ext cx="4125960" cy="3089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9280" y="3390840"/>
            <a:ext cx="4627800" cy="346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2560" y="40392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fício Vivendas do Lag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705200" cy="3535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2560" y="40392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fício Vivendas do Lag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4:21:46Z</dcterms:created>
  <dc:creator>Ricardo de Souza</dc:creator>
  <dc:description/>
  <dc:language>en-US</dc:language>
  <cp:lastModifiedBy>Ricardo de Souza</cp:lastModifiedBy>
  <dcterms:modified xsi:type="dcterms:W3CDTF">2006-07-12T19:52:17Z</dcterms:modified>
  <cp:revision>7</cp:revision>
  <dc:subject/>
  <dc:title>Slide 1</dc:title>
</cp:coreProperties>
</file>