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9C68-C2B8-417F-A951-1A3F55B1C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480" y="3766680"/>
            <a:ext cx="8181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F026-4E42-49B3-AEE9-F29E167E4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748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04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BA4D-04F2-4BC8-8A50-004C59C9F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21932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9960" y="121932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7480" y="376668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376668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9960" y="376668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A298-996D-41C3-BFF3-752A9DE57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6640" y="0"/>
            <a:ext cx="8847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748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7353-D20B-4E4D-817A-EA14E451A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04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480" y="3766680"/>
            <a:ext cx="8181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480" y="3766680"/>
            <a:ext cx="8181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748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04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3720" y="121932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9960" y="121932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7480" y="376668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3720" y="376668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9960" y="3766680"/>
            <a:ext cx="263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90A7-F504-4784-B190-3EC4C8DE7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3150-402A-4881-B8FA-FB68007A8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9A61-01FA-48B3-BDF8-7666CB3DB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6640" y="0"/>
            <a:ext cx="8847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E8C6-2B28-4253-BBEE-43363BC90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748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2070-03A8-4FDF-99EE-8AD34F20E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040" y="376668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DE50-8F9E-4DED-A77A-DD39C8C69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040" y="1219320"/>
            <a:ext cx="399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480" y="3766680"/>
            <a:ext cx="8181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6D4F-FACA-4F58-8FB7-654802C10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62800" y="6381360"/>
            <a:ext cx="78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4EE-106F-4B83-AE1F-635085295DE3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254160"/>
            <a:ext cx="1347840" cy="5158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48640" y="343080"/>
            <a:ext cx="1733400" cy="3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858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978200"/>
            <a:ext cx="91440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157800"/>
            <a:ext cx="1828800" cy="700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978200"/>
            <a:ext cx="91440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a50021"/>
                </a:solidFill>
                <a:latin typeface="Times New Roman"/>
              </a:rPr>
              <a:t>Estágio Curricular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84560"/>
            <a:ext cx="9144000" cy="21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Fábio Spezzano Toni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rient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ulo Ivo Braga de Queiroz (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ndré Conceição (Schlumberger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45320" y="6338880"/>
            <a:ext cx="22003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este Convenciona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95560" y="4251240"/>
          <a:ext cx="120816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5560" y="4251240"/>
                    <a:ext cx="1208160" cy="177156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783400" y="5064120"/>
          <a:ext cx="147924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3400" y="5064120"/>
                    <a:ext cx="1479240" cy="69228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109520" y="2251080"/>
          <a:ext cx="94644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9520" y="2251080"/>
                    <a:ext cx="946440" cy="86040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948040" y="1830240"/>
            <a:ext cx="2582640" cy="16718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76720" y="1447920"/>
            <a:ext cx="1834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 57 Condensed"/>
              </a:rPr>
              <a:t>Sepa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245480" y="3771000"/>
            <a:ext cx="590760" cy="172800"/>
          </a:xfrm>
          <a:prstGeom prst="rightArrow">
            <a:avLst>
              <a:gd name="adj1" fmla="val 50000"/>
              <a:gd name="adj2" fmla="val 854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9520" y="3632040"/>
            <a:ext cx="1006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57 Condensed"/>
              </a:rPr>
              <a:t>O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2320" y="3567240"/>
            <a:ext cx="176400" cy="517320"/>
          </a:xfrm>
          <a:prstGeom prst="downArrow">
            <a:avLst>
              <a:gd name="adj1" fmla="val 50000"/>
              <a:gd name="adj2" fmla="val 7331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4594320"/>
            <a:ext cx="176868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57 Condensed"/>
              </a:rPr>
              <a:t>Treated completion fluids dis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1876320"/>
            <a:ext cx="531720" cy="171720"/>
          </a:xfrm>
          <a:prstGeom prst="rightArrow">
            <a:avLst>
              <a:gd name="adj1" fmla="val 50000"/>
              <a:gd name="adj2" fmla="val 7741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375240" y="1592280"/>
          <a:ext cx="887400" cy="75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75240" y="1592280"/>
                    <a:ext cx="887400" cy="75240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467480" y="1546200"/>
            <a:ext cx="149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57 Condensed"/>
              </a:rPr>
              <a:t>Ga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57 Condensed"/>
              </a:rPr>
              <a:t>f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4120" y="1546200"/>
            <a:ext cx="1473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 57 Condensed"/>
              </a:rPr>
              <a:t>Well efflu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375240" y="3176640"/>
          <a:ext cx="887400" cy="75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75240" y="3176640"/>
                    <a:ext cx="887400" cy="75384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467480" y="3208320"/>
            <a:ext cx="1146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57 Condensed"/>
              </a:rPr>
              <a:t>Oil to bu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9400" y="5319720"/>
            <a:ext cx="536760" cy="155520"/>
          </a:xfrm>
          <a:prstGeom prst="rightArrow">
            <a:avLst>
              <a:gd name="adj1" fmla="val 50000"/>
              <a:gd name="adj2" fmla="val 8628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6262560" y="4368600"/>
            <a:ext cx="1093680" cy="173160"/>
          </a:xfrm>
          <a:prstGeom prst="rightArrow">
            <a:avLst>
              <a:gd name="adj1" fmla="val 50000"/>
              <a:gd name="adj2" fmla="val 15790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44600" y="2590920"/>
            <a:ext cx="516240" cy="180720"/>
          </a:xfrm>
          <a:prstGeom prst="rightArrow">
            <a:avLst>
              <a:gd name="adj1" fmla="val 50000"/>
              <a:gd name="adj2" fmla="val 71414"/>
            </a:avLst>
          </a:prstGeom>
          <a:solidFill>
            <a:srgbClr val="d2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1368360" y="1933560"/>
            <a:ext cx="449280" cy="195120"/>
          </a:xfrm>
          <a:prstGeom prst="rightArrow">
            <a:avLst>
              <a:gd name="adj1" fmla="val 50000"/>
              <a:gd name="adj2" fmla="val 57565"/>
            </a:avLst>
          </a:prstGeom>
          <a:solidFill>
            <a:srgbClr val="d2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84920" y="4395960"/>
            <a:ext cx="590760" cy="172800"/>
          </a:xfrm>
          <a:prstGeom prst="rightArrow">
            <a:avLst>
              <a:gd name="adj1" fmla="val 50000"/>
              <a:gd name="adj2" fmla="val 854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70720" y="4137120"/>
            <a:ext cx="1143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57 Condensed"/>
              </a:rPr>
              <a:t>Oil to 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14600" y="4197240"/>
          <a:ext cx="1146240" cy="1843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14600" y="4197240"/>
                    <a:ext cx="1146240" cy="184320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rot="5400000">
            <a:off x="2170800" y="4834440"/>
            <a:ext cx="176040" cy="517680"/>
          </a:xfrm>
          <a:prstGeom prst="downArrow">
            <a:avLst>
              <a:gd name="adj1" fmla="val 50000"/>
              <a:gd name="adj2" fmla="val 735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0556-8305-49F9-8DDE-AAB0BB13E7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06640" y="2901960"/>
          <a:ext cx="94608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2901960"/>
                    <a:ext cx="946080" cy="86040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477120" y="3044880"/>
            <a:ext cx="26668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Oil &amp; gas to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4160" y="1959120"/>
            <a:ext cx="1368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57 Condensed"/>
              </a:rPr>
              <a:t>Well efflu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41720" y="3241800"/>
            <a:ext cx="515880" cy="180720"/>
          </a:xfrm>
          <a:prstGeom prst="rightArrow">
            <a:avLst>
              <a:gd name="adj1" fmla="val 50000"/>
              <a:gd name="adj2" fmla="val 71365"/>
            </a:avLst>
          </a:prstGeom>
          <a:solidFill>
            <a:srgbClr val="d2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364760" y="2489040"/>
            <a:ext cx="449280" cy="195480"/>
          </a:xfrm>
          <a:prstGeom prst="rightArrow">
            <a:avLst>
              <a:gd name="adj1" fmla="val 50000"/>
              <a:gd name="adj2" fmla="val 57459"/>
            </a:avLst>
          </a:prstGeom>
          <a:solidFill>
            <a:srgbClr val="d2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rcRect l="5068" t="3623" r="5316" b="4831"/>
          <a:stretch/>
        </p:blipFill>
        <p:spPr>
          <a:xfrm>
            <a:off x="3481560" y="2197080"/>
            <a:ext cx="2184120" cy="2070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867280" y="3187800"/>
            <a:ext cx="515880" cy="180720"/>
          </a:xfrm>
          <a:prstGeom prst="rightArrow">
            <a:avLst>
              <a:gd name="adj1" fmla="val 50000"/>
              <a:gd name="adj2" fmla="val 71365"/>
            </a:avLst>
          </a:prstGeom>
          <a:solidFill>
            <a:srgbClr val="d2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VX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B462-478E-421D-9663-B8407E699E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Válvula de Fundo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56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ova válvula adquirida pela empres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tividad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urso sobre seu funcion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ste Ope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450200" y="1019160"/>
            <a:ext cx="1063440" cy="579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94360" y="5432400"/>
            <a:ext cx="213660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4CC8-6352-4475-A109-AA81F70C66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Dúvidas???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EF5F-1B19-4288-9BEA-CDC5E38F3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Índice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roduçã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Empresa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ividades Desenvolv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einament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gist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atal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T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XF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álvulas de fun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8A04-81AA-4682-B20A-69ACE3EFE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Tahoma"/>
              </a:rPr>
              <a:t>Introdução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7840" y="1218960"/>
            <a:ext cx="803736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Schlumberger Oilfield Servic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, na cidade de Macaé, R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Segmen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CP-T (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Well Completion and Productivity – Testing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), responsável pela realização de testes em poços já em produção ou estudos de viabilidade de novos poço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Área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: TDA (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Testing Data Acquisitio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), responsável pela aquisição de            dados do WCP-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Número de Hor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: 612 (4 me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F067-824F-4FA2-874C-F58254E4F4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A Empresa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íder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em serviço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a área de petróle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s de 50 mil funcionári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s de 100 paí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ita anual de cerca de $11,5 bilhões (200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 Brasil há 60 an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ncipal cliente no Brasil: Petrobr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D38C-DD13-427A-B6ED-9B02520765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Tahoma"/>
              </a:rPr>
              <a:t>Treinamento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818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einamento básico sobre o funcionamento da empresa, com bastante foco em seguranç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dicação diária de algumas horas para estudos sobre os produtos que o segmento ofere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einamentos On-l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einamento de movimentação de car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urso de operações de uma nova válvula de fu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BFC2-A4F8-45FE-8E99-FBC6BD6F1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Registradores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7480" y="1219320"/>
            <a:ext cx="5330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LSR (SlickLine Saphire Reco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TSR (Well Testing Saphire Reco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TQR (Well Testing Quartz Reco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CQG (Well T. Compensated Quartz Gaug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mi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20.000 p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Celsi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500.000 d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0,1 s (scanning ra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3963960"/>
            <a:ext cx="4015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tividad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pa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ste Ope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pgr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SLSR Tool Diagram"/>
          <p:cNvPicPr/>
          <p:nvPr/>
        </p:nvPicPr>
        <p:blipFill>
          <a:blip r:embed="rId1"/>
          <a:srcRect l="22379" t="7957" r="0" b="0"/>
          <a:stretch/>
        </p:blipFill>
        <p:spPr>
          <a:xfrm>
            <a:off x="7275600" y="1187280"/>
            <a:ext cx="1555560" cy="2951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C710-A515-4291-BBD2-16D76B074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DataLatch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0600" y="1219320"/>
            <a:ext cx="5538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 de aquisição em tempo real de dados de fundo de poç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ivida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nutençã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este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is complexo devido ao tamanho e peso dos instrum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quer uma bobina de 4km de cabo elétr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rfaces e computadores conec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960" y="1406520"/>
            <a:ext cx="242892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6A4D-4CEB-402F-BAFF-F808C5F3AA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STAN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4014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14840" y="1219320"/>
            <a:ext cx="4014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istema de aquisição de dados de superfície em tempo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tividad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libr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ste Ope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8234" r="0" b="0"/>
          <a:stretch/>
        </p:blipFill>
        <p:spPr>
          <a:xfrm>
            <a:off x="0" y="1103400"/>
            <a:ext cx="4522680" cy="5754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C7EA-2497-4E6C-B08F-B04B3D3D3F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47840" y="1219320"/>
            <a:ext cx="4014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enturi X-Ray Flow 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bstitui o separador conven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tiv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onte radio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ste Ope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libr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96640" y="0"/>
            <a:ext cx="88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0021"/>
                </a:solidFill>
                <a:latin typeface="Tahoma"/>
              </a:rPr>
              <a:t>VXFM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5068" t="3623" r="5316" b="4831"/>
          <a:stretch/>
        </p:blipFill>
        <p:spPr>
          <a:xfrm>
            <a:off x="6289560" y="2270160"/>
            <a:ext cx="2476440" cy="24764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1909-6216-435B-AB31-89F7D49E33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ábio Spezzano Toniolo</cp:lastModifiedBy>
  <dcterms:modified xsi:type="dcterms:W3CDTF">2006-07-31T19:21:05Z</dcterms:modified>
  <cp:revision>5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