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870F6-F151-46C4-A3C7-E96F7A326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28327-D38C-444E-AAA6-22534872A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197BA-7396-493B-8F48-CBA6EE896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2090C-BDBE-4DD7-9706-493E107E4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9A4B4-99CF-4585-96E3-5099A4C7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FC939-2A8A-4FEE-B011-9AC6C83C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EA7F7-1E5B-4EAF-AC06-B8B50C5E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EE89A-8CC6-42A8-AA71-36CA4019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AB76E-2C14-462A-8979-C33F91A3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8AF3B-8F2E-4C13-8DE2-DEB122F3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EB121-178A-477D-AC72-64D6DA3F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4B6DB-999C-4792-9A48-003C28E7C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2193C-8637-44B8-BAF6-13E21752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66FBB-3F58-40B7-8E19-87EC66A0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F40B4-07F8-4B77-8E21-F8105FD0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E0A0F-FCAF-4A5D-9EA1-7E0195C2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9D7E5-7682-4AC3-ABB3-AB99B6BB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F385F-AB43-4FDF-A375-BDE4284E9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D3939-34B2-4BE5-8E63-6CAB3D7E8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1BEF8-8E45-4BE8-BC6B-E3CBEA5F7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B9962-8006-4B10-B137-08317047B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69225-2AA8-4C1E-991B-BB5D38D30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D37E2-B43D-4E9C-BD4E-BE11D595B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AD308-0B28-4D87-AB66-3937CE6E3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AC72-A715-404E-A97C-C3A4C777FA8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D132-5CEF-43BD-860E-A59F257298B4}" type="datetime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9DED-15C3-41A9-8642-82EC1BA37F57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01280" y="2057040"/>
            <a:ext cx="7715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9900"/>
                </a:solidFill>
                <a:latin typeface="Arial Narrow"/>
              </a:rPr>
              <a:t>INTRODUÇÃO À ENOLOGIA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666880" y="396252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rotógenes Pires Por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EA0335-CB47-4879-9A3C-19DC4C37F86A}" type="datetime1">
              <a:rPr lang="en-US"/>
              <a:t>07/28/26</a:t>
            </a:fld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AÍSES PRODUTOR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2080" y="2437920"/>
            <a:ext cx="64166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ç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á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pan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trá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África do Su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s Unidos (Califórn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tinu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AÍSES PRODUTOR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9440" y="2895480"/>
            <a:ext cx="50245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é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ção Rus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eman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ugu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s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BEBER O VINH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2755800"/>
            <a:ext cx="6091200" cy="34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binação pra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ers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vin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egust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ensíl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i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mba de vácu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as in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0240" y="53352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OS MELHORES VINH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46280" y="2057040"/>
            <a:ext cx="73310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NÇ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manée-Conti (Borgonh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âteau Lafite-Rothschild (Bordeau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âteau Margaux (Bordeau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âteau Cheval Bla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á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olo (Piemonte - Nebbiol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baresco (Piemon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unello di Montalc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OS MELHORES VINH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61720" y="2574720"/>
            <a:ext cx="4948200" cy="382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ca Velha (Ferreirinh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nto da Ânf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á Partil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ia Pi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por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va da Ur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nta da Bacalh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OS MELHORES VINH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5760" y="2742840"/>
            <a:ext cx="641664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pan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ga-Sicí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quês do Ri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 Melchor (Concha y Tor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quês da Casa Concha (Concha y Tor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siño Macul (Antiguas Reserv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2320" y="1020600"/>
            <a:ext cx="8421480" cy="6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OS MELHORES VINH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ri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âteau Montche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ta Julia (Malbec-Cabernet Sauvign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s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a Valduga Seculum Cabernet Sauvignon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olo Reserva Cabernet Sauvignon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rora Varietal Reserva Cabernet Sauvign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vara Gran Reserva Cabernet Sauvign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co Luigi Cabernet Sauvignon 1999 Reserva da Famí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ERGUNTAS E RESPOSTA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FIM DA EXPOSIÇÃO ORAL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1000" y="3152520"/>
            <a:ext cx="8474040" cy="34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A DEGUSTAÇÃO DESSES DOIS BONS VINHOS CHILENOS DA VINÍCOLA CONCHA Y TO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DONN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ILLERO DEL DIABLO CABERNET SAUVIGN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0240" y="837720"/>
            <a:ext cx="842148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SUMÁRI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520" y="2133360"/>
            <a:ext cx="586728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ÊNCIA ADQUIRIDA NA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U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S VINH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S PAÍSES PRODU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BER O VINHO (degustaçã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S MELHORES VINH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GUNTAS E RESPOS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EXPERIÊNCIA NA </a:t>
            </a:r>
            <a:r>
              <a:rPr b="0" i="1" lang="en-US" sz="4000" spc="-1" strike="noStrike">
                <a:solidFill>
                  <a:srgbClr val="ffffff"/>
                </a:solidFill>
                <a:latin typeface="Arial Narrow"/>
              </a:rPr>
              <a:t>CAV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89548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fraria dos Amigos do Vinho e da Enolo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palest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raçã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qüência dos encont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colha dos te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a entre vinho e com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AS UVA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520" y="2895120"/>
            <a:ext cx="6777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êner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it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itis vinif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européia </a:t>
            </a: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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“vinhos finos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itis labrus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merica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itis rip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merica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itis aestival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america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íbridas (européias + american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VITIS VINIFERA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84360" y="2666880"/>
            <a:ext cx="603576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bernet Sauvign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not No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m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bbiolo (Barolo e Barbaresc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not Meun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giov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0" algn="r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continu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VITIS VINIFER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99840" y="3352320"/>
            <a:ext cx="6188040" cy="26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NTAS (continuaçã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quita (Castelão Francê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uriga N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nta Ror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froucheiro Pr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tar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VITIS VINIFERA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920" y="2514600"/>
            <a:ext cx="5943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N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donn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würztram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uvignon Bla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nin Bla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es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millon Blan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rrado das Mos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ruz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OS VINH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60320" y="2514600"/>
            <a:ext cx="6035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n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sê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pum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tific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AÍSES PRODUTOR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2803680"/>
            <a:ext cx="6014880" cy="306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tores que Determinam a Qual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itude (observar transparênc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vios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ol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nologia e Tradiçã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22:24:53Z</dcterms:created>
  <dc:creator>Andre Porto</dc:creator>
  <dc:description/>
  <dc:language>en-US</dc:language>
  <cp:lastModifiedBy>EDI</cp:lastModifiedBy>
  <dcterms:modified xsi:type="dcterms:W3CDTF">2003-10-17T10:59:15Z</dcterms:modified>
  <cp:revision>8</cp:revision>
  <dc:subject/>
  <dc:title>INTRODUÇÃO À ENOLOGIA</dc:title>
</cp:coreProperties>
</file>