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D2C-338A-4C60-BC9C-23E2B2CB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582-5C7C-46ED-ABBE-6E0D50AF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BBB-ACFB-45DA-894D-FB0D28F7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38E-2D36-4580-8CEA-0B703658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D163-9542-4600-8622-ACA1DF0C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3D8E-3D43-4057-BF32-94E3E920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341D-CEBB-4D44-8A1C-D9B3EB8E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8ED0-93E7-4ECC-8BF3-3A73427F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6342-CF29-47C1-ABA7-B2592E21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16AF-5709-4084-A68F-2230FAB3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ED93-F14E-4063-9FE7-11F7F36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E7F-70B2-4CEC-AF1E-AFF5D3B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B932-A1AD-44ED-9F7A-F9372D3F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2FB0-D72D-4905-8C9B-4CD39E0E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59CB-AE67-4DDC-B8C3-34FA6D1C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3D7F-3661-48AA-8DC1-DAACCB55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A1BE-9452-415B-BBA9-27D43FC4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62B-B1D9-4330-900E-197CC949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C3A-0BFB-4882-8364-593A46B0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C62-E244-458F-B2D1-3993EF2E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F4D-E131-4BD7-A708-EE68C15F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293-C490-4207-AF38-A7A0F64F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04D6-DB83-4A71-A861-F5912BE1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923-B4AF-46F5-9A83-A1994742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1C72-C0E1-4287-AC22-4444429C5E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804C-7030-4187-90C2-B45611284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8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6de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CF2B-7E94-4891-8730-C520CC76F8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4F41-C19E-4779-8604-70E539AA5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Arial"/>
              </a:rPr>
              <a:t>Instituto Tecnológico de Aeronáutica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visão de Engenharia Mecânica Aeronáu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partamento de Organ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9232-E1D0-4153-83E3-FEBB175CC1C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ADB5850-3D12-47CE-8188-C0278E9187E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preendimento de base tec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mário execu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 da indú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 estraté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duto ou servi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BT em aeroespaç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x-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rcado e con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rketing e ve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o financ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criçã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Plano de Negócio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B0B1-8D76-48EB-98C7-BC6F696EA32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B5394-4C94-4E28-9D08-F736D193E84E}" type="datetime1">
              <a:rPr lang="en-US"/>
              <a:t>07/28/26</a:t>
            </a:fld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ma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# máximo de 8 equ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discipl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dicação de ge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quip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são 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dencia-se nas apresen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integrante deverá estar apt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sen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mesma da análise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Plano de Negócio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3BF-D63D-4B5E-8C66-C9E3415B1C3B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7048C-99DC-4CFA-BD5D-51886F4D74BF}" type="datetime1">
              <a:rPr lang="en-US"/>
              <a:t>07/28/26</a:t>
            </a:fld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ordenação do processo ensino-aprendiz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ção da apreensão de modelos teór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valiação da qualidad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cesso de 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u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-respons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ticipação efetiva no pro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sino-aprendiz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ção dos trabalhos previ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ibu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Dinâmica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CF8-C5F3-468B-BE15-B22C159F7B07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DD5E9-408F-4F27-8B98-CBB1FE16F0F4}" type="datetime1">
              <a:rPr lang="en-US"/>
              <a:t>07/28/26</a:t>
            </a:fld>
          </a:p>
        </p:txBody>
      </p:sp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cesso: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duta, a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tura, contribu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sidu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ática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ciplina conscient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sen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lano de negó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nálise 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nente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duto: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vas bimest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atórios par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N, 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sentação final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lano de negó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produto ou serviço que serão comercia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Avaliação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6CF-C141-4E5A-9716-92D44C832EA0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26ACB-7500-481E-AA2E-30757E86243D}" type="datetime1">
              <a:rPr lang="en-US"/>
              <a:t>07/28/26</a:t>
            </a:fld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Programação de Aula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eiro bi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3429000"/>
            <a:ext cx="156240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5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histórico 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dminist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3429000"/>
            <a:ext cx="156204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Aula 2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- Constituiçã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equi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90840" y="2590920"/>
            <a:ext cx="156204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3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- G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rganiz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90840" y="342900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2590920"/>
            <a:ext cx="15624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4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- Evol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dminist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2590920"/>
            <a:ext cx="156204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present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iscip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15280" y="2590920"/>
            <a:ext cx="156204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6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- Introdução a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empreendedor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5280" y="342900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- Discussões so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DIP’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334120"/>
            <a:ext cx="156240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1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l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5334120"/>
            <a:ext cx="156204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8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- 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endê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relev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90840" y="4495680"/>
            <a:ext cx="15620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9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I - O Pro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Empreende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0840" y="533412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- P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Apresentaçõe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DIP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495680"/>
            <a:ext cx="156240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0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l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495680"/>
            <a:ext cx="156204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7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3-O Amb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15280" y="4495680"/>
            <a:ext cx="15620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2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4. O pro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ecisó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5280" y="533412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decis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mpor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2590920"/>
            <a:ext cx="312444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590920"/>
            <a:ext cx="312408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495680"/>
            <a:ext cx="3124440" cy="1676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4495680"/>
            <a:ext cx="3124080" cy="1676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59F6-A0CE-4862-855E-D84BB1574B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D4DCF-6535-4685-8BC2-CF059253B58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Programação de Aula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eiro bi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3429000"/>
            <a:ext cx="156240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7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l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3429000"/>
            <a:ext cx="156204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14/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- 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lano Smith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90840" y="2590920"/>
            <a:ext cx="156204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5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II - Identific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de oportun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90840" y="342900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- P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passagem PD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2590920"/>
            <a:ext cx="15624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6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 Pal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2590920"/>
            <a:ext cx="156204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3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5-Planej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15280" y="2590920"/>
            <a:ext cx="156204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8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V- O Plan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negó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15280" y="342900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- P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passagem PD #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334120"/>
            <a:ext cx="156240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Aula 23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Resultados 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análises da indú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tria e 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5334120"/>
            <a:ext cx="156204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20/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- 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asos so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ética em negó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90840" y="4495680"/>
            <a:ext cx="15620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21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V - Análise 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ndúst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90840" y="533412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4495680"/>
            <a:ext cx="156240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22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VI  - Anál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4495680"/>
            <a:ext cx="156204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19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6- Ética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Responsa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rpo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15280" y="4495680"/>
            <a:ext cx="15620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24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- Pr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15280" y="533412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2590920"/>
            <a:ext cx="312408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2590920"/>
            <a:ext cx="312444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4495680"/>
            <a:ext cx="3124440" cy="1676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4495680"/>
            <a:ext cx="3124080" cy="1676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9C7-9623-47B4-8F1B-626255C8B3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98BFC-09D9-4761-B968-3EE780973EB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Programação de Aula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ndo bi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52880" y="3429000"/>
            <a:ext cx="156240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29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- 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odelo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stru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3429000"/>
            <a:ext cx="156204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26/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- 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asos so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egócios globa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90840" y="2590920"/>
            <a:ext cx="156204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27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VII- Produto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serviç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90840" y="342900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2590920"/>
            <a:ext cx="15624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28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8- Estru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rganizacion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2590920"/>
            <a:ext cx="156204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25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7-Gest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15280" y="2590920"/>
            <a:ext cx="156204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30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 Pal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15280" y="342900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5334120"/>
            <a:ext cx="156240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35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elh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mpre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5334120"/>
            <a:ext cx="156204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32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90840" y="4495680"/>
            <a:ext cx="15620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Aula 33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VIII -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e concor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90840" y="533412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495680"/>
            <a:ext cx="156240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34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0- Gestã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Pesso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4495680"/>
            <a:ext cx="156204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31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9- Organiz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áge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15280" y="4495680"/>
            <a:ext cx="15620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36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X - Marketing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ven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15280" y="533412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2590920"/>
            <a:ext cx="312444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2590920"/>
            <a:ext cx="312408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4495680"/>
            <a:ext cx="3124080" cy="1676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4495680"/>
            <a:ext cx="3124440" cy="1676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8AE-77B2-4320-B950-2171BA6163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6416F-6CA7-4979-BB5C-C626BB5A98C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Programação de Aula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ndo bi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429000"/>
            <a:ext cx="156240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41/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- Apresentaç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aso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lideranç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8800" y="3429000"/>
            <a:ext cx="156204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38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- 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importância 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iversia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90840" y="2590920"/>
            <a:ext cx="156204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39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X - Anál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financ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0840" y="342900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2590920"/>
            <a:ext cx="156240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40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2 - Lideranç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590920"/>
            <a:ext cx="156204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37/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1- Gestã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ivers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15280" y="2590920"/>
            <a:ext cx="156204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42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XI - Estrutura 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15280" y="342900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5334120"/>
            <a:ext cx="156240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47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 Apresent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e A.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334120"/>
            <a:ext cx="156204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la 44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- Apresenta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quip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90840" y="4495680"/>
            <a:ext cx="15620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45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XII - Consu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ex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90840" y="533412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4495680"/>
            <a:ext cx="156240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46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Times New Roman"/>
              </a:rPr>
              <a:t>- Pro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4495680"/>
            <a:ext cx="1562040" cy="838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43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3 - 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15280" y="4495680"/>
            <a:ext cx="15620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48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PN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15280" y="533412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28800" y="2590920"/>
            <a:ext cx="312408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590920"/>
            <a:ext cx="312444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4495680"/>
            <a:ext cx="3124080" cy="1676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495680"/>
            <a:ext cx="3124440" cy="1676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998C-CEEA-46FE-BCEB-72F7B42F55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916AA-C7BD-4ECF-84F8-C44BDEE56C1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Programação de Aula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ndo bi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3429000"/>
            <a:ext cx="1562040" cy="838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90840" y="2590920"/>
            <a:ext cx="156204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90840" y="3429000"/>
            <a:ext cx="156204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2590920"/>
            <a:ext cx="1562040" cy="8380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ula 49/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Ex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apresentação PN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28800" y="2590920"/>
            <a:ext cx="312408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410080" y="3809880"/>
            <a:ext cx="3108600" cy="23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977-B06A-4785-9848-81A5314878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83009-2F33-47B1-8E97-DC0DFAB08647}" type="datetime1">
              <a:rPr lang="en-US"/>
              <a:t>07/28/26</a:t>
            </a:fld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Referências Bibliográfica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ateman, Thomas S.; Snell, Scott. A  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dministração: Construindo Vantagem Competitiv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.São Paulo: Atlas, 19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rucker, Peter F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Introdução à Administraç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 São Paulo: Pioneira Thomson Learning, 20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710-26BD-47D6-93DE-F6C62AE394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E74D1-0A2A-4A51-BFD8-5AE326F9B4A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666633"/>
                </a:solidFill>
                <a:latin typeface="Arial"/>
              </a:rPr>
              <a:t>Administração em Engenharia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presentação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iscip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E5F5-7F4E-4935-BF91-3FBFF99F79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BE3F313-F6FB-4604-B8B5-9AF984B0A54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Referências Bibliográfica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ierce, Jon L.; Newstrom, John W. Newstrom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 Estante do Administrador: uma coletânea de leituras obrigatóri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 Porto Alegre: Bookman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rucker, Peter F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Innovation and Entrepreneurship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USA: Harper Perennial, 198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A2B-3138-4731-BB54-3993DD755C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7A711-7BA4-4369-8175-2EA92601FF7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Referências Bibliográfica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rnelas, José Carlos Assis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Empreendedorismo: transformando idéias em negóci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 Rio de Janeiro: Campus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pector, Robert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mazon.com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Rio de Janeiro: Campus, 20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7D8-67D1-4ADE-AA05-8A798836EC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58AAC-AC58-4C51-A1B6-24A493C6CA8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Referências Bibliográfica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later, Robert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Guia Prático do Estilo Jack Welch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Paulo: Negócio Editora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arr, Doug.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IBM Redux: Lou Gerstner &amp;The Business Turnaround of the Decade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: Haper Business, 199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570-EE94-4531-B1FE-45BF438262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3BDFF-CEBF-4E00-AD75-29CB4FD606C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sent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rd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da 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álise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 de negó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ópic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nâ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 de a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ferências bibliográ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Administração em Engenharia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D0C-DFBE-4441-9184-8D2A7D20BA32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24FF5-1662-4AD2-BD67-EBDF12E2649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sent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rd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da 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álise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 de negóc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ópic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nâ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 de a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ferências bibliográ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Administração em Engenharia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1C1-D05B-440E-B8E7-6E40BA1CCD1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A1026-CB12-400E-8E5B-9BFF224E827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f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ami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genheiro de Eletrô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.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in Science, Technology and Public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George Washington University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W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‘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utor em 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ejamento Estratégico de TI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squisador Titul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o C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sde 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 do I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desde 1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miani@ita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Apresentaçõe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00D-52B5-4513-99BD-7F801A95E53C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A9004-A038-4EE9-BA65-5847FC5AA7CF}" type="datetime1">
              <a:rPr lang="en-US"/>
              <a:t>07/28/26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Apresentaçõe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u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iss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ectativas sobre a 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542-6611-42F7-B545-22AA0445F8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BC478-57DD-4EDF-A337-3C14EC2C00C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ver 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uturos engenheir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um entendimento básico a respeit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áticas 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dminist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preendedo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7F2-290F-4904-B296-81EA1323E3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B498A-CD5F-4C75-B24F-9B6088CE69D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s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fiss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necer subsídios para o exercíci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unções ger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der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 específic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pí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pre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bilidades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o em equip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AA5-45FE-4AC3-BC2F-4726545063D2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FF772-34B1-4FD6-A0E2-445A0F81EBE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oria Geral da Administ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d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ejamento e e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der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preendedo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co: elaboraç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 de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teúdo de cada aula será distribuído antecipadamente aos gru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grupos apresentarão em classe os resultados da aplicação da metodolo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Estrutura da Disciplina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DB0-D856-4514-A6BB-A68822353819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75B03-AAA3-4432-B2E3-7B6EE2A1D7D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do setor aeroespacial ou relacio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presas cent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presas de cadeias industr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rtic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orizo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ões de su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ganizações orientadas à colabo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3540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00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rutura do produt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atório que consolida as análises parciais produzidas em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produzido de acordo com as normas aplicáveis produzidas pela Biblioteca Central do 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á entregue em conjunto com o Plano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6633"/>
                </a:solidFill>
                <a:latin typeface="Times New Roman"/>
              </a:rPr>
              <a:t>Análise Organizacional</a:t>
            </a:r>
            <a:endParaRPr b="0" lang="en-US" sz="4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HS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EF7-615D-4338-8FBE-5931DC50A35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9E438-1268-4C31-A57E-41014D7CC1D1}" type="datetime1">
              <a:rPr lang="en-US"/>
              <a:t>07/28/26</a:t>
            </a:fld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9T13:01:22Z</dcterms:created>
  <dc:creator>Jose Henrique de Sousa Damiani</dc:creator>
  <dc:description/>
  <dc:language>en-US</dc:language>
  <cp:lastModifiedBy>Damiani</cp:lastModifiedBy>
  <dcterms:modified xsi:type="dcterms:W3CDTF">2007-03-22T16:03:53Z</dcterms:modified>
  <cp:revision>74</cp:revision>
  <dc:subject>Ap;resentação da disciplina</dc:subject>
  <dc:title>Administração em Engenharia</dc:title>
</cp:coreProperties>
</file>