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260280"/>
            <a:ext cx="1219320" cy="45900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rId3" action="ppaction://hlinksldjump"/>
          </p:cNvPr>
          <p:cNvSpPr/>
          <p:nvPr/>
        </p:nvSpPr>
        <p:spPr>
          <a:xfrm rot="16200000">
            <a:off x="-1703880" y="345816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66"/>
                </a:solidFill>
                <a:latin typeface="Arial Narrow"/>
              </a:rPr>
              <a:t>EDI-33  Materiais e Processos Constru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" Target="slide5.xml"/><Relationship Id="rId4" Type="http://schemas.openxmlformats.org/officeDocument/2006/relationships/slide" Target="slide2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2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28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28.xml"/><Relationship Id="rId16" Type="http://schemas.openxmlformats.org/officeDocument/2006/relationships/slide" Target="slide28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28.xml"/><Relationship Id="rId23" Type="http://schemas.openxmlformats.org/officeDocument/2006/relationships/slide" Target="slide28.xml"/><Relationship Id="rId24" Type="http://schemas.openxmlformats.org/officeDocument/2006/relationships/slide" Target="slide18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93840"/>
            <a:ext cx="2743200" cy="103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5335560"/>
            <a:ext cx="547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Frank Cabral de Freitas Amaral – 1</a:t>
            </a: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º Ten.-Eng.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Instr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03400" y="1689120"/>
            <a:ext cx="6781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EDI-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Materiais e Processos Construtivos</a:t>
            </a:r>
            <a:r>
              <a:rPr b="1" i="1" lang="pt-BR" sz="2000" spc="-1" strike="noStrike">
                <a:solidFill>
                  <a:srgbClr val="ffffcc"/>
                </a:solidFill>
                <a:latin typeface="Americana XB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6381720"/>
            <a:ext cx="1523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mericana XBd BT"/>
              </a:rPr>
              <a:t>Abril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33040" y="3691080"/>
            <a:ext cx="3753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mericana XBd BT"/>
              </a:rPr>
              <a:t>Batalha Nav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440"/>
            <a:ext cx="22860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Defina ferrita e cementi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Defina perlita e austeni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Em que consiste o tratamento de decapagem? Pra que ser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diferença entre fadiga e relaxação do aç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Na prática, como um engenheiro pode identificar se a armadura do concreto está em processo avançado de corrosã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Explique a afirmativa: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O concreto confere proteção física e química ao aç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concreto protendido? Cite 1 vantagem e 1 desvantagem do uso dele em relação ao concreto armado convencion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profilaxi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ite 2 propriedades físicas e 2 propriedades mecânicas do aç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coqu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9800" y="42372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Reg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1341360"/>
            <a:ext cx="6696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Divisão e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Americana XBd BT"/>
              </a:rPr>
              <a:t>dup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ode repassar ou resp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Se respon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certo: ganha 2 po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rro ou pulo: perde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Se repass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Grupo repassado responder certo: este ganha 1 ponto e o que repassou perde 2 po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Grupo repassado responder errado: o que repassou ganha apenas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sín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Resuma o processo de fabricação de chapas de aço numa usina siderúrgica, desde o recebimento das matérias-pri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ite 4 desvantagens em se utilizar estruturas metálic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is os 2 tratamentos iniciais aos quais o aço é submetido na siderúrgi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pós os 2 tratamentos iniciais, quais os 4 tratamentos a que o aço pode ser submetido na siderúrgi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omo se define a dureza de um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om base no diagrama de Pourbaix, em que situação haverá fatalmente a corrosão do aç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diferença entre o aço de dureza natural e o aço encruado a frio em termos do patamar de escoamen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47640" y="0"/>
          <a:ext cx="7596360" cy="6858000"/>
        </p:xfrm>
        <a:graphic>
          <a:graphicData uri="http://schemas.openxmlformats.org/drawingml/2006/table">
            <a:tbl>
              <a:tblPr/>
              <a:tblGrid>
                <a:gridCol w="1086120"/>
                <a:gridCol w="1084320"/>
                <a:gridCol w="1085760"/>
                <a:gridCol w="1084320"/>
                <a:gridCol w="1085760"/>
                <a:gridCol w="1084320"/>
                <a:gridCol w="1085760"/>
              </a:tblGrid>
              <a:tr h="97956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100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136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100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7776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7956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 u="sng">
                          <a:solidFill>
                            <a:srgbClr val="ff9933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ço mole é o aço suscetível à mudança de comportamento quando do aumento de temperatura além da zona crítica? (Exemplo do World Trade Cent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diferença entre ductilidade e maleabilida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ite 4 vantagens em se utilizar estruturas metálic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e problema posso ter ao usar aço encruado a frio num edifício residenci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No que consiste o tratamento chamado estabilização, ao qual o aço pode ser submeti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No que consiste o tratamento chamado alívio de tensões, ao qual o aço pode ser submeti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9:59:38Z</dcterms:created>
  <dc:creator>Ten Frank </dc:creator>
  <dc:description/>
  <dc:language>en-US</dc:language>
  <cp:lastModifiedBy>Frank Amaral</cp:lastModifiedBy>
  <dcterms:modified xsi:type="dcterms:W3CDTF">2006-04-26T12:56:40Z</dcterms:modified>
  <cp:revision>607</cp:revision>
  <dc:subject/>
  <dc:title>Concre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7301277</vt:r8>
  </property>
  <property fmtid="{D5CDD505-2E9C-101B-9397-08002B2CF9AE}" pid="3" name="_AuthorEmail">
    <vt:lpwstr>pcaterine@terra.com.br</vt:lpwstr>
  </property>
  <property fmtid="{D5CDD505-2E9C-101B-9397-08002B2CF9AE}" pid="4" name="_AuthorEmailDisplayName">
    <vt:lpwstr>Priscila</vt:lpwstr>
  </property>
  <property fmtid="{D5CDD505-2E9C-101B-9397-08002B2CF9AE}" pid="5" name="_EmailSubject">
    <vt:lpwstr>material - agregados</vt:lpwstr>
  </property>
  <property fmtid="{D5CDD505-2E9C-101B-9397-08002B2CF9AE}" pid="6" name="_ReviewingToolsShownOnce">
    <vt:lpwstr/>
  </property>
</Properties>
</file>