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260280"/>
            <a:ext cx="1219320" cy="459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6200000">
            <a:off x="-1703880" y="345816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66"/>
                </a:solidFill>
                <a:latin typeface="Arial Narrow"/>
              </a:rPr>
              <a:t>EDI-33  Materiais e Processos Constru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wmf"/><Relationship Id="rId3" Type="http://schemas.openxmlformats.org/officeDocument/2006/relationships/slide" Target="slide15.xml"/><Relationship Id="rId4" Type="http://schemas.openxmlformats.org/officeDocument/2006/relationships/image" Target="../media/image2.wmf"/><Relationship Id="rId5" Type="http://schemas.openxmlformats.org/officeDocument/2006/relationships/slide" Target="slide24.xml"/><Relationship Id="rId6" Type="http://schemas.openxmlformats.org/officeDocument/2006/relationships/image" Target="../media/image2.wmf"/><Relationship Id="rId7" Type="http://schemas.openxmlformats.org/officeDocument/2006/relationships/slide" Target="slide11.xml"/><Relationship Id="rId8" Type="http://schemas.openxmlformats.org/officeDocument/2006/relationships/image" Target="../media/image2.wmf"/><Relationship Id="rId9" Type="http://schemas.openxmlformats.org/officeDocument/2006/relationships/slide" Target="slide13.xml"/><Relationship Id="rId10" Type="http://schemas.openxmlformats.org/officeDocument/2006/relationships/image" Target="../media/image2.wmf"/><Relationship Id="rId11" Type="http://schemas.openxmlformats.org/officeDocument/2006/relationships/slide" Target="slide18.xml"/><Relationship Id="rId12" Type="http://schemas.openxmlformats.org/officeDocument/2006/relationships/image" Target="../media/image2.wmf"/><Relationship Id="rId13" Type="http://schemas.openxmlformats.org/officeDocument/2006/relationships/slide" Target="slide23.xml"/><Relationship Id="rId14" Type="http://schemas.openxmlformats.org/officeDocument/2006/relationships/image" Target="../media/image2.wmf"/><Relationship Id="rId15" Type="http://schemas.openxmlformats.org/officeDocument/2006/relationships/slide" Target="slide14.xml"/><Relationship Id="rId16" Type="http://schemas.openxmlformats.org/officeDocument/2006/relationships/image" Target="../media/image2.wmf"/><Relationship Id="rId17" Type="http://schemas.openxmlformats.org/officeDocument/2006/relationships/slide" Target="slide19.xml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slide" Target="slide9.xml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slide" Target="slide16.xml"/><Relationship Id="rId24" Type="http://schemas.openxmlformats.org/officeDocument/2006/relationships/image" Target="../media/image2.wmf"/><Relationship Id="rId25" Type="http://schemas.openxmlformats.org/officeDocument/2006/relationships/slide" Target="slide21.xml"/><Relationship Id="rId26" Type="http://schemas.openxmlformats.org/officeDocument/2006/relationships/image" Target="../media/image2.wmf"/><Relationship Id="rId27" Type="http://schemas.openxmlformats.org/officeDocument/2006/relationships/slide" Target="slide10.xml"/><Relationship Id="rId28" Type="http://schemas.openxmlformats.org/officeDocument/2006/relationships/image" Target="../media/image2.wmf"/><Relationship Id="rId29" Type="http://schemas.openxmlformats.org/officeDocument/2006/relationships/slide" Target="slide12.xml"/><Relationship Id="rId30" Type="http://schemas.openxmlformats.org/officeDocument/2006/relationships/image" Target="../media/image2.wmf"/><Relationship Id="rId31" Type="http://schemas.openxmlformats.org/officeDocument/2006/relationships/slide" Target="slide17.xml"/><Relationship Id="rId32" Type="http://schemas.openxmlformats.org/officeDocument/2006/relationships/image" Target="../media/image2.wmf"/><Relationship Id="rId33" Type="http://schemas.openxmlformats.org/officeDocument/2006/relationships/slide" Target="slide22.xml"/><Relationship Id="rId34" Type="http://schemas.openxmlformats.org/officeDocument/2006/relationships/image" Target="../media/image2.wmf"/><Relationship Id="rId35" Type="http://schemas.openxmlformats.org/officeDocument/2006/relationships/image" Target="../media/image2.wmf"/><Relationship Id="rId36" Type="http://schemas.openxmlformats.org/officeDocument/2006/relationships/image" Target="../media/image2.wmf"/><Relationship Id="rId37" Type="http://schemas.openxmlformats.org/officeDocument/2006/relationships/image" Target="../media/image2.wmf"/><Relationship Id="rId38" Type="http://schemas.openxmlformats.org/officeDocument/2006/relationships/image" Target="../media/image2.wmf"/><Relationship Id="rId39" Type="http://schemas.openxmlformats.org/officeDocument/2006/relationships/image" Target="../media/image2.wmf"/><Relationship Id="rId40" Type="http://schemas.openxmlformats.org/officeDocument/2006/relationships/image" Target="../media/image2.wmf"/><Relationship Id="rId41" Type="http://schemas.openxmlformats.org/officeDocument/2006/relationships/image" Target="../media/image2.wmf"/><Relationship Id="rId4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1268280"/>
            <a:ext cx="7201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Cabeçalho: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Logotipo da Divi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Disciplina / Instru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Equ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Data de entre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Objetivo (o quê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Introdução (por quê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plicação (pra quê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Referências atuais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(como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parelhagem: conf. Norma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Procedimento: conf. Norma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Cálculos 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Conclus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333360"/>
            <a:ext cx="54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66"/>
                </a:solidFill>
                <a:latin typeface="Times New Roman"/>
              </a:rPr>
              <a:t>Esclarecimento: Relató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47640" y="1195560"/>
            <a:ext cx="75963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a principal propriedade do concreto fresc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or que o corpo de prova rompido na prensa durante a visita à concreteira teve sua superfície retificada? Que procedimentos, previstos em norma, substituem o realizado al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47640" y="1195560"/>
            <a:ext cx="7596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Cite 3 problemas que o excesso de água traz para o concre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47640" y="1195560"/>
            <a:ext cx="7596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a diferença entre ar incorporado e ar aprisionad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que é segregação, por que ocorre e como evit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47640" y="1195560"/>
            <a:ext cx="7596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ntas camadas e quantos golpes por camada são dados no ensaio de abatimento do tronco de cone do concreto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47640" y="1195560"/>
            <a:ext cx="7596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a crítica a ensaios como o slump e ensaios de resistência à compressão vistos na visita à concreteir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que é exsudação, por que ocorre e como evit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is os objetivos da cura do concre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que se obtém da mistura de calcário e argila a altas temperatur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63640" y="1268280"/>
            <a:ext cx="7201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Organização (seguir roteir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Padronização (trabalho em grup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notação de dados (laborató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Texto (técn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Falt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referências (pesqui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gráfico granulome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módulo de fin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calibração do spee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Exces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parelh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proced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333360"/>
            <a:ext cx="54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66"/>
                </a:solidFill>
                <a:latin typeface="Times New Roman"/>
              </a:rPr>
              <a:t>Esclarecimento: Relató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is os objetivos da cura do concre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o nome que se dá ao sulfato de cálcio di-hidratado ( CaSO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3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pt-BR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o único composto solúvel produto das reações de hidratação do cimen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or que se adiciona gesso na produção de cimen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is os 4 compostos anidros do cimento? (fórmulas simplificado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l o aditivo usado na usina de concreto visitada e porque era usad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O que acontece se eu usar aditivo superplastificante em excesso no meu concre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4917960" cy="561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4917960" cy="561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3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4917960" cy="561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3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3640" y="1484280"/>
            <a:ext cx="7201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indent="289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Exercício sobre aglomer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prazo: 03 / abr /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0352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Relatório da visita à usina de concr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prazo: 10 / abr /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Visita à Feicon – </a:t>
            </a:r>
            <a:r>
              <a:rPr b="0" i="1" lang="pt-BR" sz="2400" spc="-1" strike="noStrike">
                <a:solidFill>
                  <a:srgbClr val="ffffff"/>
                </a:solidFill>
                <a:latin typeface="Americana XBd BT"/>
              </a:rPr>
              <a:t>confirmação de horário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data: 06 / abr /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289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Sorteio dos liv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333360"/>
            <a:ext cx="45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66"/>
                </a:solidFill>
                <a:latin typeface="Times New Roman"/>
              </a:rPr>
              <a:t>Atividades penden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4917960" cy="561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3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4917960" cy="561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13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4917960" cy="561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32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4917960" cy="561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3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1280" y="260280"/>
            <a:ext cx="68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66"/>
                </a:solidFill>
                <a:latin typeface="Times New Roman"/>
              </a:rPr>
              <a:t>Relatório: visita à Tupi Concre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1125360"/>
            <a:ext cx="7343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indent="289080" algn="just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Objetivo ( o quê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89080" algn="just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trodução ( por quê ) – “motivação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89080" algn="just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plicação ( pra quê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89080" algn="just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ocedimento ( como ) – “subdivisão da visita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89080" algn="just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sultados da vis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oces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286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squema do processo de fabricação, alimentação de sil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286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olume de produção, capacidade nomi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286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tc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trole de qualidade dos insumos (cimento, agregados, águ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286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Uso de adi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286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saios realizados (norm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286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tc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89080" algn="just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clus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Observações e crít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32000" y="393840"/>
            <a:ext cx="2743200" cy="103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63640" y="5335560"/>
            <a:ext cx="54723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Frank Cabral de Freitas Amaral – 1</a:t>
            </a:r>
            <a:r>
              <a:rPr b="1" lang="pt-BR" sz="1400" spc="-1" strike="noStrike">
                <a:solidFill>
                  <a:srgbClr val="ffffcc"/>
                </a:solidFill>
                <a:latin typeface="Arial"/>
              </a:rPr>
              <a:t>º Ten.-Eng.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cc"/>
                </a:solidFill>
                <a:latin typeface="Arial"/>
              </a:rPr>
              <a:t>Instr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03400" y="1689120"/>
            <a:ext cx="6781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mericana XBd BT"/>
              </a:rPr>
              <a:t>EDI-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mericana XBd BT"/>
              </a:rPr>
              <a:t>Materiais e Processos Construtivos</a:t>
            </a:r>
            <a:r>
              <a:rPr b="1" i="1" lang="pt-BR" sz="2000" spc="-1" strike="noStrike">
                <a:solidFill>
                  <a:srgbClr val="ffffcc"/>
                </a:solidFill>
                <a:latin typeface="Americana XBd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6381720"/>
            <a:ext cx="1523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Americana XBd BT"/>
              </a:rPr>
              <a:t>Março/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33040" y="3691080"/>
            <a:ext cx="37530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ff"/>
                </a:solidFill>
                <a:latin typeface="Americana XBd BT"/>
              </a:rPr>
              <a:t>Batalha Nava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1440"/>
            <a:ext cx="228600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9800" y="42372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66"/>
                </a:solidFill>
                <a:latin typeface="Times New Roman"/>
              </a:rPr>
              <a:t>Reg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1590840"/>
            <a:ext cx="669636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Grupos de 3 alu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Pode repassar ou resp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certo, ganha 1 po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Erro ou pulo, perde 1 po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Se o grupo que recebeu responder certo, o que repassou perde 1 po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Se o grupo que recebeu responder errado, o que repassou ganha 1 po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47640" y="549360"/>
          <a:ext cx="7561440" cy="5832360"/>
        </p:xfrm>
        <a:graphic>
          <a:graphicData uri="http://schemas.openxmlformats.org/drawingml/2006/table">
            <a:tbl>
              <a:tblPr/>
              <a:tblGrid>
                <a:gridCol w="1202040"/>
                <a:gridCol w="1269720"/>
                <a:gridCol w="1274760"/>
                <a:gridCol w="1271880"/>
                <a:gridCol w="1269720"/>
                <a:gridCol w="1273320"/>
              </a:tblGrid>
              <a:tr h="97308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7308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6984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7308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7164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59280" y="4508640"/>
            <a:ext cx="730080" cy="78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59280" y="357336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256536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04000" y="1628640"/>
            <a:ext cx="730440" cy="785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101080" y="162864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13720" y="357336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13720" y="4508640"/>
            <a:ext cx="730080" cy="785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10440" y="2565360"/>
            <a:ext cx="73044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110440" y="3573360"/>
            <a:ext cx="73044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8110440" y="4508640"/>
            <a:ext cx="730440" cy="78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8101080" y="551664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2"/>
          <a:stretch/>
        </p:blipFill>
        <p:spPr>
          <a:xfrm>
            <a:off x="5580000" y="4508640"/>
            <a:ext cx="730440" cy="785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4294080" y="3573360"/>
            <a:ext cx="730440" cy="785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059280" y="551664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5580000" y="1628640"/>
            <a:ext cx="730440" cy="785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4284720" y="256536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589720" y="357336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5580000" y="5516640"/>
            <a:ext cx="73044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5"/>
          <a:stretch/>
        </p:blipFill>
        <p:spPr>
          <a:xfrm>
            <a:off x="6877080" y="256536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6"/>
          <a:stretch/>
        </p:blipFill>
        <p:spPr>
          <a:xfrm>
            <a:off x="6877080" y="551664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7"/>
          <a:stretch/>
        </p:blipFill>
        <p:spPr>
          <a:xfrm>
            <a:off x="5580000" y="2565360"/>
            <a:ext cx="7304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8"/>
          <a:stretch/>
        </p:blipFill>
        <p:spPr>
          <a:xfrm>
            <a:off x="4284720" y="4508640"/>
            <a:ext cx="730080" cy="78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9"/>
          <a:stretch/>
        </p:blipFill>
        <p:spPr>
          <a:xfrm>
            <a:off x="4284720" y="162864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0"/>
          <a:stretch/>
        </p:blipFill>
        <p:spPr>
          <a:xfrm>
            <a:off x="4284720" y="5516640"/>
            <a:ext cx="730080" cy="785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1"/>
          <a:stretch/>
        </p:blipFill>
        <p:spPr>
          <a:xfrm>
            <a:off x="3059280" y="1628640"/>
            <a:ext cx="73008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47640" y="1195560"/>
            <a:ext cx="7596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Quantas viagens de um caminhão de 10 m</a:t>
            </a:r>
            <a:r>
              <a:rPr b="0" lang="pt-BR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 eu preciso fazer para atender um pedido de 300 ton de brita com massa unitária igual 1,500 kg / dm</a:t>
            </a:r>
            <a:r>
              <a:rPr b="0" lang="pt-BR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47640" y="1195560"/>
            <a:ext cx="7596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Pergun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Como proceder para fazer uma calibração de speed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9:59:38Z</dcterms:created>
  <dc:creator>Ten Frank </dc:creator>
  <dc:description/>
  <dc:language>en-US</dc:language>
  <cp:lastModifiedBy>Administrador</cp:lastModifiedBy>
  <dcterms:modified xsi:type="dcterms:W3CDTF">2006-04-03T21:23:15Z</dcterms:modified>
  <cp:revision>584</cp:revision>
  <dc:subject/>
  <dc:title>Concre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27301277</vt:r8>
  </property>
  <property fmtid="{D5CDD505-2E9C-101B-9397-08002B2CF9AE}" pid="3" name="_AuthorEmail">
    <vt:lpwstr>pcaterine@terra.com.br</vt:lpwstr>
  </property>
  <property fmtid="{D5CDD505-2E9C-101B-9397-08002B2CF9AE}" pid="4" name="_AuthorEmailDisplayName">
    <vt:lpwstr>Priscila</vt:lpwstr>
  </property>
  <property fmtid="{D5CDD505-2E9C-101B-9397-08002B2CF9AE}" pid="5" name="_EmailSubject">
    <vt:lpwstr>material - agregados</vt:lpwstr>
  </property>
  <property fmtid="{D5CDD505-2E9C-101B-9397-08002B2CF9AE}" pid="6" name="_ReviewingToolsShownOnce">
    <vt:lpwstr/>
  </property>
</Properties>
</file>