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523880" cy="6858000"/>
          </a:xfrm>
          <a:prstGeom prst="rect">
            <a:avLst/>
          </a:prstGeom>
          <a:gradFill rotWithShape="0">
            <a:gsLst>
              <a:gs pos="0">
                <a:srgbClr val="5e1700"/>
              </a:gs>
              <a:gs pos="50000">
                <a:srgbClr val="cc3300"/>
              </a:gs>
              <a:gs pos="100000">
                <a:srgbClr val="5e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73000" y="640728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B37F-E6DC-431E-86E7-68D2E17BEFFB}" type="slidenum"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260280"/>
            <a:ext cx="1219320" cy="459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rot="16200000">
            <a:off x="-1568160" y="3321000"/>
            <a:ext cx="4724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66"/>
                </a:solidFill>
                <a:latin typeface="Arial Narrow"/>
              </a:rPr>
              <a:t>EDI-33  Materiais e Processos Constru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66"/>
                </a:solidFill>
                <a:latin typeface="Arial Narrow"/>
              </a:rPr>
              <a:t>AGLOMER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32000" y="393840"/>
            <a:ext cx="2743200" cy="1033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63640" y="5335560"/>
            <a:ext cx="547236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Arial"/>
              </a:rPr>
              <a:t>Frank Cabral de Freitas Amaral – 1</a:t>
            </a:r>
            <a:r>
              <a:rPr b="1" lang="pt-BR" sz="1400" spc="-1" strike="noStrike">
                <a:solidFill>
                  <a:srgbClr val="ffffcc"/>
                </a:solidFill>
                <a:latin typeface="Arial"/>
              </a:rPr>
              <a:t>º Ten.-Eng.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cc"/>
                </a:solidFill>
                <a:latin typeface="Arial"/>
              </a:rPr>
              <a:t>Instru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03400" y="1689120"/>
            <a:ext cx="67816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mericana XBd BT"/>
              </a:rPr>
              <a:t>EDI-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mericana XBd BT"/>
              </a:rPr>
              <a:t>Materiais e Processos Construtivos</a:t>
            </a:r>
            <a:r>
              <a:rPr b="1" i="1" lang="pt-BR" sz="2000" spc="-1" strike="noStrike">
                <a:solidFill>
                  <a:srgbClr val="ffffcc"/>
                </a:solidFill>
                <a:latin typeface="Americana XBd B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08360" y="6381720"/>
            <a:ext cx="15238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Americana XBd BT"/>
              </a:rPr>
              <a:t>Março/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02440" y="3691080"/>
            <a:ext cx="381564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ffffff"/>
                </a:solidFill>
                <a:latin typeface="Americana XBd BT"/>
              </a:rPr>
              <a:t>Aglomerante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286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0" y="1440"/>
            <a:ext cx="228600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828800" y="609480"/>
            <a:ext cx="4419720" cy="45720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TRIÓXIDO DE ENXOFRE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52480" y="1066680"/>
            <a:ext cx="541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Americana XBd BT"/>
              </a:rPr>
              <a:t>DETECT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TEOR DE GESSO (GIPSITA: CaSO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Americana XBd BT"/>
              </a:rPr>
              <a:t>4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.2H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Americana XBd BT"/>
              </a:rPr>
              <a:t>2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828800" y="2819520"/>
            <a:ext cx="4038480" cy="45720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ÓXIDO DE MAGNÉSI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276720"/>
            <a:ext cx="5410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Americana XBd BT"/>
              </a:rPr>
              <a:t>DETECT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TEOR DE ÓXIDO DE MAGNÉS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10160" y="115920"/>
            <a:ext cx="286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9966"/>
                </a:solidFill>
                <a:latin typeface="Times New Roman"/>
              </a:rPr>
              <a:t>Program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606680" y="1019160"/>
          <a:ext cx="7142040" cy="5457960"/>
        </p:xfrm>
        <a:graphic>
          <a:graphicData uri="http://schemas.openxmlformats.org/drawingml/2006/table">
            <a:tbl>
              <a:tblPr/>
              <a:tblGrid>
                <a:gridCol w="1042920"/>
                <a:gridCol w="1697040"/>
                <a:gridCol w="44020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MA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ÓPIC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6/m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RESENTAÇÃO DO CUR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9/m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POS DE MATERIAIS E PROPRIEDAD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/m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REGAD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6/m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/m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GLOMERAN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3/m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7/m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CRE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/m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/ab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/ab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/ab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/ab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7/ab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VA 1º BIMEST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/ab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Ç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4/ab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7/ab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9/abr a 6/ma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MANINH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828800" y="533520"/>
            <a:ext cx="4038480" cy="4572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ENSAIOS FÍSIC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286000" y="1676520"/>
            <a:ext cx="6019920" cy="1904400"/>
            <a:chOff x="2286000" y="1676520"/>
            <a:chExt cx="6019920" cy="1904400"/>
          </a:xfrm>
        </p:grpSpPr>
        <p:sp>
          <p:nvSpPr>
            <p:cNvPr id="52" name=""/>
            <p:cNvSpPr/>
            <p:nvPr/>
          </p:nvSpPr>
          <p:spPr>
            <a:xfrm>
              <a:off x="4800600" y="2286000"/>
              <a:ext cx="350532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291960" indent="-29196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NÃO É INDICE DE QUALIDAD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6000" y="2819160"/>
              <a:ext cx="4191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USADA PARA DOSAGEM E CÁLCULO DA SUPERFÍCIE ESPECÍF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14600" y="1676520"/>
              <a:ext cx="4648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291960" indent="-291960" algn="ctr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 u="sng">
                  <a:solidFill>
                    <a:srgbClr val="ffff66"/>
                  </a:solidFill>
                  <a:uFillTx/>
                  <a:latin typeface="Americana XBd BT"/>
                </a:rPr>
                <a:t>I) MASSA ESPECÍFICA</a:t>
              </a: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	</a:t>
              </a: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(~ 3 a 3,20 g/cm</a:t>
              </a:r>
              <a:r>
                <a:rPr b="0" lang="pt-BR" sz="1800" spc="-1" strike="noStrike" baseline="30000">
                  <a:solidFill>
                    <a:srgbClr val="ffffff"/>
                  </a:solidFill>
                  <a:latin typeface="Americana XBd BT"/>
                </a:rPr>
                <a:t>3</a:t>
              </a: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00400" y="2133360"/>
              <a:ext cx="0" cy="60948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62520" y="2133360"/>
              <a:ext cx="761760" cy="304560"/>
            </a:xfrm>
            <a:prstGeom prst="line">
              <a:avLst/>
            </a:prstGeom>
            <a:ln w="255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00800" y="3200400"/>
              <a:ext cx="114300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291960" indent="-29196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mericana XBd BT"/>
                </a:rPr>
                <a:t>MEDID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95880" y="3124080"/>
              <a:ext cx="304920" cy="228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438280" y="4114800"/>
            <a:ext cx="3581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91960" indent="-291960"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MÉTODO DE DETERMIN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FRASCO DE LE CHATEL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(xilol ou querose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33720" y="1371600"/>
            <a:ext cx="5715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II) FINURA – MÉTODO DE DETERMIN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RESÍDUO NA PENEIRA Nº 20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 </a:t>
            </a:r>
            <a:r>
              <a:rPr b="1" lang="pt-BR" sz="28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1" lang="pt-BR" sz="28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 </a:t>
            </a:r>
            <a:r>
              <a:rPr b="1" lang="pt-BR" sz="28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EXIGÊNCIA DE N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VARIA DE ACORDO COM O TIPO DE C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PERMEABILÍMETRO BLAI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 </a:t>
            </a:r>
            <a:r>
              <a:rPr b="1" lang="pt-BR" sz="28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DETERMINA A ÁREA ESPECÍFICA DO C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 </a:t>
            </a:r>
            <a:r>
              <a:rPr b="1" lang="pt-BR" sz="28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VARIA DE ACORDO COM O TIPO DE C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828800" y="533520"/>
            <a:ext cx="4038480" cy="4572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ENSAIOS FÍSIC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24080" y="1066680"/>
            <a:ext cx="57150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III) ÁGUA DA PASTA DE CONSISTÊNCIA 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ÁGUA PARA OS ENSAIOS DE TEMPOS DE PEGA E EXPANSIV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MÉTODO DE DETERMINAÇÃ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SONDA DE TETMAJER (NO APARELHO DE VIC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6 </a:t>
            </a:r>
            <a:r>
              <a:rPr b="0" lang="pt-BR" sz="1800" spc="-1" strike="noStrike" u="sng">
                <a:solidFill>
                  <a:srgbClr val="ffffff"/>
                </a:solidFill>
                <a:uFillTx/>
                <a:latin typeface="Americana XBd BT"/>
              </a:rPr>
              <a:t>+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 1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828800" y="533520"/>
            <a:ext cx="4038480" cy="4572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ENSAIOS FÍSIC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3809880"/>
            <a:ext cx="571500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IV) TEMPOS DE PEGA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mericana XBd BT"/>
              </a:rPr>
              <a:t>→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TRABALHÁ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mericana XBd BT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	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	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	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ENRIJECIMENTO DA PA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MÉTODO DE DETERMINAÇÃ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AGULHA DE VICAT (NO APARELHO DE VIC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Início: 1 mm do fun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Fim: 1ª entre 3 leituras sucessivas e iguais, &gt;s 38,0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05120" y="1143000"/>
            <a:ext cx="5943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VI) RESISTÊNCIA A COMPRESSÃO</a:t>
            </a: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  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CORPO DE PROVA 5x10 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ARGAMASSA COM TRAÇO E “OUTROS” MATERIAIS DEFINI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828800" y="533520"/>
            <a:ext cx="4038480" cy="4572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ENSAIOS FÍSIC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895480" y="2895480"/>
          <a:ext cx="4496040" cy="3200400"/>
        </p:xfrm>
        <a:graphic>
          <a:graphicData uri="http://schemas.openxmlformats.org/drawingml/2006/table">
            <a:tbl>
              <a:tblPr/>
              <a:tblGrid>
                <a:gridCol w="2656440"/>
                <a:gridCol w="1839600"/>
              </a:tblGrid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66"/>
                          </a:solidFill>
                          <a:latin typeface="Americana XBd BT"/>
                        </a:rPr>
                        <a:t>Mater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66"/>
                          </a:solidFill>
                          <a:latin typeface="Americana XBd BT"/>
                        </a:rPr>
                        <a:t>Quantidade (g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Cimen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624 </a:t>
                      </a:r>
                      <a:r>
                        <a:rPr b="1" lang="pt-BR" sz="2000" spc="-1" strike="noStrike" u="sng">
                          <a:solidFill>
                            <a:srgbClr val="ffffff"/>
                          </a:solidFill>
                          <a:uFillTx/>
                          <a:latin typeface="Americana XBd BT"/>
                        </a:rPr>
                        <a:t>+</a:t>
                      </a: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 0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Águ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300 </a:t>
                      </a:r>
                      <a:r>
                        <a:rPr b="1" lang="pt-BR" sz="2000" spc="-1" strike="noStrike" u="sng">
                          <a:solidFill>
                            <a:srgbClr val="ffffff"/>
                          </a:solidFill>
                          <a:uFillTx/>
                          <a:latin typeface="Americana XBd BT"/>
                        </a:rPr>
                        <a:t>+</a:t>
                      </a: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 0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Areia 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66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fração gros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468 </a:t>
                      </a:r>
                      <a:r>
                        <a:rPr b="1" lang="pt-BR" sz="2000" spc="-1" strike="noStrike" u="sng">
                          <a:solidFill>
                            <a:srgbClr val="ffffff"/>
                          </a:solidFill>
                          <a:uFillTx/>
                          <a:latin typeface="Americana XBd BT"/>
                        </a:rPr>
                        <a:t>+</a:t>
                      </a: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 0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66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fração média gros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468 </a:t>
                      </a:r>
                      <a:r>
                        <a:rPr b="1" lang="pt-BR" sz="2000" spc="-1" strike="noStrike" u="sng">
                          <a:solidFill>
                            <a:srgbClr val="ffffff"/>
                          </a:solidFill>
                          <a:uFillTx/>
                          <a:latin typeface="Americana XBd BT"/>
                        </a:rPr>
                        <a:t>+</a:t>
                      </a: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 0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66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fração média f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468 </a:t>
                      </a:r>
                      <a:r>
                        <a:rPr b="1" lang="pt-BR" sz="2000" spc="-1" strike="noStrike" u="sng">
                          <a:solidFill>
                            <a:srgbClr val="ffffff"/>
                          </a:solidFill>
                          <a:uFillTx/>
                          <a:latin typeface="Americana XBd BT"/>
                        </a:rPr>
                        <a:t>+</a:t>
                      </a: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 0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66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fração f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468 </a:t>
                      </a:r>
                      <a:r>
                        <a:rPr b="1" lang="pt-BR" sz="2000" spc="-1" strike="noStrike" u="sng">
                          <a:solidFill>
                            <a:srgbClr val="ffffff"/>
                          </a:solidFill>
                          <a:uFillTx/>
                          <a:latin typeface="Americana XBd BT"/>
                        </a:rPr>
                        <a:t>+</a:t>
                      </a: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mericana XBd BT"/>
                        </a:rPr>
                        <a:t> 0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28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828800" y="533520"/>
            <a:ext cx="4038480" cy="45720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ENSAIOS FÍSIC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1371600"/>
            <a:ext cx="5715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III) EXPANSIBILIDADE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66"/>
                </a:solidFill>
                <a:latin typeface="Americana XBd BT"/>
              </a:rPr>
              <a:t> </a:t>
            </a:r>
            <a:r>
              <a:rPr b="1" lang="pt-BR" sz="2400" spc="-1" strike="noStrike">
                <a:solidFill>
                  <a:srgbClr val="ffff66"/>
                </a:solidFill>
                <a:latin typeface="Americana XBd BT"/>
                <a:ea typeface="Arial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mericana XBd BT"/>
              </a:rPr>
              <a:t>CaO, MgO, CaSO</a:t>
            </a:r>
            <a:r>
              <a:rPr b="1" lang="pt-BR" sz="1800" spc="-1" strike="noStrike" baseline="-25000">
                <a:solidFill>
                  <a:srgbClr val="ffffff"/>
                </a:solidFill>
                <a:latin typeface="Americana XBd BT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MÉTODO DE DETERMINAÇÃ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AGULHA DE LE CHATEL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4452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QUENTE: Ca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4452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FRIO: M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&lt; 5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828800" y="457200"/>
            <a:ext cx="4495680" cy="533520"/>
          </a:xfrm>
          <a:prstGeom prst="rect">
            <a:avLst/>
          </a:prstGeom>
        </p:spPr>
        <p:txBody>
          <a:bodyPr wrap="none" lIns="91800" rIns="91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Times New Roman"/>
              </a:rPr>
              <a:t>EXIGÊNCIAS DAS NORM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ff6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1523880"/>
            <a:ext cx="4724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QUANTO A COMPOSIÇÃO QUÍMIC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PERDA AO F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RESÍDUO INSOLÚ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TRIÓXIDO DE ENXOFRE (SO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Americana XBd BT"/>
              </a:rPr>
              <a:t>3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ÓXIDO DE MAGNÉSIO (Mg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66"/>
                </a:solidFill>
                <a:uFillTx/>
                <a:latin typeface="Americana XBd BT"/>
              </a:rPr>
              <a:t>QUANTO AS CARACTERÍSTICAS FÍSIC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FIN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INÍCIO DE PE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FIM DE PE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EXPANSIBIL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RESISTÊNCIA À COMPRESS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28800" y="609480"/>
            <a:ext cx="2971800" cy="38124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PERDA AO FOGO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990720"/>
            <a:ext cx="449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AMOSTRA </a:t>
            </a:r>
            <a:r>
              <a:rPr b="0" lang="pt-BR" sz="2400" spc="-1" strike="noStrike">
                <a:solidFill>
                  <a:srgbClr val="ffff66"/>
                </a:solidFill>
                <a:latin typeface="Americana XBd BT"/>
              </a:rPr>
              <a:t>→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 900 a 1000ºC </a:t>
            </a:r>
            <a:r>
              <a:rPr b="0" lang="pt-BR" sz="2400" spc="-1" strike="noStrike">
                <a:solidFill>
                  <a:srgbClr val="ffff66"/>
                </a:solidFill>
                <a:latin typeface="Americana XBd BT"/>
              </a:rPr>
              <a:t>→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 RESÍDU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Americana XBd BT"/>
              </a:rPr>
              <a:t>DETECT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(INÍCIO DE) HIDRAT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(INÍCIO DE) CARBONAT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TEOR DE CaCO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1981080"/>
            <a:ext cx="1246320" cy="749520"/>
          </a:xfrm>
          <a:custGeom>
            <a:avLst/>
            <a:gdLst/>
            <a:ahLst/>
            <a:rect l="l" t="t" r="r" b="b"/>
            <a:pathLst>
              <a:path w="785" h="472">
                <a:moveTo>
                  <a:pt x="128" y="464"/>
                </a:moveTo>
                <a:cubicBezTo>
                  <a:pt x="253" y="433"/>
                  <a:pt x="386" y="447"/>
                  <a:pt x="512" y="472"/>
                </a:cubicBezTo>
                <a:cubicBezTo>
                  <a:pt x="587" y="465"/>
                  <a:pt x="673" y="472"/>
                  <a:pt x="744" y="448"/>
                </a:cubicBezTo>
                <a:cubicBezTo>
                  <a:pt x="785" y="387"/>
                  <a:pt x="762" y="265"/>
                  <a:pt x="688" y="232"/>
                </a:cubicBezTo>
                <a:cubicBezTo>
                  <a:pt x="647" y="214"/>
                  <a:pt x="611" y="209"/>
                  <a:pt x="568" y="200"/>
                </a:cubicBezTo>
                <a:cubicBezTo>
                  <a:pt x="541" y="195"/>
                  <a:pt x="488" y="176"/>
                  <a:pt x="488" y="176"/>
                </a:cubicBezTo>
                <a:cubicBezTo>
                  <a:pt x="463" y="138"/>
                  <a:pt x="452" y="112"/>
                  <a:pt x="416" y="88"/>
                </a:cubicBezTo>
                <a:cubicBezTo>
                  <a:pt x="397" y="31"/>
                  <a:pt x="424" y="100"/>
                  <a:pt x="384" y="40"/>
                </a:cubicBezTo>
                <a:cubicBezTo>
                  <a:pt x="379" y="33"/>
                  <a:pt x="383" y="21"/>
                  <a:pt x="376" y="16"/>
                </a:cubicBezTo>
                <a:cubicBezTo>
                  <a:pt x="362" y="6"/>
                  <a:pt x="328" y="0"/>
                  <a:pt x="328" y="0"/>
                </a:cubicBezTo>
                <a:cubicBezTo>
                  <a:pt x="322" y="1"/>
                  <a:pt x="275" y="9"/>
                  <a:pt x="264" y="16"/>
                </a:cubicBezTo>
                <a:cubicBezTo>
                  <a:pt x="239" y="33"/>
                  <a:pt x="228" y="69"/>
                  <a:pt x="192" y="72"/>
                </a:cubicBezTo>
                <a:cubicBezTo>
                  <a:pt x="155" y="75"/>
                  <a:pt x="117" y="77"/>
                  <a:pt x="80" y="80"/>
                </a:cubicBezTo>
                <a:cubicBezTo>
                  <a:pt x="49" y="127"/>
                  <a:pt x="57" y="135"/>
                  <a:pt x="64" y="200"/>
                </a:cubicBezTo>
                <a:cubicBezTo>
                  <a:pt x="61" y="227"/>
                  <a:pt x="64" y="254"/>
                  <a:pt x="56" y="280"/>
                </a:cubicBezTo>
                <a:cubicBezTo>
                  <a:pt x="45" y="315"/>
                  <a:pt x="12" y="340"/>
                  <a:pt x="0" y="376"/>
                </a:cubicBezTo>
                <a:cubicBezTo>
                  <a:pt x="9" y="403"/>
                  <a:pt x="44" y="441"/>
                  <a:pt x="72" y="448"/>
                </a:cubicBezTo>
                <a:cubicBezTo>
                  <a:pt x="85" y="451"/>
                  <a:pt x="99" y="453"/>
                  <a:pt x="112" y="456"/>
                </a:cubicBezTo>
                <a:cubicBezTo>
                  <a:pt x="147" y="465"/>
                  <a:pt x="142" y="464"/>
                  <a:pt x="128" y="46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6019920" y="190512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828800" y="3886200"/>
            <a:ext cx="4343400" cy="45720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RESÍDUO INSOLÚVEL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4343400"/>
            <a:ext cx="5410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AMOSTRA </a:t>
            </a:r>
            <a:r>
              <a:rPr b="0" lang="pt-BR" sz="2400" spc="-1" strike="noStrike">
                <a:solidFill>
                  <a:srgbClr val="ffff66"/>
                </a:solidFill>
                <a:latin typeface="Americana XBd BT"/>
              </a:rPr>
              <a:t>→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 ÁCIDO CLORÍDRICO </a:t>
            </a:r>
            <a:r>
              <a:rPr b="0" lang="pt-BR" sz="2400" spc="-1" strike="noStrike">
                <a:solidFill>
                  <a:srgbClr val="ffff66"/>
                </a:solidFill>
                <a:latin typeface="Americana XBd BT"/>
              </a:rPr>
              <a:t>→</a:t>
            </a: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 RESÍDU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ffffff"/>
                </a:solidFill>
                <a:uFillTx/>
                <a:latin typeface="Americana XBd BT"/>
              </a:rPr>
              <a:t>DETECT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mericana XBd BT"/>
              </a:rPr>
              <a:t>IMPUR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19:59:38Z</dcterms:created>
  <dc:creator>Maryangela Geimba de Lima</dc:creator>
  <dc:description/>
  <dc:language>en-US</dc:language>
  <cp:lastModifiedBy>Administrador</cp:lastModifiedBy>
  <dcterms:modified xsi:type="dcterms:W3CDTF">2006-03-23T11:32:03Z</dcterms:modified>
  <cp:revision>483</cp:revision>
  <dc:subject/>
  <dc:title>Título aqu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27301277</vt:r8>
  </property>
  <property fmtid="{D5CDD505-2E9C-101B-9397-08002B2CF9AE}" pid="3" name="_AuthorEmail">
    <vt:lpwstr>pcaterine@terra.com.br</vt:lpwstr>
  </property>
  <property fmtid="{D5CDD505-2E9C-101B-9397-08002B2CF9AE}" pid="4" name="_AuthorEmailDisplayName">
    <vt:lpwstr>Priscila</vt:lpwstr>
  </property>
  <property fmtid="{D5CDD505-2E9C-101B-9397-08002B2CF9AE}" pid="5" name="_EmailSubject">
    <vt:lpwstr>material - agregados</vt:lpwstr>
  </property>
  <property fmtid="{D5CDD505-2E9C-101B-9397-08002B2CF9AE}" pid="6" name="_ReviewingToolsShownOnce">
    <vt:lpwstr/>
  </property>
</Properties>
</file>