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523880" cy="6858000"/>
          </a:xfrm>
          <a:prstGeom prst="rect">
            <a:avLst/>
          </a:prstGeom>
          <a:gradFill rotWithShape="0">
            <a:gsLst>
              <a:gs pos="0">
                <a:srgbClr val="5e1700"/>
              </a:gs>
              <a:gs pos="50000">
                <a:srgbClr val="cc3300"/>
              </a:gs>
              <a:gs pos="100000">
                <a:srgbClr val="5e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73000" y="640728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3793-A8D5-4003-A24D-3487B4C97B03}" type="slidenum"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260280"/>
            <a:ext cx="1219320" cy="4590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 rot="16200000">
            <a:off x="-1568160" y="3321000"/>
            <a:ext cx="4724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66"/>
                </a:solidFill>
                <a:latin typeface="Arial Narrow"/>
              </a:rPr>
              <a:t>EDI-33  Materiais e Processos Constru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66"/>
                </a:solidFill>
                <a:latin typeface="Arial Narrow"/>
              </a:rPr>
              <a:t>AGLOMERA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132000" y="393840"/>
            <a:ext cx="2743200" cy="1033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3640" y="5335560"/>
            <a:ext cx="547236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Frank Cabral de Freitas Amaral – 1</a:t>
            </a:r>
            <a:r>
              <a:rPr b="1" lang="pt-BR" sz="1400" spc="-1" strike="noStrike">
                <a:solidFill>
                  <a:srgbClr val="ffffcc"/>
                </a:solidFill>
                <a:latin typeface="Arial"/>
              </a:rPr>
              <a:t>º Ten.-Eng.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cc"/>
                </a:solidFill>
                <a:latin typeface="Arial"/>
              </a:rPr>
              <a:t>Instru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03400" y="1689120"/>
            <a:ext cx="67816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mericana XBd BT"/>
              </a:rPr>
              <a:t>EDI-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mericana XBd BT"/>
              </a:rPr>
              <a:t>Materiais e Processos Construtivos</a:t>
            </a:r>
            <a:r>
              <a:rPr b="1" i="1" lang="pt-BR" sz="2000" spc="-1" strike="noStrike">
                <a:solidFill>
                  <a:srgbClr val="ffffcc"/>
                </a:solidFill>
                <a:latin typeface="Americana XBd B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08360" y="6381720"/>
            <a:ext cx="15238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Americana XBd BT"/>
              </a:rPr>
              <a:t>Março/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02440" y="3691080"/>
            <a:ext cx="381564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ffffff"/>
                </a:solidFill>
                <a:latin typeface="Americana XBd BT"/>
              </a:rPr>
              <a:t>Aglomerante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cc33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0" y="1440"/>
            <a:ext cx="228600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cc33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692360" y="838080"/>
            <a:ext cx="6211800" cy="92556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AGLOMERANTES AÉRE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124000" y="3357720"/>
            <a:ext cx="3743280" cy="115236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GESSO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CAL CÁLCICA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CAL MAGNESIANA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2000" y="3716280"/>
            <a:ext cx="144360" cy="792360"/>
          </a:xfrm>
          <a:custGeom>
            <a:avLst/>
            <a:gdLst>
              <a:gd name="textAreaLeft" fmla="*/ 0 w 144360"/>
              <a:gd name="textAreaRight" fmla="*/ 52200 w 14436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372360" y="3933720"/>
            <a:ext cx="1923840" cy="40032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CAL AÉREA</a:t>
            </a:r>
            <a:endParaRPr b="0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906560" y="2637000"/>
            <a:ext cx="2521080" cy="50472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MATÉRIA PRIM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268360" y="3789360"/>
            <a:ext cx="1295640" cy="28584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GIPSITA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27640" y="3429000"/>
            <a:ext cx="3960720" cy="9349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CaSO</a:t>
            </a:r>
            <a:r>
              <a:rPr b="1" lang="pt-BR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.2H</a:t>
            </a:r>
            <a:r>
              <a:rPr b="1" lang="pt-BR" sz="2400" spc="-1" strike="noStrike" baseline="-25000">
                <a:solidFill>
                  <a:srgbClr val="ffffff"/>
                </a:solidFill>
                <a:latin typeface="Americana XBd BT"/>
              </a:rPr>
              <a:t>2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(sulfato de cálcio di-hidratad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0800000">
            <a:off x="3779640" y="3645000"/>
            <a:ext cx="360360" cy="576000"/>
          </a:xfrm>
          <a:prstGeom prst="lef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08000" y="4941720"/>
            <a:ext cx="6551640" cy="9352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Impurezas – SiO</a:t>
            </a:r>
            <a:r>
              <a:rPr b="1" lang="pt-BR" sz="2400" spc="-1" strike="noStrike" baseline="-25000">
                <a:solidFill>
                  <a:srgbClr val="ffffff"/>
                </a:solidFill>
                <a:latin typeface="Americana XBd BT"/>
              </a:rPr>
              <a:t>2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, Al</a:t>
            </a:r>
            <a:r>
              <a:rPr b="1" lang="pt-B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pt-B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, FeO, CaCO</a:t>
            </a:r>
            <a:r>
              <a:rPr b="1" lang="pt-B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, M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9933"/>
                </a:solidFill>
                <a:latin typeface="Arial"/>
              </a:rPr>
              <a:t>Máximo 6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459640" y="4292640"/>
            <a:ext cx="287640" cy="503280"/>
          </a:xfrm>
          <a:custGeom>
            <a:avLst/>
            <a:gdLst>
              <a:gd name="textAreaLeft" fmla="*/ 38520 w 287640"/>
              <a:gd name="textAreaRight" fmla="*/ 249120 w 28764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979640" y="476280"/>
            <a:ext cx="1800360" cy="43344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GESS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35280" y="1197000"/>
            <a:ext cx="7057800" cy="9349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GESSO “DE ESTUCADOR”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pt-BR" sz="2000" spc="-1" strike="noStrike">
                <a:solidFill>
                  <a:srgbClr val="ff9933"/>
                </a:solidFill>
                <a:latin typeface="Arial"/>
                <a:ea typeface="Arial"/>
              </a:rPr>
              <a:t>AGLOMERANTE AÉRE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GESSO “DE PAVIMENTAÇÃO”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→ </a:t>
            </a:r>
            <a:r>
              <a:rPr b="1" lang="pt-BR" sz="2000" spc="-1" strike="noStrike">
                <a:solidFill>
                  <a:srgbClr val="ff9933"/>
                </a:solidFill>
                <a:latin typeface="Arial"/>
              </a:rPr>
              <a:t>AGLOM. HIDRÁUL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547640" y="4506840"/>
            <a:ext cx="45370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9933"/>
                </a:solidFill>
                <a:latin typeface="Arial"/>
              </a:rPr>
              <a:t>400 a 600ºC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Anidrita insolú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33"/>
                </a:solidFill>
                <a:latin typeface="Americana XBd BT"/>
              </a:rPr>
              <a:t>900 a 1200º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mericana XBd BT"/>
              </a:rPr>
              <a:t>Produto de endurecimento l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mericana XBd BT"/>
              </a:rPr>
              <a:t>(gesso hidráulic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257800" y="228600"/>
            <a:ext cx="3311640" cy="194472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         </a:t>
            </a: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. EXTRAÇÃO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       </a:t>
            </a: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. BRITAGEM DA ROCHA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     </a:t>
            </a: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. TRITURAÇÃO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   </a:t>
            </a: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. QUEIMA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. MOAGEM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7100000">
            <a:off x="4201200" y="1056240"/>
            <a:ext cx="2016000" cy="360360"/>
          </a:xfrm>
          <a:prstGeom prst="leftArrow">
            <a:avLst>
              <a:gd name="adj1" fmla="val 50000"/>
              <a:gd name="adj2" fmla="val 139860"/>
            </a:avLst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676520" y="2514600"/>
            <a:ext cx="6211800" cy="50472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REAÇÕES DE QUEIM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47640" y="2924280"/>
            <a:ext cx="5040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9933"/>
                </a:solidFill>
                <a:latin typeface="Arial"/>
              </a:rPr>
              <a:t>130 a 160ºC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CaSO</a:t>
            </a:r>
            <a:r>
              <a:rPr b="1" lang="pt-BR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.2H</a:t>
            </a:r>
            <a:r>
              <a:rPr b="1" lang="pt-B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→ CaSO</a:t>
            </a:r>
            <a:r>
              <a:rPr b="1" lang="pt-BR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. 1/2H</a:t>
            </a:r>
            <a:r>
              <a:rPr b="1" lang="pt-BR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O + 11/2H</a:t>
            </a:r>
            <a:r>
              <a:rPr b="1" lang="pt-BR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80000" y="3716280"/>
            <a:ext cx="266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Gesso de Par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Gesso de Estucad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Gesso Rápi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92360" y="3787920"/>
            <a:ext cx="1800360" cy="1440"/>
          </a:xfrm>
          <a:prstGeom prst="line">
            <a:avLst/>
          </a:prstGeom>
          <a:ln w="9360">
            <a:solidFill>
              <a:srgbClr val="f0f6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88000" y="3787920"/>
            <a:ext cx="1655640" cy="431640"/>
          </a:xfrm>
          <a:prstGeom prst="line">
            <a:avLst/>
          </a:prstGeom>
          <a:ln w="9360">
            <a:solidFill>
              <a:srgbClr val="f0f6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47640" y="3643200"/>
            <a:ext cx="504036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9933"/>
                </a:solidFill>
                <a:latin typeface="Arial"/>
              </a:rPr>
              <a:t>250ºC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CaSO</a:t>
            </a:r>
            <a:r>
              <a:rPr b="1" lang="pt-BR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.1/2H</a:t>
            </a:r>
            <a:r>
              <a:rPr b="1" lang="pt-B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→ CaSO</a:t>
            </a:r>
            <a:r>
              <a:rPr b="1" lang="pt-BR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 + 11/2H</a:t>
            </a:r>
            <a:r>
              <a:rPr b="1" lang="pt-BR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43640" y="4795920"/>
            <a:ext cx="2448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Anidrita solú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ávida por águ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08360" y="4508640"/>
            <a:ext cx="863640" cy="0"/>
          </a:xfrm>
          <a:prstGeom prst="line">
            <a:avLst/>
          </a:prstGeom>
          <a:ln w="9360">
            <a:solidFill>
              <a:srgbClr val="f0f6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4506840"/>
            <a:ext cx="1871640" cy="649440"/>
          </a:xfrm>
          <a:prstGeom prst="line">
            <a:avLst/>
          </a:prstGeom>
          <a:ln w="9360">
            <a:solidFill>
              <a:srgbClr val="f0f6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981080" y="838080"/>
            <a:ext cx="2874960" cy="72072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OBTENÇÃ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52480" y="3505320"/>
            <a:ext cx="4419720" cy="76176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 algn="just">
              <a:spcBef>
                <a:spcPts val="499"/>
              </a:spcBef>
              <a:buClr>
                <a:srgbClr val="ff99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9933"/>
                </a:solidFill>
                <a:latin typeface="Arial"/>
              </a:rPr>
              <a:t>INÍCIO DA PEGA: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2 a 3 minu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99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9933"/>
                </a:solidFill>
                <a:latin typeface="Arial"/>
              </a:rPr>
              <a:t>FIM DA PEGA: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15 a 20 minu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0" y="2819520"/>
            <a:ext cx="20574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Arial"/>
                <a:ea typeface="Arial"/>
              </a:rPr>
              <a:t>Despreendi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Arial"/>
                <a:ea typeface="Arial"/>
              </a:rPr>
              <a:t>de cal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828800" y="457200"/>
            <a:ext cx="3657600" cy="53352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ENDURECIMEN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752480" y="1447920"/>
            <a:ext cx="3581640" cy="43164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Hemidratado + Água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553080" y="609480"/>
            <a:ext cx="1752840" cy="38124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Dissolução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705720" y="1981080"/>
            <a:ext cx="1676160" cy="38124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Saturação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819520" y="2514600"/>
            <a:ext cx="3581280" cy="68580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Precipitação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(cristais aciculares)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9800000">
            <a:off x="5410080" y="1066680"/>
            <a:ext cx="990720" cy="381240"/>
          </a:xfrm>
          <a:custGeom>
            <a:avLst/>
            <a:gdLst>
              <a:gd name="textAreaLeft" fmla="*/ 154800 w 990720"/>
              <a:gd name="textAreaRight" fmla="*/ 866880 w 9907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7124400" y="1257120"/>
            <a:ext cx="762120" cy="380880"/>
          </a:xfrm>
          <a:custGeom>
            <a:avLst/>
            <a:gdLst>
              <a:gd name="textAreaLeft" fmla="*/ 118800 w 762120"/>
              <a:gd name="textAreaRight" fmla="*/ 667080 w 7621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6477120" y="2438280"/>
            <a:ext cx="761760" cy="533520"/>
          </a:xfrm>
          <a:custGeom>
            <a:avLst/>
            <a:gdLst>
              <a:gd name="textAreaLeft" fmla="*/ 0 w 761760"/>
              <a:gd name="textAreaRight" fmla="*/ 762120 w 7617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1714320" y="2171160"/>
            <a:ext cx="1143000" cy="76176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61" stAng="10800000" swAng="5400000"/>
                <a:lnTo>
                  <a:pt x="14400" y="3899"/>
                </a:lnTo>
                <a:lnTo>
                  <a:pt x="14400" y="0"/>
                </a:lnTo>
                <a:lnTo>
                  <a:pt x="21600" y="6079"/>
                </a:lnTo>
                <a:lnTo>
                  <a:pt x="14400" y="12158"/>
                </a:lnTo>
                <a:lnTo>
                  <a:pt x="14400" y="8259"/>
                </a:lnTo>
                <a:lnTo>
                  <a:pt x="12427" y="8259"/>
                </a:lnTo>
                <a:arcTo wR="8067" hR="3901" stAng="16200000" swAng="-5400000"/>
                <a:lnTo>
                  <a:pt x="4360" y="216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828800" y="4876920"/>
            <a:ext cx="2438280" cy="38088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ENDURECIMENTO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4648320"/>
            <a:ext cx="3657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Arial"/>
                <a:ea typeface="Arial"/>
              </a:rPr>
              <a:t>DESPRENDIMENTO DE CAL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Arial"/>
                <a:ea typeface="Arial"/>
              </a:rPr>
              <a:t>DILATAÇÃO LINE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52680" y="60199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33"/>
                </a:solidFill>
                <a:latin typeface="Arial"/>
                <a:ea typeface="Arial"/>
              </a:rPr>
              <a:t>RETRAÇÃO INFERI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19720" y="5105520"/>
            <a:ext cx="457200" cy="228600"/>
          </a:xfrm>
          <a:prstGeom prst="line">
            <a:avLst/>
          </a:prstGeom>
          <a:ln w="9360">
            <a:solidFill>
              <a:srgbClr val="f0f6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419720" y="4876560"/>
            <a:ext cx="533160" cy="228600"/>
          </a:xfrm>
          <a:prstGeom prst="line">
            <a:avLst/>
          </a:prstGeom>
          <a:ln w="9360">
            <a:solidFill>
              <a:srgbClr val="f0f6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105520" y="5638320"/>
            <a:ext cx="304560" cy="304920"/>
          </a:xfrm>
          <a:prstGeom prst="line">
            <a:avLst/>
          </a:prstGeom>
          <a:ln w="93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600200" y="1828800"/>
            <a:ext cx="4038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9933"/>
                </a:solidFill>
                <a:latin typeface="Arial"/>
              </a:rPr>
              <a:t>ÁGUA NECESSÁRIA: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50 a 7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(teórica – 25%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752480" y="457200"/>
            <a:ext cx="3581640" cy="43164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ÁGUA NECESSÁRIA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990720"/>
            <a:ext cx="4952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Arial"/>
                <a:ea typeface="Arial"/>
              </a:rPr>
              <a:t>QUANTO MENOR A QUANTIDADE DE ÁGU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62720" y="2057400"/>
            <a:ext cx="380880" cy="228600"/>
          </a:xfrm>
          <a:prstGeom prst="line">
            <a:avLst/>
          </a:prstGeom>
          <a:ln w="9360">
            <a:solidFill>
              <a:srgbClr val="f0f6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38680" y="1371600"/>
            <a:ext cx="457200" cy="228600"/>
          </a:xfrm>
          <a:prstGeom prst="line">
            <a:avLst/>
          </a:prstGeom>
          <a:ln w="9360">
            <a:solidFill>
              <a:srgbClr val="f0f6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19920" y="2057400"/>
            <a:ext cx="198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EVITA A PE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MUITO RÁP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05120" y="2666880"/>
            <a:ext cx="4038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9933"/>
                </a:solidFill>
                <a:latin typeface="Arial"/>
              </a:rPr>
              <a:t>GANHO DE RESISTÊNCI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00400" y="3124080"/>
            <a:ext cx="5638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OCORRE PELA PERDA (EVAPORAÇÃO) DA ÁGU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72200" y="1447920"/>
            <a:ext cx="2743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Arial"/>
                <a:ea typeface="Arial"/>
              </a:rPr>
              <a:t>MAIS RÁPIDA A PE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00200" y="4343400"/>
            <a:ext cx="693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66"/>
                </a:solidFill>
                <a:latin typeface="Arial"/>
              </a:rPr>
              <a:t>ACELERADORES:</a:t>
            </a:r>
            <a:r>
              <a:rPr b="1" lang="pt-BR" sz="20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usados no caso de gesso hidrául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ex.: Sulfato de Alumín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81080" y="5181480"/>
            <a:ext cx="70106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66"/>
                </a:solidFill>
                <a:latin typeface="Arial"/>
              </a:rPr>
              <a:t>RETARDADORES:</a:t>
            </a:r>
            <a:r>
              <a:rPr b="1" lang="pt-BR" sz="20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permitem amassamento com men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quantidade de água (~0,2%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ex.: Sulfato de Sódio, Açúc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676520" y="3733920"/>
            <a:ext cx="4724280" cy="45720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ALTERAÇÃO NO TEMPO DE PEGA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828800" y="457200"/>
            <a:ext cx="3657600" cy="53352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PROPRIEDAD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828800" y="1143000"/>
            <a:ext cx="4114800" cy="43164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Resistência a compressão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1600200"/>
            <a:ext cx="3276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Não ultrapassa 100 kgf/cm</a:t>
            </a:r>
            <a:r>
              <a:rPr b="1" lang="pt-BR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6705360" y="1905120"/>
            <a:ext cx="53316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7280" y="205740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Arial"/>
                <a:ea typeface="Arial"/>
              </a:rPr>
              <a:t>pa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238880" y="2209680"/>
            <a:ext cx="1676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Argamass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28954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Arial"/>
                <a:ea typeface="Arial"/>
              </a:rPr>
              <a:t>40 a 50% da pa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7620120" y="2514600"/>
            <a:ext cx="3808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828800" y="2666880"/>
            <a:ext cx="3429000" cy="30492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Isolamento Térmico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52480" y="3124080"/>
            <a:ext cx="4648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Isolante tipo méd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3 cm de espessura – 45 minutos (1000º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828800" y="4191120"/>
            <a:ext cx="4876920" cy="38088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Massa Específica Aparente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52480" y="4648320"/>
            <a:ext cx="365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Depende da quantidade de águ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52480" y="5029200"/>
            <a:ext cx="1447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Arial"/>
                <a:ea typeface="Arial"/>
              </a:rPr>
              <a:t>80% - 1,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Arial"/>
                <a:ea typeface="Arial"/>
              </a:rPr>
              <a:t>60% - 1,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Arial"/>
                <a:ea typeface="Arial"/>
              </a:rPr>
              <a:t>45% - 1,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Arial"/>
                <a:ea typeface="Arial"/>
              </a:rPr>
              <a:t>35% - 1,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828800" y="380880"/>
            <a:ext cx="3657600" cy="60984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OBSERVAÇÕ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52480" y="1371600"/>
            <a:ext cx="7010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Não devemos conservar o gesso em atmosfera úmida ou saturada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O gesso corrói o aço (sulfatos): não devemos usar ferramentas de aço e nem armá-l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3520" indent="231480" algn="just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Podemos armá-lo com armaduras galvanizada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3520" indent="231480" algn="just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Podemos usar ferramentas de latão para trabalhar o gesso – ideal = plásti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3520" indent="231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Podemos reforçar o gesso com fibras plásticas e vegetai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Possui superfície de acabamento semelhante a massa corrida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Aceita qualquer tipo de pintura de acabamen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676520" y="380880"/>
            <a:ext cx="3484440" cy="59400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CAL AÉRE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050920" y="2276640"/>
            <a:ext cx="1667160" cy="60480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CALCÁRIO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2205000"/>
            <a:ext cx="28195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CaCO</a:t>
            </a:r>
            <a:r>
              <a:rPr b="1" lang="pt-B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(carbonato de cálci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3995280" y="2349000"/>
            <a:ext cx="360360" cy="576360"/>
          </a:xfrm>
          <a:prstGeom prst="lef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79640" y="4005360"/>
            <a:ext cx="6172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Impurezas: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teor desprezível de argi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MgO, SiO</a:t>
            </a:r>
            <a:r>
              <a:rPr b="1" lang="pt-B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, Al</a:t>
            </a:r>
            <a:r>
              <a:rPr b="1" lang="pt-B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pt-B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35280" y="4221000"/>
            <a:ext cx="99072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35280" y="4365720"/>
            <a:ext cx="99072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676520" y="380880"/>
            <a:ext cx="2895480" cy="59400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CALCÁRI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048040" y="1311120"/>
            <a:ext cx="2066760" cy="59400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COMPOSIÇÃO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QUÍMICA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10800000">
            <a:off x="4495320" y="1294920"/>
            <a:ext cx="360360" cy="576360"/>
          </a:xfrm>
          <a:prstGeom prst="lef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181480" y="1295280"/>
            <a:ext cx="1295640" cy="45720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CAL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AÉREA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81080" y="2209680"/>
            <a:ext cx="6172200" cy="9144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R = </a:t>
            </a:r>
            <a:r>
              <a:rPr b="1" lang="pt-BR" sz="2000" spc="-1" strike="noStrike" u="sng">
                <a:solidFill>
                  <a:srgbClr val="ffffff"/>
                </a:solidFill>
                <a:uFillTx/>
                <a:latin typeface="Arial"/>
              </a:rPr>
              <a:t>% SiO</a:t>
            </a:r>
            <a:r>
              <a:rPr b="1" lang="pt-BR" sz="2000" spc="-1" strike="noStrike" u="sng" baseline="-25000">
                <a:solidFill>
                  <a:srgbClr val="ffffff"/>
                </a:solidFill>
                <a:uFillTx/>
                <a:latin typeface="Arial"/>
              </a:rPr>
              <a:t>2</a:t>
            </a:r>
            <a:r>
              <a:rPr b="1" lang="pt-BR" sz="2000" spc="-1" strike="noStrike" u="sng">
                <a:solidFill>
                  <a:srgbClr val="ffffff"/>
                </a:solidFill>
                <a:uFillTx/>
                <a:latin typeface="Arial"/>
              </a:rPr>
              <a:t> + % Al</a:t>
            </a:r>
            <a:r>
              <a:rPr b="1" lang="pt-BR" sz="2000" spc="-1" strike="noStrike" u="sng" baseline="-25000">
                <a:solidFill>
                  <a:srgbClr val="ffffff"/>
                </a:solidFill>
                <a:uFillTx/>
                <a:latin typeface="Arial"/>
              </a:rPr>
              <a:t>2</a:t>
            </a:r>
            <a:r>
              <a:rPr b="1" lang="pt-BR" sz="2000" spc="-1" strike="noStrike" u="sng">
                <a:solidFill>
                  <a:srgbClr val="ffffff"/>
                </a:solidFill>
                <a:uFillTx/>
                <a:latin typeface="Arial"/>
              </a:rPr>
              <a:t>O</a:t>
            </a:r>
            <a:r>
              <a:rPr b="1" lang="pt-BR" sz="2000" spc="-1" strike="noStrike" u="sng" baseline="-25000">
                <a:solidFill>
                  <a:srgbClr val="ffffff"/>
                </a:solidFill>
                <a:uFillTx/>
                <a:latin typeface="Arial"/>
              </a:rPr>
              <a:t>3</a:t>
            </a:r>
            <a:r>
              <a:rPr b="1" lang="pt-BR" sz="2000" spc="-1" strike="noStrike" u="sng">
                <a:solidFill>
                  <a:srgbClr val="ffffff"/>
                </a:solidFill>
                <a:uFillTx/>
                <a:latin typeface="Arial"/>
              </a:rPr>
              <a:t> + % Fe</a:t>
            </a:r>
            <a:r>
              <a:rPr b="1" lang="pt-BR" sz="2000" spc="-1" strike="noStrike" u="sng" baseline="-25000">
                <a:solidFill>
                  <a:srgbClr val="ffffff"/>
                </a:solidFill>
                <a:uFillTx/>
                <a:latin typeface="Arial"/>
              </a:rPr>
              <a:t>2</a:t>
            </a:r>
            <a:r>
              <a:rPr b="1" lang="pt-BR" sz="2000" spc="-1" strike="noStrike" u="sng">
                <a:solidFill>
                  <a:srgbClr val="ffffff"/>
                </a:solidFill>
                <a:uFillTx/>
                <a:latin typeface="Arial"/>
              </a:rPr>
              <a:t>O</a:t>
            </a:r>
            <a:r>
              <a:rPr b="1" lang="pt-BR" sz="2000" spc="-1" strike="noStrike" u="sng" baseline="-25000">
                <a:solidFill>
                  <a:srgbClr val="ffffff"/>
                </a:solidFill>
                <a:uFillTx/>
                <a:latin typeface="Arial"/>
              </a:rPr>
              <a:t>3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0,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% Ca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5400000">
            <a:off x="6819480" y="1333440"/>
            <a:ext cx="685800" cy="762120"/>
          </a:xfrm>
          <a:custGeom>
            <a:avLst/>
            <a:gdLst>
              <a:gd name="textAreaLeft" fmla="*/ 0 w 685800"/>
              <a:gd name="textAreaRight" fmla="*/ 686160 w 6858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905120" y="3429000"/>
            <a:ext cx="1752480" cy="38088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CALCÁRIO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905120" y="4495680"/>
            <a:ext cx="2066760" cy="30492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IMPUREZA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5410080"/>
            <a:ext cx="3581280" cy="83844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CLASSIFICAÇÃO: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TEOR DE ÓXIDO DE MAGNÉSIO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2012760" y="3854160"/>
            <a:ext cx="360360" cy="576000"/>
          </a:xfrm>
          <a:prstGeom prst="lef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2012760" y="4844520"/>
            <a:ext cx="360360" cy="576000"/>
          </a:xfrm>
          <a:prstGeom prst="lef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48320" y="3657600"/>
            <a:ext cx="4343400" cy="15238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33"/>
              </a:gs>
              <a:gs pos="50000">
                <a:srgbClr val="ffff66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mericana XBd BT"/>
              </a:rPr>
              <a:t>CAL CÁLCICA: MgO ≤ 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mericana XBd BT"/>
              </a:rPr>
              <a:t>CAL MAGNESIANA: MgO : 5-2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mericana XBd BT"/>
              </a:rPr>
              <a:t>CAL DOLOMÍTICA: MgO : 20-4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8100000">
            <a:off x="4190400" y="5181120"/>
            <a:ext cx="468360" cy="576360"/>
          </a:xfrm>
          <a:prstGeom prst="lef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752480" y="533520"/>
            <a:ext cx="3200400" cy="59364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OBTENÇÃ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752480" y="3276720"/>
            <a:ext cx="3581640" cy="38088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REAÇÃO DE QUEIMA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752480" y="1295280"/>
            <a:ext cx="5486400" cy="1447560"/>
            <a:chOff x="1752480" y="1295280"/>
            <a:chExt cx="5486400" cy="1447560"/>
          </a:xfrm>
        </p:grpSpPr>
        <p:sp>
          <p:nvSpPr>
            <p:cNvPr id="208" name=""/>
            <p:cNvSpPr/>
            <p:nvPr/>
          </p:nvSpPr>
          <p:spPr>
            <a:xfrm>
              <a:off x="1752480" y="1295280"/>
              <a:ext cx="5486400" cy="1447560"/>
            </a:xfrm>
            <a:prstGeom prst="flowChartInternalStorag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mericana XBd BT"/>
                </a:rPr>
                <a:t>EXTRAÇÃO DO CALCÁRIO (CaCO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mericana XBd BT"/>
                </a:rPr>
                <a:t>3</a:t>
              </a:r>
              <a:r>
                <a:rPr b="0" lang="pt-BR" sz="2000" spc="-1" strike="noStrike">
                  <a:solidFill>
                    <a:srgbClr val="000000"/>
                  </a:solidFill>
                  <a:latin typeface="Americana XBd BT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mericana XBd BT"/>
                </a:rPr>
                <a:t>BRITAGE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mericana XBd BT"/>
                </a:rPr>
                <a:t>QUEIM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6200000">
              <a:off x="1697760" y="1730520"/>
              <a:ext cx="1143000" cy="576360"/>
            </a:xfrm>
            <a:prstGeom prst="leftArrow">
              <a:avLst>
                <a:gd name="adj1" fmla="val 50000"/>
                <a:gd name="adj2" fmla="val 49578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752480" y="3809880"/>
            <a:ext cx="44960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900º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CaCO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Americana XBd BT"/>
              </a:rPr>
              <a:t>3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  CaO + CO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Americana XBd BT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pt-BR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CAL VI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OU VIRG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419720" y="4723920"/>
            <a:ext cx="380880" cy="304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38480" y="4648320"/>
            <a:ext cx="533520" cy="0"/>
          </a:xfrm>
          <a:prstGeom prst="line">
            <a:avLst/>
          </a:prstGeom>
          <a:ln w="9360">
            <a:solidFill>
              <a:srgbClr val="f0f6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10160" y="115920"/>
            <a:ext cx="286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9966"/>
                </a:solidFill>
                <a:latin typeface="Times New Roman"/>
              </a:rPr>
              <a:t>Program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606680" y="1019160"/>
          <a:ext cx="7142040" cy="5457960"/>
        </p:xfrm>
        <a:graphic>
          <a:graphicData uri="http://schemas.openxmlformats.org/drawingml/2006/table">
            <a:tbl>
              <a:tblPr/>
              <a:tblGrid>
                <a:gridCol w="1042920"/>
                <a:gridCol w="1697040"/>
                <a:gridCol w="44020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MA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A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ÓPIC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6/m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PRESENTAÇÃO DO CUR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9/m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IPOS DE MATERIAIS E PROPRIEDAD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/m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GREGAD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6/m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/m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AGLOMERANT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3/m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7/m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CRE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0/m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/ab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/ab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/ab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/ab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7/ab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VA 1º BIMEST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/ab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Ç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4/ab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7/ab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9/abr a 6/ma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MANINH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1905120" y="457200"/>
            <a:ext cx="4267080" cy="51768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ENDURECIMEN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76520" y="3657600"/>
            <a:ext cx="44193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66"/>
                </a:solidFill>
                <a:latin typeface="Americana XBd BT"/>
              </a:rPr>
              <a:t>SECAGEM E ENDURECIMENT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66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66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66"/>
                </a:solidFill>
                <a:latin typeface="Americana XBd BT"/>
              </a:rPr>
              <a:t>        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grandes crista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66"/>
                </a:solidFill>
                <a:latin typeface="Americana XBd BT"/>
              </a:rPr>
              <a:t>Ca(OH) </a:t>
            </a:r>
            <a:r>
              <a:rPr b="0" lang="pt-BR" sz="1800" spc="-1" strike="noStrike" baseline="-25000">
                <a:solidFill>
                  <a:srgbClr val="ffff66"/>
                </a:solidFill>
                <a:latin typeface="Americana XBd BT"/>
              </a:rPr>
              <a:t>2</a:t>
            </a:r>
            <a:r>
              <a:rPr b="0" lang="pt-BR" sz="1800" spc="-1" strike="noStrike">
                <a:solidFill>
                  <a:srgbClr val="ffff66"/>
                </a:solidFill>
                <a:latin typeface="Americana XBd BT"/>
              </a:rPr>
              <a:t> + CO</a:t>
            </a:r>
            <a:r>
              <a:rPr b="0" lang="pt-BR" sz="1800" spc="-1" strike="noStrike" baseline="-25000">
                <a:solidFill>
                  <a:srgbClr val="ffff66"/>
                </a:solidFill>
                <a:latin typeface="Americana XBd BT"/>
              </a:rPr>
              <a:t>2</a:t>
            </a:r>
            <a:r>
              <a:rPr b="0" lang="pt-BR" sz="1800" spc="-1" strike="noStrike">
                <a:solidFill>
                  <a:srgbClr val="ffff66"/>
                </a:solidFill>
                <a:latin typeface="Americana XBd BT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mericana XBd BT"/>
              </a:rPr>
              <a:t>→</a:t>
            </a:r>
            <a:r>
              <a:rPr b="0" lang="pt-BR" sz="1800" spc="-1" strike="noStrike">
                <a:solidFill>
                  <a:srgbClr val="ffff66"/>
                </a:solidFill>
                <a:latin typeface="Americana XBd BT"/>
              </a:rPr>
              <a:t> CaCO</a:t>
            </a:r>
            <a:r>
              <a:rPr b="0" lang="pt-BR" sz="1800" spc="-1" strike="noStrike" baseline="-25000">
                <a:solidFill>
                  <a:srgbClr val="ffff66"/>
                </a:solidFill>
                <a:latin typeface="Americana XBd BT"/>
              </a:rPr>
              <a:t>3</a:t>
            </a:r>
            <a:r>
              <a:rPr b="0" lang="pt-BR" sz="1800" spc="-1" strike="noStrike">
                <a:solidFill>
                  <a:srgbClr val="ffff66"/>
                </a:solidFill>
                <a:latin typeface="Americana XBd BT"/>
              </a:rPr>
              <a:t> + H </a:t>
            </a:r>
            <a:r>
              <a:rPr b="0" lang="pt-BR" sz="1800" spc="-1" strike="noStrike" baseline="-25000">
                <a:solidFill>
                  <a:srgbClr val="ffff66"/>
                </a:solidFill>
                <a:latin typeface="Americana XBd BT"/>
              </a:rPr>
              <a:t>2</a:t>
            </a:r>
            <a:r>
              <a:rPr b="0" lang="pt-BR" sz="1800" spc="-1" strike="noStrike">
                <a:solidFill>
                  <a:srgbClr val="ffff66"/>
                </a:solidFill>
                <a:latin typeface="Americana XBd BT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66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66"/>
                </a:solidFill>
                <a:latin typeface="Americana XBd BT"/>
              </a:rPr>
              <a:t>        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retração         dificulta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           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entrada do CO</a:t>
            </a:r>
            <a:r>
              <a:rPr b="0" lang="pt-BR" sz="1800" spc="-1" strike="noStrike" baseline="-25000">
                <a:solidFill>
                  <a:srgbClr val="ffffff"/>
                </a:solidFill>
                <a:latin typeface="Americana XBd BT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      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argamas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962520" y="449568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505320" y="51811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4495680" y="5181120"/>
            <a:ext cx="15264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2700000">
            <a:off x="3085560" y="4609800"/>
            <a:ext cx="609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66"/>
                </a:solidFill>
                <a:latin typeface="Arial"/>
              </a:rPr>
              <a:t>águ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181480" y="1066680"/>
            <a:ext cx="3809880" cy="3124440"/>
            <a:chOff x="5181480" y="1066680"/>
            <a:chExt cx="3809880" cy="3124440"/>
          </a:xfrm>
        </p:grpSpPr>
        <p:sp>
          <p:nvSpPr>
            <p:cNvPr id="220" name=""/>
            <p:cNvSpPr/>
            <p:nvPr/>
          </p:nvSpPr>
          <p:spPr>
            <a:xfrm>
              <a:off x="5181480" y="1066680"/>
              <a:ext cx="3809880" cy="312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just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 u="sng">
                  <a:solidFill>
                    <a:srgbClr val="ffff66"/>
                  </a:solidFill>
                  <a:uFillTx/>
                  <a:latin typeface="Americana XBd BT"/>
                </a:rPr>
                <a:t>OCORRE EM DUAS FAS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66"/>
                  </a:solidFill>
                  <a:latin typeface="Americana XBd BT"/>
                </a:rPr>
                <a:t>HIDRATAÇÃO:</a:t>
              </a:r>
              <a:r>
                <a:rPr b="0" lang="pt-BR" sz="1800" spc="-1" strike="noStrike">
                  <a:solidFill>
                    <a:srgbClr val="ffffff"/>
                  </a:solidFill>
                  <a:latin typeface="Americana XBd BT"/>
                </a:rPr>
                <a:t> </a:t>
              </a:r>
              <a:r>
                <a:rPr b="0" lang="pt-BR" sz="1800" spc="-1" strike="noStrike">
                  <a:solidFill>
                    <a:srgbClr val="ffffff"/>
                  </a:solidFill>
                  <a:latin typeface="Americana XBd BT"/>
                </a:rPr>
                <a:t>	</a:t>
              </a:r>
              <a:r>
                <a:rPr b="0" lang="pt-BR" sz="1800" spc="-1" strike="noStrike">
                  <a:solidFill>
                    <a:srgbClr val="ffffff"/>
                  </a:solidFill>
                  <a:latin typeface="Americana XBd BT"/>
                </a:rPr>
                <a:t>ou extinçã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mericana XBd BT"/>
                </a:rPr>
                <a:t>	</a:t>
              </a:r>
              <a:r>
                <a:rPr b="0" lang="pt-BR" sz="1800" spc="-1" strike="noStrike">
                  <a:solidFill>
                    <a:srgbClr val="ffffff"/>
                  </a:solidFill>
                  <a:latin typeface="Americana XBd BT"/>
                </a:rPr>
                <a:t>	</a:t>
              </a:r>
              <a:r>
                <a:rPr b="0" lang="pt-BR" sz="1800" spc="-1" strike="noStrike">
                  <a:solidFill>
                    <a:srgbClr val="ffffff"/>
                  </a:solidFill>
                  <a:latin typeface="Americana XBd BT"/>
                </a:rPr>
                <a:t>cal viva ou virge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66"/>
                  </a:solidFill>
                  <a:latin typeface="Americana XBd BT"/>
                </a:rPr>
                <a:t>CaO + H</a:t>
              </a:r>
              <a:r>
                <a:rPr b="0" lang="pt-BR" sz="1800" spc="-1" strike="noStrike" baseline="-25000">
                  <a:solidFill>
                    <a:srgbClr val="ffff66"/>
                  </a:solidFill>
                  <a:latin typeface="Americana XBd BT"/>
                </a:rPr>
                <a:t>2</a:t>
              </a:r>
              <a:r>
                <a:rPr b="0" lang="pt-BR" sz="1800" spc="-1" strike="noStrike">
                  <a:solidFill>
                    <a:srgbClr val="ffff66"/>
                  </a:solidFill>
                  <a:latin typeface="Americana XBd BT"/>
                </a:rPr>
                <a:t>O → Ca(OH)</a:t>
              </a:r>
              <a:r>
                <a:rPr b="0" lang="pt-BR" sz="1800" spc="-1" strike="noStrike" baseline="-25000">
                  <a:solidFill>
                    <a:srgbClr val="ffff66"/>
                  </a:solidFill>
                  <a:latin typeface="Americana XBd BT"/>
                </a:rPr>
                <a:t>2</a:t>
              </a:r>
              <a:r>
                <a:rPr b="0" lang="pt-BR" sz="1800" spc="-1" strike="noStrike">
                  <a:solidFill>
                    <a:srgbClr val="ffff66"/>
                  </a:solidFill>
                  <a:latin typeface="Americana XBd BT"/>
                </a:rPr>
                <a:t> + cal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66"/>
                  </a:solidFill>
                  <a:latin typeface="Americana XBd BT"/>
                </a:rPr>
                <a:t>	</a:t>
              </a:r>
              <a:r>
                <a:rPr b="0" lang="pt-BR" sz="1800" spc="-1" strike="noStrike">
                  <a:solidFill>
                    <a:srgbClr val="ffff66"/>
                  </a:solidFill>
                  <a:latin typeface="Americana XBd BT"/>
                </a:rPr>
                <a:t>	</a:t>
              </a:r>
              <a:r>
                <a:rPr b="0" lang="pt-BR" sz="1800" spc="-1" strike="noStrike">
                  <a:solidFill>
                    <a:srgbClr val="ffff66"/>
                  </a:solidFill>
                  <a:latin typeface="Americana XBd BT"/>
                </a:rPr>
                <a:t>      </a:t>
              </a:r>
              <a:r>
                <a:rPr b="0" lang="pt-BR" sz="1800" spc="-1" strike="noStrike">
                  <a:solidFill>
                    <a:srgbClr val="ffff66"/>
                  </a:solidFill>
                  <a:latin typeface="Americana XBd BT"/>
                </a:rPr>
                <a:t>cal hidratad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mericana XBd BT"/>
                </a:rPr>
                <a:t>	</a:t>
              </a:r>
              <a:r>
                <a:rPr b="0" lang="pt-BR" sz="1800" spc="-1" strike="noStrike">
                  <a:solidFill>
                    <a:srgbClr val="ffffff"/>
                  </a:solidFill>
                  <a:latin typeface="Americana XBd BT"/>
                </a:rPr>
                <a:t>POUCA ÁGUA: PÓ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mericana XBd BT"/>
                </a:rPr>
                <a:t>	</a:t>
              </a:r>
              <a:r>
                <a:rPr b="0" lang="pt-BR" sz="1800" spc="-1" strike="noStrike">
                  <a:solidFill>
                    <a:srgbClr val="ffffff"/>
                  </a:solidFill>
                  <a:latin typeface="Americana XBd BT"/>
                </a:rPr>
                <a:t>MUITA ÁGUA: PAST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5562360" y="1981080"/>
              <a:ext cx="144792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629040" y="2819520"/>
              <a:ext cx="914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19560" y="342900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086240" y="2819520"/>
              <a:ext cx="30492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492360" y="5877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1752480" y="457200"/>
            <a:ext cx="5029200" cy="45720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RENDIMENTO DA C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905120" y="1295280"/>
            <a:ext cx="2209680" cy="38124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RENDIMENTO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10800000">
            <a:off x="4343040" y="1219320"/>
            <a:ext cx="360360" cy="576000"/>
          </a:xfrm>
          <a:prstGeom prst="lef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952880" y="1219320"/>
            <a:ext cx="3505320" cy="60948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volume de pasta obtido quando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da extinção (hidratação)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905120" y="2543040"/>
            <a:ext cx="1752480" cy="38124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CAL GORDA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38480" y="2438280"/>
            <a:ext cx="4648320" cy="13716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66"/>
                </a:solidFill>
                <a:latin typeface="Arial"/>
                <a:ea typeface="Arial"/>
              </a:rPr>
              <a:t>1 m</a:t>
            </a:r>
            <a:r>
              <a:rPr b="1" lang="pt-BR" sz="2000" spc="-1" strike="noStrike" baseline="30000">
                <a:solidFill>
                  <a:srgbClr val="ffff66"/>
                </a:solidFill>
                <a:latin typeface="Arial"/>
                <a:ea typeface="Arial"/>
              </a:rPr>
              <a:t>3</a:t>
            </a:r>
            <a:r>
              <a:rPr b="1" lang="pt-BR" sz="2000" spc="-1" strike="noStrike">
                <a:solidFill>
                  <a:srgbClr val="ffff66"/>
                </a:solidFill>
                <a:latin typeface="Arial"/>
                <a:ea typeface="Arial"/>
              </a:rPr>
              <a:t> cal &gt; 1,82 m</a:t>
            </a:r>
            <a:r>
              <a:rPr b="1" lang="pt-BR" sz="2000" spc="-1" strike="noStrike" baseline="30000">
                <a:solidFill>
                  <a:srgbClr val="ffff66"/>
                </a:solidFill>
                <a:latin typeface="Arial"/>
                <a:ea typeface="Arial"/>
              </a:rPr>
              <a:t>3</a:t>
            </a:r>
            <a:r>
              <a:rPr b="1" lang="pt-BR" sz="2000" spc="-1" strike="noStrike">
                <a:solidFill>
                  <a:srgbClr val="ffff66"/>
                </a:solidFill>
                <a:latin typeface="Arial"/>
                <a:ea typeface="Arial"/>
              </a:rPr>
              <a:t> de pa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66"/>
                </a:solidFill>
                <a:latin typeface="Arial"/>
                <a:ea typeface="Arial"/>
              </a:rPr>
              <a:t>	</a:t>
            </a:r>
            <a:r>
              <a:rPr b="1" lang="pt-BR" sz="2000" spc="-1" strike="noStrike">
                <a:solidFill>
                  <a:srgbClr val="ffff66"/>
                </a:solidFill>
                <a:latin typeface="Arial"/>
                <a:ea typeface="Arial"/>
              </a:rPr>
              <a:t>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66"/>
                </a:solidFill>
                <a:latin typeface="Arial"/>
                <a:ea typeface="Arial"/>
              </a:rPr>
              <a:t>menos de 550 kg → 1 m</a:t>
            </a:r>
            <a:r>
              <a:rPr b="1" lang="pt-BR" sz="2000" spc="-1" strike="noStrike" baseline="30000">
                <a:solidFill>
                  <a:srgbClr val="ffff66"/>
                </a:solidFill>
                <a:latin typeface="Arial"/>
                <a:ea typeface="Arial"/>
              </a:rPr>
              <a:t>3 </a:t>
            </a:r>
            <a:r>
              <a:rPr b="1" lang="pt-BR" sz="2000" spc="-1" strike="noStrike">
                <a:solidFill>
                  <a:srgbClr val="ffff66"/>
                </a:solidFill>
                <a:latin typeface="Arial"/>
                <a:ea typeface="Arial"/>
              </a:rPr>
              <a:t> de pa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905120" y="4365720"/>
            <a:ext cx="1904760" cy="38088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CAL MAGRA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4343400"/>
            <a:ext cx="4648320" cy="13716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66"/>
                </a:solidFill>
                <a:latin typeface="Arial"/>
                <a:ea typeface="Arial"/>
              </a:rPr>
              <a:t>1 m</a:t>
            </a:r>
            <a:r>
              <a:rPr b="1" lang="pt-BR" sz="2000" spc="-1" strike="noStrike" baseline="30000">
                <a:solidFill>
                  <a:srgbClr val="ffff66"/>
                </a:solidFill>
                <a:latin typeface="Arial"/>
                <a:ea typeface="Arial"/>
              </a:rPr>
              <a:t>3</a:t>
            </a:r>
            <a:r>
              <a:rPr b="1" lang="pt-BR" sz="2000" spc="-1" strike="noStrike">
                <a:solidFill>
                  <a:srgbClr val="ffff66"/>
                </a:solidFill>
                <a:latin typeface="Arial"/>
                <a:ea typeface="Arial"/>
              </a:rPr>
              <a:t> → menos que 1,82 m</a:t>
            </a:r>
            <a:r>
              <a:rPr b="1" lang="pt-BR" sz="2000" spc="-1" strike="noStrike" baseline="30000">
                <a:solidFill>
                  <a:srgbClr val="ffff66"/>
                </a:solidFill>
                <a:latin typeface="Arial"/>
                <a:ea typeface="Arial"/>
              </a:rPr>
              <a:t>3</a:t>
            </a:r>
            <a:r>
              <a:rPr b="1" lang="pt-BR" sz="2000" spc="-1" strike="noStrike">
                <a:solidFill>
                  <a:srgbClr val="ffff66"/>
                </a:solidFill>
                <a:latin typeface="Arial"/>
                <a:ea typeface="Arial"/>
              </a:rPr>
              <a:t> de pa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752480" y="304920"/>
            <a:ext cx="6324840" cy="76176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CUIDADOS QUANDO DA EXTINÇÃ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828800" y="1295280"/>
            <a:ext cx="5334120" cy="38124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Reação de hidratação altamente exotérmica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828800" y="2438280"/>
            <a:ext cx="2209680" cy="38124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Quantidade de água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76720" y="1752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66"/>
                </a:solidFill>
                <a:latin typeface="Arial"/>
                <a:ea typeface="Arial"/>
              </a:rPr>
              <a:t>400º C (cales gord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828800" y="3809880"/>
            <a:ext cx="1828800" cy="38124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Envelhecimento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828800" y="5257800"/>
            <a:ext cx="2209680" cy="38088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Aumento de volume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00400" y="2895480"/>
            <a:ext cx="3886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66"/>
                </a:solidFill>
                <a:latin typeface="Arial"/>
                <a:ea typeface="Arial"/>
              </a:rPr>
              <a:t>Cal queimada – cales gor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66"/>
                </a:solidFill>
                <a:latin typeface="Arial"/>
                <a:ea typeface="Arial"/>
              </a:rPr>
              <a:t>Cal afogada – cales magr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00400" y="426708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66"/>
                </a:solidFill>
                <a:latin typeface="Arial"/>
                <a:ea typeface="Arial"/>
              </a:rPr>
              <a:t>Cal para revestimento: 7 a 10 d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66"/>
                </a:solidFill>
                <a:latin typeface="Arial"/>
                <a:ea typeface="Arial"/>
              </a:rPr>
              <a:t>Cal magnesiana: 14 d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0400" y="57150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66"/>
                </a:solidFill>
                <a:latin typeface="Arial"/>
                <a:ea typeface="Arial"/>
              </a:rPr>
              <a:t>2 a 3 vez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5400000">
            <a:off x="2704680" y="1638360"/>
            <a:ext cx="304920" cy="533160"/>
          </a:xfrm>
          <a:custGeom>
            <a:avLst/>
            <a:gdLst>
              <a:gd name="textAreaLeft" fmla="*/ 101520 w 304920"/>
              <a:gd name="textAreaRight" fmla="*/ 261360 w 304920"/>
              <a:gd name="textAreaTop" fmla="*/ 35640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7539"/>
                </a:moveTo>
                <a:lnTo>
                  <a:pt x="14439" y="17539"/>
                </a:lnTo>
                <a:lnTo>
                  <a:pt x="14439" y="7200"/>
                </a:lnTo>
                <a:lnTo>
                  <a:pt x="11339" y="7200"/>
                </a:lnTo>
                <a:lnTo>
                  <a:pt x="16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1752480" y="533520"/>
            <a:ext cx="3886200" cy="45720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PROPRIEDAD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828800" y="1295280"/>
            <a:ext cx="2895480" cy="30492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DENSIDADE: 3,40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828800" y="1828800"/>
            <a:ext cx="6095880" cy="45720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RESISTÊNCIA MECÂNICA (argamassas)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752480" y="4564080"/>
            <a:ext cx="2057400" cy="30492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CAL VIRGEM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90920" y="2362320"/>
            <a:ext cx="5257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66"/>
                </a:solidFill>
                <a:latin typeface="Arial"/>
                <a:ea typeface="Arial"/>
              </a:rPr>
              <a:t>TRAÇÃO: 2 a 5 kgf/cm</a:t>
            </a:r>
            <a:r>
              <a:rPr b="1" lang="pt-BR" sz="2000" spc="-1" strike="noStrike" baseline="30000">
                <a:solidFill>
                  <a:srgbClr val="ffff66"/>
                </a:solidFill>
                <a:latin typeface="Arial"/>
                <a:ea typeface="Arial"/>
              </a:rPr>
              <a:t>2</a:t>
            </a:r>
            <a:r>
              <a:rPr b="1" lang="pt-BR" sz="2000" spc="-1" strike="noStrike">
                <a:solidFill>
                  <a:srgbClr val="ffff66"/>
                </a:solidFill>
                <a:latin typeface="Arial"/>
                <a:ea typeface="Arial"/>
              </a:rPr>
              <a:t> (28 di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66"/>
                </a:solidFill>
                <a:latin typeface="Arial"/>
                <a:ea typeface="Arial"/>
              </a:rPr>
              <a:t>COMPRESSÃO: 10 a 30 kgf/cm</a:t>
            </a:r>
            <a:r>
              <a:rPr b="1" lang="pt-BR" sz="2000" spc="-1" strike="noStrike" baseline="30000">
                <a:solidFill>
                  <a:srgbClr val="ffff66"/>
                </a:solidFill>
                <a:latin typeface="Arial"/>
                <a:ea typeface="Arial"/>
              </a:rPr>
              <a:t>2</a:t>
            </a:r>
            <a:r>
              <a:rPr b="1" lang="pt-BR" sz="2000" spc="-1" strike="noStrike">
                <a:solidFill>
                  <a:srgbClr val="ffff66"/>
                </a:solidFill>
                <a:latin typeface="Arial"/>
                <a:ea typeface="Arial"/>
              </a:rPr>
              <a:t> (28 di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8320" y="44370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66"/>
                </a:solidFill>
                <a:latin typeface="Arial"/>
                <a:ea typeface="Arial"/>
              </a:rPr>
              <a:t>EXTINÇÃ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676520" y="3505320"/>
            <a:ext cx="6933960" cy="53316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CUIDADOS DE ARMAZENAMEN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752480" y="5334120"/>
            <a:ext cx="2819520" cy="30456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CAL HIDRATADA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10080" y="522936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66"/>
                </a:solidFill>
                <a:latin typeface="Arial"/>
                <a:ea typeface="Arial"/>
              </a:rPr>
              <a:t>CARBONATAÇÃ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10800000">
            <a:off x="4114440" y="4365720"/>
            <a:ext cx="360360" cy="576000"/>
          </a:xfrm>
          <a:prstGeom prst="lef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4876560" y="5157360"/>
            <a:ext cx="360360" cy="576360"/>
          </a:xfrm>
          <a:prstGeom prst="lef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2666880" y="1295280"/>
            <a:ext cx="2438640" cy="83844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CAL HIDRÁULICA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CIMENTO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0800000">
            <a:off x="1980720" y="1218960"/>
            <a:ext cx="360360" cy="990360"/>
          </a:xfrm>
          <a:prstGeom prst="lef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495680" y="2514600"/>
            <a:ext cx="2286000" cy="60480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CAL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HIDRÁULICA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752480" y="380880"/>
            <a:ext cx="6172200" cy="60984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AGLOMERANTES HIDRÁULIC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391520" y="1828800"/>
            <a:ext cx="533160" cy="38088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AR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7772400" y="2743200"/>
            <a:ext cx="914400" cy="45720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ÁGUA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19800000">
            <a:off x="6934320" y="2057040"/>
            <a:ext cx="360360" cy="576360"/>
          </a:xfrm>
          <a:prstGeom prst="lef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162920" y="2743200"/>
            <a:ext cx="360360" cy="576360"/>
          </a:xfrm>
          <a:prstGeom prst="lef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48320" y="4114800"/>
            <a:ext cx="1981080" cy="22860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CIMENTO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7543800" y="3962520"/>
            <a:ext cx="914400" cy="45720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ÁGUA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934320" y="3962520"/>
            <a:ext cx="360360" cy="576000"/>
          </a:xfrm>
          <a:prstGeom prst="lef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590920" y="3505320"/>
            <a:ext cx="1295280" cy="38088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MOAGEM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13500000">
            <a:off x="4070160" y="3625560"/>
            <a:ext cx="360360" cy="576000"/>
          </a:xfrm>
          <a:prstGeom prst="lef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981080" y="4419720"/>
            <a:ext cx="1828800" cy="38088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COZIMENTO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8100000">
            <a:off x="4037760" y="4266720"/>
            <a:ext cx="360360" cy="576360"/>
          </a:xfrm>
          <a:prstGeom prst="lef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981080" y="5486400"/>
            <a:ext cx="2819520" cy="45720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CARACTERÍSTICA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0800000">
            <a:off x="5105160" y="5486040"/>
            <a:ext cx="360360" cy="576360"/>
          </a:xfrm>
          <a:prstGeom prst="lef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715000" y="5562720"/>
            <a:ext cx="2895480" cy="38088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HIDRAULICIDADE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343400" y="2438280"/>
            <a:ext cx="2514600" cy="8384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3886200"/>
            <a:ext cx="2209680" cy="6858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828800" y="5334120"/>
            <a:ext cx="3124080" cy="838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562720" y="5334120"/>
            <a:ext cx="3200400" cy="838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1828800" y="1295280"/>
            <a:ext cx="2438280" cy="38124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MATÉRIA PRIMA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981080" y="2057400"/>
            <a:ext cx="1905120" cy="30492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CALCÁRIO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752480" y="380880"/>
            <a:ext cx="4038840" cy="60984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CAL HIDRÁUL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248520" y="2895480"/>
            <a:ext cx="2286000" cy="60984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ROCHA CALCÁRIO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ARGILOSA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10800000">
            <a:off x="4190760" y="1980720"/>
            <a:ext cx="360360" cy="576360"/>
          </a:xfrm>
          <a:prstGeom prst="lef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28800" y="1981080"/>
            <a:ext cx="2209680" cy="5335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72200" y="2819520"/>
            <a:ext cx="2438280" cy="838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724280" y="1981080"/>
            <a:ext cx="1981440" cy="457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66"/>
                </a:solidFill>
                <a:latin typeface="Arial"/>
                <a:ea typeface="Arial"/>
              </a:rPr>
              <a:t>CaCO</a:t>
            </a:r>
            <a:r>
              <a:rPr b="1" lang="pt-BR" sz="2000" spc="-1" strike="noStrike" baseline="-25000">
                <a:solidFill>
                  <a:srgbClr val="ffff66"/>
                </a:solidFill>
                <a:latin typeface="Arial"/>
                <a:ea typeface="Arial"/>
              </a:rPr>
              <a:t>3</a:t>
            </a:r>
            <a:r>
              <a:rPr b="1" lang="pt-BR" sz="2000" spc="-1" strike="noStrike">
                <a:solidFill>
                  <a:srgbClr val="ffff66"/>
                </a:solidFill>
                <a:latin typeface="Arial"/>
                <a:ea typeface="Arial"/>
              </a:rPr>
              <a:t> + argi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76520" y="2819520"/>
            <a:ext cx="4343400" cy="838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66"/>
                </a:solidFill>
                <a:latin typeface="Arial"/>
                <a:ea typeface="Arial"/>
              </a:rPr>
              <a:t>CaCO</a:t>
            </a:r>
            <a:r>
              <a:rPr b="1" lang="pt-BR" sz="2000" spc="-1" strike="noStrike" baseline="-25000">
                <a:solidFill>
                  <a:srgbClr val="ffff66"/>
                </a:solidFill>
                <a:latin typeface="Arial"/>
                <a:ea typeface="Arial"/>
              </a:rPr>
              <a:t>3</a:t>
            </a:r>
            <a:r>
              <a:rPr b="1" lang="pt-BR" sz="2000" spc="-1" strike="noStrike">
                <a:solidFill>
                  <a:srgbClr val="ffff66"/>
                </a:solidFill>
                <a:latin typeface="Arial"/>
                <a:ea typeface="Arial"/>
              </a:rPr>
              <a:t> </a:t>
            </a:r>
            <a:r>
              <a:rPr b="1" lang="pt-BR" sz="2000" spc="-1" strike="noStrike">
                <a:solidFill>
                  <a:srgbClr val="ffff66"/>
                </a:solidFill>
                <a:latin typeface="Arial"/>
                <a:ea typeface="Arial"/>
              </a:rPr>
              <a:t>	</a:t>
            </a:r>
            <a:r>
              <a:rPr b="1" lang="pt-BR" sz="2000" spc="-1" strike="noStrike">
                <a:solidFill>
                  <a:srgbClr val="ffff66"/>
                </a:solidFill>
                <a:latin typeface="Arial"/>
                <a:ea typeface="Arial"/>
              </a:rPr>
              <a:t>     +     SiO</a:t>
            </a:r>
            <a:r>
              <a:rPr b="1" lang="pt-BR" sz="2000" spc="-1" strike="noStrike" baseline="-25000">
                <a:solidFill>
                  <a:srgbClr val="ffff66"/>
                </a:solidFill>
                <a:latin typeface="Arial"/>
                <a:ea typeface="Arial"/>
              </a:rPr>
              <a:t>2</a:t>
            </a:r>
            <a:r>
              <a:rPr b="1" lang="pt-BR" sz="2000" spc="-1" strike="noStrike">
                <a:solidFill>
                  <a:srgbClr val="ffff66"/>
                </a:solidFill>
                <a:latin typeface="Arial"/>
                <a:ea typeface="Arial"/>
              </a:rPr>
              <a:t> , Al</a:t>
            </a:r>
            <a:r>
              <a:rPr b="1" lang="pt-BR" sz="2000" spc="-1" strike="noStrike" baseline="-25000">
                <a:solidFill>
                  <a:srgbClr val="ffff66"/>
                </a:solidFill>
                <a:latin typeface="Arial"/>
                <a:ea typeface="Arial"/>
              </a:rPr>
              <a:t>2</a:t>
            </a:r>
            <a:r>
              <a:rPr b="1" lang="pt-BR" sz="2000" spc="-1" strike="noStrike">
                <a:solidFill>
                  <a:srgbClr val="ffff66"/>
                </a:solidFill>
                <a:latin typeface="Arial"/>
                <a:ea typeface="Arial"/>
              </a:rPr>
              <a:t>O</a:t>
            </a:r>
            <a:r>
              <a:rPr b="1" lang="pt-BR" sz="2000" spc="-1" strike="noStrike" baseline="-25000">
                <a:solidFill>
                  <a:srgbClr val="ffff66"/>
                </a:solidFill>
                <a:latin typeface="Arial"/>
                <a:ea typeface="Arial"/>
              </a:rPr>
              <a:t>3</a:t>
            </a:r>
            <a:r>
              <a:rPr b="1" lang="pt-BR" sz="2000" spc="-1" strike="noStrike">
                <a:solidFill>
                  <a:srgbClr val="ffff66"/>
                </a:solidFill>
                <a:latin typeface="Arial"/>
                <a:ea typeface="Arial"/>
              </a:rPr>
              <a:t> , Fe</a:t>
            </a:r>
            <a:r>
              <a:rPr b="1" lang="pt-BR" sz="2000" spc="-1" strike="noStrike" baseline="-25000">
                <a:solidFill>
                  <a:srgbClr val="ffff66"/>
                </a:solidFill>
                <a:latin typeface="Arial"/>
                <a:ea typeface="Arial"/>
              </a:rPr>
              <a:t>2</a:t>
            </a:r>
            <a:r>
              <a:rPr b="1" lang="pt-BR" sz="2000" spc="-1" strike="noStrike">
                <a:solidFill>
                  <a:srgbClr val="ffff66"/>
                </a:solidFill>
                <a:latin typeface="Arial"/>
                <a:ea typeface="Arial"/>
              </a:rPr>
              <a:t>O</a:t>
            </a:r>
            <a:r>
              <a:rPr b="1" lang="pt-BR" sz="2000" spc="-1" strike="noStrike" baseline="-25000">
                <a:solidFill>
                  <a:srgbClr val="ffff66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calcário</a:t>
            </a:r>
            <a:r>
              <a:rPr b="1" lang="pt-BR" sz="2000" spc="-1" strike="noStrike">
                <a:solidFill>
                  <a:srgbClr val="ffff66"/>
                </a:solidFill>
                <a:latin typeface="Arial"/>
                <a:ea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argi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6895800" y="2019240"/>
            <a:ext cx="685800" cy="762120"/>
          </a:xfrm>
          <a:custGeom>
            <a:avLst/>
            <a:gdLst>
              <a:gd name="textAreaLeft" fmla="*/ 0 w 685800"/>
              <a:gd name="textAreaRight" fmla="*/ 686160 w 6858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257800" y="3657600"/>
            <a:ext cx="1752480" cy="228600"/>
          </a:xfrm>
          <a:custGeom>
            <a:avLst/>
            <a:gdLst>
              <a:gd name="textAreaLeft" fmla="*/ 306720 w 1752480"/>
              <a:gd name="textAreaRight" fmla="*/ 1270800 w 175248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09680" y="4648320"/>
            <a:ext cx="5026320" cy="8683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66"/>
                </a:solidFill>
                <a:latin typeface="Arial"/>
                <a:ea typeface="Arial"/>
              </a:rPr>
              <a:t>0,10 </a:t>
            </a:r>
            <a:r>
              <a:rPr b="1" lang="pt-BR" sz="2000" spc="-1" strike="noStrike" u="sng">
                <a:solidFill>
                  <a:srgbClr val="ffff66"/>
                </a:solidFill>
                <a:uFillTx/>
                <a:latin typeface="Arial"/>
                <a:ea typeface="Arial"/>
              </a:rPr>
              <a:t>≤ % SiO</a:t>
            </a:r>
            <a:r>
              <a:rPr b="1" lang="pt-BR" sz="2000" spc="-1" strike="noStrike" u="sng" baseline="-25000">
                <a:solidFill>
                  <a:srgbClr val="ffff66"/>
                </a:solidFill>
                <a:uFillTx/>
                <a:latin typeface="Arial"/>
                <a:ea typeface="Arial"/>
              </a:rPr>
              <a:t>2</a:t>
            </a:r>
            <a:r>
              <a:rPr b="1" lang="pt-BR" sz="2000" spc="-1" strike="noStrike" u="sng">
                <a:solidFill>
                  <a:srgbClr val="ffff66"/>
                </a:solidFill>
                <a:uFillTx/>
                <a:latin typeface="Arial"/>
                <a:ea typeface="Arial"/>
              </a:rPr>
              <a:t> + %Al</a:t>
            </a:r>
            <a:r>
              <a:rPr b="1" lang="pt-BR" sz="2000" spc="-1" strike="noStrike" u="sng" baseline="-25000">
                <a:solidFill>
                  <a:srgbClr val="ffff66"/>
                </a:solidFill>
                <a:uFillTx/>
                <a:latin typeface="Arial"/>
                <a:ea typeface="Arial"/>
              </a:rPr>
              <a:t>2</a:t>
            </a:r>
            <a:r>
              <a:rPr b="1" lang="pt-BR" sz="2000" spc="-1" strike="noStrike" u="sng">
                <a:solidFill>
                  <a:srgbClr val="ffff66"/>
                </a:solidFill>
                <a:uFillTx/>
                <a:latin typeface="Arial"/>
                <a:ea typeface="Arial"/>
              </a:rPr>
              <a:t>O</a:t>
            </a:r>
            <a:r>
              <a:rPr b="1" lang="pt-BR" sz="2000" spc="-1" strike="noStrike" u="sng" baseline="-25000">
                <a:solidFill>
                  <a:srgbClr val="ffff66"/>
                </a:solidFill>
                <a:uFillTx/>
                <a:latin typeface="Arial"/>
                <a:ea typeface="Arial"/>
              </a:rPr>
              <a:t>3</a:t>
            </a:r>
            <a:r>
              <a:rPr b="1" lang="pt-BR" sz="2000" spc="-1" strike="noStrike" u="sng">
                <a:solidFill>
                  <a:srgbClr val="ffff66"/>
                </a:solidFill>
                <a:uFillTx/>
                <a:latin typeface="Arial"/>
                <a:ea typeface="Arial"/>
              </a:rPr>
              <a:t> + %Fe</a:t>
            </a:r>
            <a:r>
              <a:rPr b="1" lang="pt-BR" sz="2000" spc="-1" strike="noStrike" u="sng" baseline="-25000">
                <a:solidFill>
                  <a:srgbClr val="ffff66"/>
                </a:solidFill>
                <a:uFillTx/>
                <a:latin typeface="Arial"/>
                <a:ea typeface="Arial"/>
              </a:rPr>
              <a:t>2</a:t>
            </a:r>
            <a:r>
              <a:rPr b="1" lang="pt-BR" sz="2000" spc="-1" strike="noStrike" u="sng">
                <a:solidFill>
                  <a:srgbClr val="ffff66"/>
                </a:solidFill>
                <a:uFillTx/>
                <a:latin typeface="Arial"/>
                <a:ea typeface="Arial"/>
              </a:rPr>
              <a:t>O</a:t>
            </a:r>
            <a:r>
              <a:rPr b="1" lang="pt-BR" sz="2000" spc="-1" strike="noStrike" u="sng" baseline="-25000">
                <a:solidFill>
                  <a:srgbClr val="ffff66"/>
                </a:solidFill>
                <a:uFillTx/>
                <a:latin typeface="Arial"/>
                <a:ea typeface="Arial"/>
              </a:rPr>
              <a:t>3 </a:t>
            </a:r>
            <a:r>
              <a:rPr b="1" lang="pt-BR" sz="2000" spc="-1" strike="noStrike" baseline="-25000">
                <a:solidFill>
                  <a:srgbClr val="ffff66"/>
                </a:solidFill>
                <a:latin typeface="Arial"/>
                <a:ea typeface="Arial"/>
              </a:rPr>
              <a:t> </a:t>
            </a:r>
            <a:r>
              <a:rPr b="1" lang="pt-BR" sz="2000" spc="-1" strike="noStrike">
                <a:solidFill>
                  <a:srgbClr val="ffff66"/>
                </a:solidFill>
                <a:latin typeface="Arial"/>
                <a:ea typeface="Arial"/>
              </a:rPr>
              <a:t>≤ 0,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66"/>
                </a:solidFill>
                <a:latin typeface="Arial"/>
                <a:ea typeface="Arial"/>
              </a:rPr>
              <a:t>	</a:t>
            </a:r>
            <a:r>
              <a:rPr b="1" lang="pt-BR" sz="2000" spc="-1" strike="noStrike">
                <a:solidFill>
                  <a:srgbClr val="ffff66"/>
                </a:solidFill>
                <a:latin typeface="Arial"/>
                <a:ea typeface="Arial"/>
              </a:rPr>
              <a:t>	</a:t>
            </a:r>
            <a:r>
              <a:rPr b="1" lang="pt-BR" sz="2000" spc="-1" strike="noStrike">
                <a:solidFill>
                  <a:srgbClr val="ffff66"/>
                </a:solidFill>
                <a:latin typeface="Arial"/>
                <a:ea typeface="Arial"/>
              </a:rPr>
              <a:t>%Ca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843280" y="5877000"/>
            <a:ext cx="167616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cal / calcá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267080" y="541008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132000" y="3979800"/>
            <a:ext cx="9144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argi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043520" y="4343400"/>
            <a:ext cx="4572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248520" y="457200"/>
            <a:ext cx="2438280" cy="106668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Extração do calcário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Britagem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Queima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Extinção da cal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752480" y="380880"/>
            <a:ext cx="3124440" cy="60984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OBTENÇÃ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828800" y="1371600"/>
            <a:ext cx="1752480" cy="30492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QUEIMA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5164920" y="702000"/>
            <a:ext cx="1066680" cy="576360"/>
          </a:xfrm>
          <a:prstGeom prst="leftArrow">
            <a:avLst>
              <a:gd name="adj1" fmla="val 50000"/>
              <a:gd name="adj2" fmla="val 46268"/>
            </a:avLst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828800" y="1828800"/>
            <a:ext cx="6553080" cy="1752480"/>
            <a:chOff x="1828800" y="1828800"/>
            <a:chExt cx="6553080" cy="1752480"/>
          </a:xfrm>
        </p:grpSpPr>
        <p:sp>
          <p:nvSpPr>
            <p:cNvPr id="298" name=""/>
            <p:cNvSpPr/>
            <p:nvPr/>
          </p:nvSpPr>
          <p:spPr>
            <a:xfrm>
              <a:off x="1828800" y="1828800"/>
              <a:ext cx="655308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66"/>
                  </a:solidFill>
                  <a:latin typeface="Arial"/>
                  <a:ea typeface="Arial"/>
                </a:rPr>
                <a:t>900ºC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66"/>
                  </a:solidFill>
                  <a:latin typeface="Arial"/>
                  <a:ea typeface="Arial"/>
                </a:rPr>
                <a:t>	</a:t>
              </a:r>
              <a:r>
                <a:rPr b="1" lang="pt-BR" sz="2000" spc="-1" strike="noStrike">
                  <a:solidFill>
                    <a:srgbClr val="ffff66"/>
                  </a:solidFill>
                  <a:latin typeface="Arial"/>
                  <a:ea typeface="Arial"/>
                </a:rPr>
                <a:t>calcário</a:t>
              </a:r>
              <a:r>
                <a:rPr b="1" lang="pt-BR" sz="2000" spc="-1" strike="noStrike">
                  <a:solidFill>
                    <a:srgbClr val="ffff66"/>
                  </a:solidFill>
                  <a:latin typeface="Arial"/>
                  <a:ea typeface="Arial"/>
                </a:rPr>
                <a:t>	</a:t>
              </a:r>
              <a:r>
                <a:rPr b="1" lang="pt-BR" sz="2000" spc="-1" strike="noStrike">
                  <a:solidFill>
                    <a:srgbClr val="ffff66"/>
                  </a:solidFill>
                  <a:latin typeface="Arial"/>
                  <a:ea typeface="Arial"/>
                </a:rPr>
                <a:t>Δ </a:t>
              </a:r>
              <a:r>
                <a:rPr b="1" lang="pt-BR" sz="2000" spc="-1" strike="noStrike">
                  <a:solidFill>
                    <a:srgbClr val="ffff66"/>
                  </a:solidFill>
                  <a:latin typeface="Arial"/>
                  <a:ea typeface="Arial"/>
                </a:rPr>
                <a:t>	</a:t>
              </a:r>
              <a:r>
                <a:rPr b="1" lang="pt-BR" sz="2000" spc="-1" strike="noStrike">
                  <a:solidFill>
                    <a:srgbClr val="ffff66"/>
                  </a:solidFill>
                  <a:latin typeface="Arial"/>
                  <a:ea typeface="Arial"/>
                </a:rPr>
                <a:t>cal virge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66"/>
                  </a:solidFill>
                  <a:latin typeface="Arial"/>
                  <a:ea typeface="Arial"/>
                </a:rPr>
                <a:t>	</a:t>
              </a:r>
              <a:r>
                <a:rPr b="1" lang="pt-BR" sz="2000" spc="-1" strike="noStrike">
                  <a:solidFill>
                    <a:srgbClr val="ffff66"/>
                  </a:solidFill>
                  <a:latin typeface="Arial"/>
                  <a:ea typeface="Arial"/>
                </a:rPr>
                <a:t>	</a:t>
              </a:r>
              <a:r>
                <a:rPr b="1" lang="pt-BR" sz="2000" spc="-1" strike="noStrike">
                  <a:solidFill>
                    <a:srgbClr val="ffff66"/>
                  </a:solidFill>
                  <a:latin typeface="Arial"/>
                  <a:ea typeface="Arial"/>
                </a:rPr>
                <a:t>      </a:t>
              </a:r>
              <a:r>
                <a:rPr b="1" lang="pt-BR" sz="2000" spc="-1" strike="noStrike">
                  <a:solidFill>
                    <a:srgbClr val="ffff66"/>
                  </a:solidFill>
                  <a:latin typeface="Arial"/>
                  <a:ea typeface="Arial"/>
                </a:rPr>
                <a:t>Δ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66"/>
                  </a:solidFill>
                  <a:latin typeface="Arial"/>
                  <a:ea typeface="Arial"/>
                </a:rPr>
                <a:t>	</a:t>
              </a:r>
              <a:r>
                <a:rPr b="1" lang="pt-BR" sz="2000" spc="-1" strike="noStrike">
                  <a:solidFill>
                    <a:srgbClr val="ffff66"/>
                  </a:solidFill>
                  <a:latin typeface="Arial"/>
                  <a:ea typeface="Arial"/>
                </a:rPr>
                <a:t>argila</a:t>
              </a:r>
              <a:r>
                <a:rPr b="1" lang="pt-BR" sz="2000" spc="-1" strike="noStrike">
                  <a:solidFill>
                    <a:srgbClr val="ffff66"/>
                  </a:solidFill>
                  <a:latin typeface="Arial"/>
                  <a:ea typeface="Arial"/>
                </a:rPr>
                <a:t>	</a:t>
              </a:r>
              <a:r>
                <a:rPr b="1" lang="pt-BR" sz="2000" spc="-1" strike="noStrike">
                  <a:solidFill>
                    <a:srgbClr val="ffff66"/>
                  </a:solidFill>
                  <a:latin typeface="Arial"/>
                  <a:ea typeface="Arial"/>
                </a:rPr>
                <a:t>	</a:t>
              </a:r>
              <a:r>
                <a:rPr b="1" lang="pt-BR" sz="2000" spc="-1" strike="noStrike">
                  <a:solidFill>
                    <a:srgbClr val="ffff66"/>
                  </a:solidFill>
                  <a:latin typeface="Arial"/>
                  <a:ea typeface="Arial"/>
                </a:rPr>
                <a:t>Δ </a:t>
              </a:r>
              <a:r>
                <a:rPr b="1" lang="pt-BR" sz="2000" spc="-1" strike="noStrike">
                  <a:solidFill>
                    <a:srgbClr val="ffff66"/>
                  </a:solidFill>
                  <a:latin typeface="Arial"/>
                  <a:ea typeface="Arial"/>
                </a:rPr>
                <a:t>	</a:t>
              </a:r>
              <a:r>
                <a:rPr b="1" lang="pt-BR" sz="2000" spc="-1" strike="noStrike">
                  <a:solidFill>
                    <a:srgbClr val="ffff66"/>
                  </a:solidFill>
                  <a:latin typeface="Arial"/>
                  <a:ea typeface="Arial"/>
                </a:rPr>
                <a:t>silicatos e aluminat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66"/>
                  </a:solidFill>
                  <a:latin typeface="Arial"/>
                  <a:ea typeface="Arial"/>
                </a:rPr>
                <a:t>	</a:t>
              </a:r>
              <a:r>
                <a:rPr b="1" lang="pt-BR" sz="2000" spc="-1" strike="noStrike">
                  <a:solidFill>
                    <a:srgbClr val="ffff66"/>
                  </a:solidFill>
                  <a:latin typeface="Arial"/>
                  <a:ea typeface="Arial"/>
                </a:rPr>
                <a:t>	</a:t>
              </a:r>
              <a:r>
                <a:rPr b="1" lang="pt-BR" sz="2000" spc="-1" strike="noStrike">
                  <a:solidFill>
                    <a:srgbClr val="ffff66"/>
                  </a:solidFill>
                  <a:latin typeface="Arial"/>
                  <a:ea typeface="Arial"/>
                </a:rPr>
                <a:t>	</a:t>
              </a:r>
              <a:r>
                <a:rPr b="1" lang="pt-BR" sz="2000" spc="-1" strike="noStrike">
                  <a:solidFill>
                    <a:srgbClr val="ffff66"/>
                  </a:solidFill>
                  <a:latin typeface="Arial"/>
                  <a:ea typeface="Arial"/>
                </a:rPr>
                <a:t>	</a:t>
              </a:r>
              <a:r>
                <a:rPr b="1" lang="pt-BR" sz="2000" spc="-1" strike="noStrike">
                  <a:solidFill>
                    <a:srgbClr val="ffff66"/>
                  </a:solidFill>
                  <a:latin typeface="Arial"/>
                  <a:ea typeface="Arial"/>
                </a:rPr>
                <a:t>de cálci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76920" y="236232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62520" y="236232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876920" y="304812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962520" y="304812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962520" y="2362320"/>
              <a:ext cx="129528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" name=""/>
          <p:cNvSpPr txBox="1"/>
          <p:nvPr/>
        </p:nvSpPr>
        <p:spPr>
          <a:xfrm>
            <a:off x="1828800" y="4191120"/>
            <a:ext cx="2666880" cy="30456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CAL HIDRÁULICA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10800000">
            <a:off x="4800240" y="4114440"/>
            <a:ext cx="360360" cy="576360"/>
          </a:xfrm>
          <a:prstGeom prst="lef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676520" y="3962520"/>
            <a:ext cx="3047760" cy="7617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257800" y="3962520"/>
            <a:ext cx="3657600" cy="7617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66"/>
                </a:solidFill>
                <a:latin typeface="Arial"/>
                <a:ea typeface="Arial"/>
              </a:rPr>
              <a:t>cal aérea + silicatos 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66"/>
                </a:solidFill>
                <a:latin typeface="Arial"/>
                <a:ea typeface="Arial"/>
              </a:rPr>
              <a:t>	</a:t>
            </a:r>
            <a:r>
              <a:rPr b="1" lang="pt-BR" sz="2000" spc="-1" strike="noStrike">
                <a:solidFill>
                  <a:srgbClr val="ffff66"/>
                </a:solidFill>
                <a:latin typeface="Arial"/>
                <a:ea typeface="Arial"/>
              </a:rPr>
              <a:t>aluminatos de cál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828760" y="4762440"/>
            <a:ext cx="762120" cy="1143000"/>
          </a:xfrm>
          <a:prstGeom prst="lef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7428960" y="4533840"/>
            <a:ext cx="762120" cy="1600200"/>
          </a:xfrm>
          <a:prstGeom prst="lef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Águ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1752480" y="380880"/>
            <a:ext cx="3962520" cy="60984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EXTINÇÃO DA C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828800" y="1371600"/>
            <a:ext cx="1523880" cy="30492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FUNÇÃO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1371600"/>
            <a:ext cx="4114800" cy="9144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66"/>
                </a:solidFill>
                <a:latin typeface="Arial"/>
                <a:ea typeface="Arial"/>
              </a:rPr>
              <a:t>Pulverizar a 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66"/>
                </a:solidFill>
                <a:latin typeface="Arial"/>
                <a:ea typeface="Arial"/>
              </a:rPr>
              <a:t>CaCO + H</a:t>
            </a:r>
            <a:r>
              <a:rPr b="1" lang="pt-BR" sz="2000" spc="-1" strike="noStrike" baseline="-25000">
                <a:solidFill>
                  <a:srgbClr val="ffff66"/>
                </a:solidFill>
                <a:latin typeface="Arial"/>
                <a:ea typeface="Arial"/>
              </a:rPr>
              <a:t>2</a:t>
            </a:r>
            <a:r>
              <a:rPr b="1" lang="pt-BR" sz="2000" spc="-1" strike="noStrike">
                <a:solidFill>
                  <a:srgbClr val="ffff66"/>
                </a:solidFill>
                <a:latin typeface="Arial"/>
                <a:ea typeface="Arial"/>
              </a:rPr>
              <a:t>O → Ca(OH)</a:t>
            </a:r>
            <a:r>
              <a:rPr b="1" lang="pt-BR" sz="2000" spc="-1" strike="noStrike" baseline="-25000">
                <a:solidFill>
                  <a:srgbClr val="ffff66"/>
                </a:solidFill>
                <a:latin typeface="Arial"/>
                <a:ea typeface="Arial"/>
              </a:rPr>
              <a:t>2</a:t>
            </a:r>
            <a:r>
              <a:rPr b="1" lang="pt-BR" sz="2000" spc="-1" strike="noStrike">
                <a:solidFill>
                  <a:srgbClr val="ffff66"/>
                </a:solidFill>
                <a:latin typeface="Arial"/>
                <a:ea typeface="Arial"/>
              </a:rPr>
              <a:t> + cal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828800" y="2514600"/>
            <a:ext cx="1828800" cy="30492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MÉTODO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86200" y="2590920"/>
            <a:ext cx="3809880" cy="11430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66"/>
                </a:solidFill>
                <a:latin typeface="Arial"/>
                <a:ea typeface="Arial"/>
              </a:rPr>
              <a:t>IMERSÃ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66"/>
                </a:solidFill>
                <a:latin typeface="Arial"/>
                <a:ea typeface="Arial"/>
              </a:rPr>
              <a:t>ASPERSÃ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66"/>
                </a:solidFill>
                <a:latin typeface="Arial"/>
                <a:ea typeface="Arial"/>
              </a:rPr>
              <a:t>EXTINÇÃO MECÂN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10800000">
            <a:off x="1828800" y="3809880"/>
            <a:ext cx="1866960" cy="914400"/>
          </a:xfrm>
          <a:prstGeom prst="leftArrow">
            <a:avLst>
              <a:gd name="adj1" fmla="val 50000"/>
              <a:gd name="adj2" fmla="val 51043"/>
            </a:avLst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IMERS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809880" y="3962520"/>
            <a:ext cx="236232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66"/>
                </a:solidFill>
                <a:latin typeface="Arial"/>
                <a:ea typeface="Arial"/>
              </a:rPr>
              <a:t>EFERVESCÊ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51280" y="5715000"/>
            <a:ext cx="236232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66"/>
                </a:solidFill>
                <a:latin typeface="Arial"/>
                <a:ea typeface="Arial"/>
              </a:rPr>
              <a:t>ENSAIO PRÉV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0800000">
            <a:off x="1828800" y="5486400"/>
            <a:ext cx="1866960" cy="914400"/>
          </a:xfrm>
          <a:prstGeom prst="leftArrow">
            <a:avLst>
              <a:gd name="adj1" fmla="val 50000"/>
              <a:gd name="adj2" fmla="val 51043"/>
            </a:avLst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ASPERS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629400" y="4191120"/>
            <a:ext cx="2286000" cy="1676160"/>
          </a:xfrm>
          <a:prstGeom prst="leftArrow">
            <a:avLst>
              <a:gd name="adj1" fmla="val 50000"/>
              <a:gd name="adj2" fmla="val 34096"/>
            </a:avLst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190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EXTIN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MECÂN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29000" y="4648320"/>
            <a:ext cx="3124080" cy="761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66"/>
                </a:solidFill>
                <a:latin typeface="Arial"/>
                <a:ea typeface="Arial"/>
              </a:rPr>
              <a:t>CILINDROS ROTA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66"/>
                </a:solidFill>
                <a:latin typeface="Arial"/>
                <a:ea typeface="Arial"/>
              </a:rPr>
              <a:t>T &gt; 150º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29000" y="5029200"/>
            <a:ext cx="3124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752480" y="380880"/>
            <a:ext cx="3962520" cy="60984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CLASSIFICAÇÃ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752480" y="1600200"/>
          <a:ext cx="7086600" cy="4048200"/>
        </p:xfrm>
        <a:graphic>
          <a:graphicData uri="http://schemas.openxmlformats.org/drawingml/2006/table">
            <a:tbl>
              <a:tblPr/>
              <a:tblGrid>
                <a:gridCol w="2133720"/>
                <a:gridCol w="1523880"/>
                <a:gridCol w="1905120"/>
                <a:gridCol w="1523880"/>
              </a:tblGrid>
              <a:tr h="13417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TEOR DE ARGI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ÍNDICE DE HIDRAULIC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 u="sng">
                          <a:solidFill>
                            <a:srgbClr val="ffff66"/>
                          </a:solidFill>
                          <a:uFillTx/>
                          <a:latin typeface="Arial"/>
                        </a:rPr>
                        <a:t>SiO</a:t>
                      </a:r>
                      <a:r>
                        <a:rPr b="1" lang="pt-BR" sz="1800" spc="-1" strike="noStrike" u="sng" baseline="-25000">
                          <a:solidFill>
                            <a:srgbClr val="ffff66"/>
                          </a:solidFill>
                          <a:uFillTx/>
                          <a:latin typeface="Arial"/>
                        </a:rPr>
                        <a:t>2</a:t>
                      </a:r>
                      <a:r>
                        <a:rPr b="1" lang="pt-BR" sz="1800" spc="-1" strike="noStrike" u="sng">
                          <a:solidFill>
                            <a:srgbClr val="ffff66"/>
                          </a:solidFill>
                          <a:uFillTx/>
                          <a:latin typeface="Arial"/>
                        </a:rPr>
                        <a:t> + Al</a:t>
                      </a:r>
                      <a:r>
                        <a:rPr b="1" lang="pt-BR" sz="1800" spc="-1" strike="noStrike" u="sng" baseline="-25000">
                          <a:solidFill>
                            <a:srgbClr val="ffff66"/>
                          </a:solidFill>
                          <a:uFillTx/>
                          <a:latin typeface="Arial"/>
                        </a:rPr>
                        <a:t>2</a:t>
                      </a:r>
                      <a:r>
                        <a:rPr b="1" lang="pt-BR" sz="1800" spc="-1" strike="noStrike" u="sng">
                          <a:solidFill>
                            <a:srgbClr val="ffff66"/>
                          </a:solidFill>
                          <a:uFillTx/>
                          <a:latin typeface="Arial"/>
                        </a:rPr>
                        <a:t>O</a:t>
                      </a:r>
                      <a:r>
                        <a:rPr b="1" lang="pt-BR" sz="1800" spc="-1" strike="noStrike" u="sng" baseline="-25000">
                          <a:solidFill>
                            <a:srgbClr val="ffff66"/>
                          </a:solidFill>
                          <a:uFillTx/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a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URAÇÃO DA PEG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FRACAM. HIDRÁULIC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a 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10 a 0,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a 4 seman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MEDIANA M. HIDRÁULIC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 a 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16 a 0,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a 2 seman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FRANCAMENTE HIDRÁULIC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 a 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30 a 0,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a 6 di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EMINENTEM. HIDRÁULIC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 a 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40 a 0,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dia ou men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1752480" y="457200"/>
            <a:ext cx="3962520" cy="53352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ENDURECIMEN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25" name=""/>
          <p:cNvSpPr/>
          <p:nvPr/>
        </p:nvSpPr>
        <p:spPr>
          <a:xfrm rot="10800000">
            <a:off x="1905120" y="1142640"/>
            <a:ext cx="2743200" cy="838080"/>
          </a:xfrm>
          <a:prstGeom prst="leftArrow">
            <a:avLst>
              <a:gd name="adj1" fmla="val 50000"/>
              <a:gd name="adj2" fmla="val 81830"/>
            </a:avLst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FABRICA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876920" y="137160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66"/>
                </a:solidFill>
                <a:latin typeface="Arial"/>
                <a:ea typeface="Arial"/>
              </a:rPr>
              <a:t>EXTINÇÃ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1905120" y="2057400"/>
            <a:ext cx="2743200" cy="838080"/>
          </a:xfrm>
          <a:prstGeom prst="leftArrow">
            <a:avLst>
              <a:gd name="adj1" fmla="val 50000"/>
              <a:gd name="adj2" fmla="val 81830"/>
            </a:avLst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CaO + H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Americana XBd BT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876920" y="220968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66"/>
                </a:solidFill>
                <a:latin typeface="Arial"/>
                <a:ea typeface="Arial"/>
              </a:rPr>
              <a:t>Ca(OH)</a:t>
            </a:r>
            <a:r>
              <a:rPr b="1" lang="pt-BR" sz="2000" spc="-1" strike="noStrike" baseline="-25000">
                <a:solidFill>
                  <a:srgbClr val="ffff66"/>
                </a:solidFill>
                <a:latin typeface="Arial"/>
                <a:ea typeface="Arial"/>
              </a:rPr>
              <a:t>2</a:t>
            </a:r>
            <a:r>
              <a:rPr b="1" lang="pt-BR" sz="2000" spc="-1" strike="noStrike">
                <a:solidFill>
                  <a:srgbClr val="ffff66"/>
                </a:solidFill>
                <a:latin typeface="Arial"/>
                <a:ea typeface="Arial"/>
              </a:rPr>
              <a:t> + cal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743200" y="3505320"/>
            <a:ext cx="3886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Ca(OH)</a:t>
            </a:r>
            <a:r>
              <a:rPr b="1" lang="pt-BR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 + CO</a:t>
            </a:r>
            <a:r>
              <a:rPr b="1" lang="pt-BR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→ CaCO</a:t>
            </a:r>
            <a:r>
              <a:rPr b="1" lang="pt-BR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 + H</a:t>
            </a:r>
            <a:r>
              <a:rPr b="1" lang="pt-BR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pt-BR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743200" y="4114800"/>
            <a:ext cx="4876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Silicatos e aluminatos de cálcio + água</a:t>
            </a:r>
            <a:r>
              <a:rPr b="1" lang="pt-BR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0800000">
            <a:off x="2133720" y="5105520"/>
            <a:ext cx="3200400" cy="914400"/>
          </a:xfrm>
          <a:prstGeom prst="leftArrow">
            <a:avLst>
              <a:gd name="adj1" fmla="val 50000"/>
              <a:gd name="adj2" fmla="val 87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Aluminatos de cál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410080" y="5334120"/>
            <a:ext cx="26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Hidratam-se primei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828800" y="3048120"/>
            <a:ext cx="3429000" cy="1218960"/>
            <a:chOff x="1828800" y="3048120"/>
            <a:chExt cx="3429000" cy="1218960"/>
          </a:xfrm>
        </p:grpSpPr>
        <p:sp>
          <p:nvSpPr>
            <p:cNvPr id="334" name=""/>
            <p:cNvSpPr/>
            <p:nvPr/>
          </p:nvSpPr>
          <p:spPr>
            <a:xfrm>
              <a:off x="1828800" y="3048120"/>
              <a:ext cx="3429000" cy="457200"/>
            </a:xfrm>
            <a:prstGeom prst="rect">
              <a:avLst/>
            </a:pr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285840" indent="-285840"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AL HIDRÁULICA + ÁGU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286000" y="3505320"/>
              <a:ext cx="45720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286000" y="3505320"/>
              <a:ext cx="45720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1676520" y="4495320"/>
            <a:ext cx="1523880" cy="610200"/>
            <a:chOff x="1676520" y="4495320"/>
            <a:chExt cx="1523880" cy="610200"/>
          </a:xfrm>
        </p:grpSpPr>
        <p:sp>
          <p:nvSpPr>
            <p:cNvPr id="338" name=""/>
            <p:cNvSpPr/>
            <p:nvPr/>
          </p:nvSpPr>
          <p:spPr>
            <a:xfrm>
              <a:off x="1676520" y="4724280"/>
              <a:ext cx="1523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285840" indent="-285840"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66"/>
                  </a:solidFill>
                  <a:latin typeface="Arial"/>
                  <a:ea typeface="Arial"/>
                </a:rPr>
                <a:t>Hidratação</a:t>
              </a:r>
              <a:r>
                <a:rPr b="1" lang="pt-BR" sz="2000" spc="-1" strike="noStrike" baseline="-25000">
                  <a:solidFill>
                    <a:srgbClr val="ffff66"/>
                  </a:solidFill>
                  <a:latin typeface="Arial"/>
                  <a:ea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2209680" y="4495320"/>
              <a:ext cx="53352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019920" y="4419720"/>
            <a:ext cx="2971800" cy="685800"/>
            <a:chOff x="6019920" y="4419720"/>
            <a:chExt cx="2971800" cy="685800"/>
          </a:xfrm>
        </p:grpSpPr>
        <p:sp>
          <p:nvSpPr>
            <p:cNvPr id="341" name=""/>
            <p:cNvSpPr/>
            <p:nvPr/>
          </p:nvSpPr>
          <p:spPr>
            <a:xfrm>
              <a:off x="6019920" y="4724280"/>
              <a:ext cx="29718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285840" indent="-285840"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66"/>
                  </a:solidFill>
                  <a:latin typeface="Arial"/>
                  <a:ea typeface="Arial"/>
                </a:rPr>
                <a:t>Compostos hidratados</a:t>
              </a:r>
              <a:r>
                <a:rPr b="1" lang="pt-BR" sz="2000" spc="-1" strike="noStrike" baseline="-25000">
                  <a:solidFill>
                    <a:srgbClr val="ffff66"/>
                  </a:solidFill>
                  <a:latin typeface="Arial"/>
                  <a:ea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96080" y="4419720"/>
              <a:ext cx="22860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6933960" y="5790960"/>
            <a:ext cx="1371960" cy="457560"/>
            <a:chOff x="6933960" y="5790960"/>
            <a:chExt cx="1371960" cy="457560"/>
          </a:xfrm>
        </p:grpSpPr>
        <p:sp>
          <p:nvSpPr>
            <p:cNvPr id="344" name=""/>
            <p:cNvSpPr/>
            <p:nvPr/>
          </p:nvSpPr>
          <p:spPr>
            <a:xfrm>
              <a:off x="7467480" y="5867280"/>
              <a:ext cx="8384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285840" indent="-285840"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66"/>
                  </a:solidFill>
                  <a:latin typeface="Arial"/>
                  <a:ea typeface="Arial"/>
                </a:rPr>
                <a:t>Pega</a:t>
              </a:r>
              <a:r>
                <a:rPr b="1" lang="pt-BR" sz="2000" spc="-1" strike="noStrike" baseline="-25000">
                  <a:solidFill>
                    <a:srgbClr val="ffff66"/>
                  </a:solidFill>
                  <a:latin typeface="Arial"/>
                  <a:ea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933960" y="5790960"/>
              <a:ext cx="53316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5943600" y="3048120"/>
            <a:ext cx="2514600" cy="457200"/>
            <a:chOff x="5943600" y="3048120"/>
            <a:chExt cx="2514600" cy="457200"/>
          </a:xfrm>
        </p:grpSpPr>
        <p:sp>
          <p:nvSpPr>
            <p:cNvPr id="347" name=""/>
            <p:cNvSpPr/>
            <p:nvPr/>
          </p:nvSpPr>
          <p:spPr>
            <a:xfrm>
              <a:off x="6477120" y="3048120"/>
              <a:ext cx="19810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285840" indent="-285840"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66"/>
                  </a:solidFill>
                  <a:latin typeface="Arial"/>
                  <a:ea typeface="Arial"/>
                </a:rPr>
                <a:t>Carbonatação</a:t>
              </a:r>
              <a:r>
                <a:rPr b="1" lang="pt-BR" sz="2000" spc="-1" strike="noStrike" baseline="-25000">
                  <a:solidFill>
                    <a:srgbClr val="ffff66"/>
                  </a:solidFill>
                  <a:latin typeface="Arial"/>
                  <a:ea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5943600" y="3276720"/>
              <a:ext cx="53352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600200" y="611280"/>
            <a:ext cx="3962520" cy="68580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HISTÓRIC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0920" y="1557360"/>
            <a:ext cx="3097440" cy="792000"/>
          </a:xfrm>
          <a:prstGeom prst="rightArrow">
            <a:avLst>
              <a:gd name="adj1" fmla="val 50000"/>
              <a:gd name="adj2" fmla="val 97773"/>
            </a:avLst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1º AGLOMERA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35640" y="1628640"/>
            <a:ext cx="1297080" cy="72072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66"/>
                </a:solidFill>
                <a:latin typeface="Arial"/>
              </a:rPr>
              <a:t>ARGI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0920" y="2494080"/>
            <a:ext cx="3097440" cy="792000"/>
          </a:xfrm>
          <a:prstGeom prst="rightArrow">
            <a:avLst>
              <a:gd name="adj1" fmla="val 50000"/>
              <a:gd name="adj2" fmla="val 97773"/>
            </a:avLst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9933"/>
                </a:solidFill>
                <a:latin typeface="Arial"/>
              </a:rPr>
              <a:t>ENDURECIM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35640" y="2565360"/>
            <a:ext cx="3313080" cy="7207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9933"/>
                </a:solidFill>
                <a:latin typeface="Arial"/>
              </a:rPr>
              <a:t>EVAPORAÇÃO DA ÁGU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573360"/>
            <a:ext cx="216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9933"/>
                </a:solidFill>
                <a:latin typeface="Arial"/>
              </a:rPr>
              <a:t>QUIMICAM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9933"/>
                </a:solidFill>
                <a:latin typeface="Arial"/>
              </a:rPr>
              <a:t>INAT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32720" y="3573360"/>
            <a:ext cx="216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9933"/>
                </a:solidFill>
                <a:latin typeface="Arial"/>
              </a:rPr>
              <a:t>SENSÍ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9933"/>
                </a:solidFill>
                <a:latin typeface="Arial"/>
              </a:rPr>
              <a:t>A ÁGU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80000" y="4581360"/>
            <a:ext cx="3313080" cy="72072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SILICATOS DE ALUMÍN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80000" y="5373720"/>
            <a:ext cx="3313080" cy="8636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ESPONSÁVEL PELA RESISTÊ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579640" y="3286080"/>
            <a:ext cx="360360" cy="5047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04000" y="3286080"/>
            <a:ext cx="216000" cy="57636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372360" y="3286080"/>
            <a:ext cx="0" cy="1079640"/>
          </a:xfrm>
          <a:prstGeom prst="line">
            <a:avLst/>
          </a:prstGeom>
          <a:ln w="93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752480" y="457200"/>
            <a:ext cx="3657600" cy="45720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PROPRIEDAD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257800" y="121932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2,70 a 2,80 kg/dm</a:t>
            </a:r>
            <a:r>
              <a:rPr b="1" lang="pt-BR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133720" y="2286000"/>
            <a:ext cx="6095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9933"/>
                </a:solidFill>
                <a:latin typeface="Arial"/>
                <a:ea typeface="Arial"/>
              </a:rPr>
              <a:t>Cal fracamente hidráulic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76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Tração: 5 kgf/cm</a:t>
            </a:r>
            <a:r>
              <a:rPr b="1" lang="pt-BR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(28 di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76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Compressão: 25 kgf/cm</a:t>
            </a:r>
            <a:r>
              <a:rPr b="1" lang="pt-BR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828800" y="1295280"/>
            <a:ext cx="3200400" cy="30492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Massa específica média: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257800" y="167652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(argamassa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828800" y="1752480"/>
            <a:ext cx="2819520" cy="30492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Resistência mecânica: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33720" y="3505320"/>
            <a:ext cx="6095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9933"/>
                </a:solidFill>
                <a:latin typeface="Arial"/>
                <a:ea typeface="Arial"/>
              </a:rPr>
              <a:t>Cal eminentemente hidráulic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76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Tração: 15 kgf/cm</a:t>
            </a:r>
            <a:r>
              <a:rPr b="1" lang="pt-BR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(28 di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76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Compressão: 50 kgf/cm</a:t>
            </a:r>
            <a:r>
              <a:rPr b="1" lang="pt-BR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1752480" y="457200"/>
            <a:ext cx="4343400" cy="45720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CIMENTO PORTLA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191120" y="1066680"/>
            <a:ext cx="4724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Cimento Portland, que se apresenta como um pó acinzentado, é um produto químico composto, em sua maior parte, de silicatos e aluminatos de cálc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752480" y="1066680"/>
            <a:ext cx="2286000" cy="38124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DEFINIÇÃO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752480" y="2057400"/>
            <a:ext cx="1905120" cy="38088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HISTÓRICO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1752480" y="2514600"/>
            <a:ext cx="3733920" cy="762120"/>
            <a:chOff x="1752480" y="2514600"/>
            <a:chExt cx="3733920" cy="762120"/>
          </a:xfrm>
        </p:grpSpPr>
        <p:sp>
          <p:nvSpPr>
            <p:cNvPr id="361" name=""/>
            <p:cNvSpPr/>
            <p:nvPr/>
          </p:nvSpPr>
          <p:spPr>
            <a:xfrm>
              <a:off x="1752480" y="2514600"/>
              <a:ext cx="2133720" cy="762120"/>
            </a:xfrm>
            <a:custGeom>
              <a:avLst/>
              <a:gdLst>
                <a:gd name="textAreaLeft" fmla="*/ 0 w 2133720"/>
                <a:gd name="textAreaRight" fmla="*/ 2134080 w 213372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Americana XBd BT"/>
                </a:rPr>
                <a:t>ASSÍRIOS 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Americana XBd BT"/>
                </a:rPr>
                <a:t>BABILÔNI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962520" y="2666880"/>
              <a:ext cx="1523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285840" indent="-285840"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66"/>
                  </a:solidFill>
                  <a:latin typeface="Arial"/>
                  <a:ea typeface="Arial"/>
                </a:rPr>
                <a:t>BETUM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1752480" y="3886200"/>
            <a:ext cx="3353040" cy="762120"/>
            <a:chOff x="1752480" y="3886200"/>
            <a:chExt cx="3353040" cy="762120"/>
          </a:xfrm>
        </p:grpSpPr>
        <p:sp>
          <p:nvSpPr>
            <p:cNvPr id="364" name=""/>
            <p:cNvSpPr/>
            <p:nvPr/>
          </p:nvSpPr>
          <p:spPr>
            <a:xfrm>
              <a:off x="1752480" y="3886200"/>
              <a:ext cx="2133720" cy="762120"/>
            </a:xfrm>
            <a:custGeom>
              <a:avLst/>
              <a:gdLst>
                <a:gd name="textAreaLeft" fmla="*/ 0 w 2133720"/>
                <a:gd name="textAreaRight" fmla="*/ 2134080 w 213372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Americana XBd BT"/>
                </a:rPr>
                <a:t>GRÉC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Americana XBd BT"/>
                </a:rPr>
                <a:t>ANTIG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962520" y="4038480"/>
              <a:ext cx="1143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285840" indent="-285840"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66"/>
                  </a:solidFill>
                  <a:latin typeface="Arial"/>
                  <a:ea typeface="Arial"/>
                </a:rPr>
                <a:t>ARGIL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752480" y="3352680"/>
            <a:ext cx="3733920" cy="457200"/>
            <a:chOff x="1752480" y="3352680"/>
            <a:chExt cx="3733920" cy="457200"/>
          </a:xfrm>
        </p:grpSpPr>
        <p:sp>
          <p:nvSpPr>
            <p:cNvPr id="367" name=""/>
            <p:cNvSpPr/>
            <p:nvPr/>
          </p:nvSpPr>
          <p:spPr>
            <a:xfrm>
              <a:off x="1752480" y="3352680"/>
              <a:ext cx="2133720" cy="457200"/>
            </a:xfrm>
            <a:custGeom>
              <a:avLst/>
              <a:gdLst>
                <a:gd name="textAreaLeft" fmla="*/ 0 w 2133720"/>
                <a:gd name="textAreaRight" fmla="*/ 2134080 w 21337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Americana XBd BT"/>
                </a:rPr>
                <a:t>EGÍPCI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62520" y="3352680"/>
              <a:ext cx="1523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285840" indent="-285840"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66"/>
                  </a:solidFill>
                  <a:latin typeface="Arial"/>
                  <a:ea typeface="Arial"/>
                </a:rPr>
                <a:t>GESS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1752480" y="4724280"/>
            <a:ext cx="4038840" cy="762120"/>
            <a:chOff x="1752480" y="4724280"/>
            <a:chExt cx="4038840" cy="762120"/>
          </a:xfrm>
        </p:grpSpPr>
        <p:sp>
          <p:nvSpPr>
            <p:cNvPr id="370" name=""/>
            <p:cNvSpPr/>
            <p:nvPr/>
          </p:nvSpPr>
          <p:spPr>
            <a:xfrm>
              <a:off x="1752480" y="4724280"/>
              <a:ext cx="2133720" cy="762120"/>
            </a:xfrm>
            <a:custGeom>
              <a:avLst/>
              <a:gdLst>
                <a:gd name="textAreaLeft" fmla="*/ 0 w 2133720"/>
                <a:gd name="textAreaRight" fmla="*/ 2134080 w 213372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Americana XBd BT"/>
                </a:rPr>
                <a:t>GREG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Americana XBd BT"/>
                </a:rPr>
                <a:t>ROMAN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962520" y="4800600"/>
              <a:ext cx="1828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285840" indent="-285840"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66"/>
                  </a:solidFill>
                  <a:latin typeface="Arial"/>
                  <a:ea typeface="Arial"/>
                </a:rPr>
                <a:t>POZOLANA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66"/>
                  </a:solidFill>
                  <a:latin typeface="Arial"/>
                  <a:ea typeface="Arial"/>
                </a:rPr>
                <a:t>NATURAI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5562720" y="2514600"/>
            <a:ext cx="3429000" cy="2209680"/>
            <a:chOff x="5562720" y="2514600"/>
            <a:chExt cx="3429000" cy="2209680"/>
          </a:xfrm>
        </p:grpSpPr>
        <p:sp>
          <p:nvSpPr>
            <p:cNvPr id="373" name=""/>
            <p:cNvSpPr/>
            <p:nvPr/>
          </p:nvSpPr>
          <p:spPr>
            <a:xfrm>
              <a:off x="5562720" y="2514600"/>
              <a:ext cx="2133360" cy="1066680"/>
            </a:xfrm>
            <a:custGeom>
              <a:avLst/>
              <a:gdLst>
                <a:gd name="textAreaLeft" fmla="*/ 0 w 2133360"/>
                <a:gd name="textAreaRight" fmla="*/ 2133720 w 213336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Americana XBd BT"/>
                </a:rPr>
                <a:t>GREG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Americana XBd BT"/>
                </a:rPr>
                <a:t>ETRUSC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Americana XBd BT"/>
                </a:rPr>
                <a:t>ROMAN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772400" y="2743200"/>
              <a:ext cx="1143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285840" indent="-285840"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66"/>
                  </a:solidFill>
                  <a:latin typeface="Arial"/>
                  <a:ea typeface="Arial"/>
                </a:rPr>
                <a:t>C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66"/>
                  </a:solidFill>
                  <a:latin typeface="Arial"/>
                  <a:ea typeface="Arial"/>
                </a:rPr>
                <a:t>AÉRE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10280" y="3581280"/>
              <a:ext cx="19814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ício do uso de aglomerantes quimicamente ativos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8153280" y="3429000"/>
              <a:ext cx="53352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752480" y="5562720"/>
            <a:ext cx="4572000" cy="1143000"/>
            <a:chOff x="1752480" y="5562720"/>
            <a:chExt cx="4572000" cy="1143000"/>
          </a:xfrm>
        </p:grpSpPr>
        <p:sp>
          <p:nvSpPr>
            <p:cNvPr id="378" name=""/>
            <p:cNvSpPr/>
            <p:nvPr/>
          </p:nvSpPr>
          <p:spPr>
            <a:xfrm>
              <a:off x="1752480" y="5562720"/>
              <a:ext cx="2133720" cy="761760"/>
            </a:xfrm>
            <a:custGeom>
              <a:avLst/>
              <a:gdLst>
                <a:gd name="textAreaLeft" fmla="*/ 0 w 2133720"/>
                <a:gd name="textAreaRight" fmla="*/ 2134080 w 213372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Americana XBd BT"/>
                </a:rPr>
                <a:t>INGLES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Americana XBd BT"/>
                </a:rPr>
                <a:t>(séc. XVIII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962520" y="5638680"/>
              <a:ext cx="23619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285840" indent="-285840"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66"/>
                  </a:solidFill>
                  <a:latin typeface="Arial"/>
                  <a:ea typeface="Arial"/>
                </a:rPr>
                <a:t>CAL HIDRÁULIC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66"/>
                  </a:solidFill>
                  <a:latin typeface="Arial"/>
                  <a:ea typeface="Arial"/>
                </a:rPr>
                <a:t>NATUR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24080" y="6400800"/>
              <a:ext cx="2590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756 – John Smeat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5486040" y="6019920"/>
              <a:ext cx="30492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1752480" y="380880"/>
            <a:ext cx="4343400" cy="53352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MATÉRIAS PRIM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733920" y="1143000"/>
            <a:ext cx="3276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CaCO</a:t>
            </a:r>
            <a:r>
              <a:rPr b="1" lang="pt-BR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 (calcário calcític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Arial"/>
                <a:ea typeface="Arial"/>
              </a:rPr>
              <a:t>CaCO</a:t>
            </a:r>
            <a:r>
              <a:rPr b="1" lang="pt-BR" sz="1800" spc="-1" strike="noStrike" baseline="-25000">
                <a:solidFill>
                  <a:srgbClr val="ffff66"/>
                </a:solidFill>
                <a:latin typeface="Arial"/>
                <a:ea typeface="Arial"/>
              </a:rPr>
              <a:t>3</a:t>
            </a:r>
            <a:r>
              <a:rPr b="1" lang="pt-BR" sz="1800" spc="-1" strike="noStrike">
                <a:solidFill>
                  <a:srgbClr val="ffff66"/>
                </a:solidFill>
                <a:latin typeface="Arial"/>
                <a:ea typeface="Arial"/>
              </a:rPr>
              <a:t> </a:t>
            </a:r>
            <a:r>
              <a:rPr b="1" lang="pt-BR" sz="2000" spc="-1" strike="noStrike">
                <a:solidFill>
                  <a:srgbClr val="ffff66"/>
                </a:solidFill>
                <a:latin typeface="Arial"/>
                <a:ea typeface="Arial"/>
              </a:rPr>
              <a:t>→</a:t>
            </a:r>
            <a:r>
              <a:rPr b="1" lang="pt-BR" sz="1800" spc="-1" strike="noStrike">
                <a:solidFill>
                  <a:srgbClr val="ffff66"/>
                </a:solidFill>
                <a:latin typeface="Arial"/>
                <a:ea typeface="Arial"/>
              </a:rPr>
              <a:t> CaO + CO</a:t>
            </a:r>
            <a:r>
              <a:rPr b="1" lang="pt-BR" sz="1800" spc="-1" strike="noStrike" baseline="-25000">
                <a:solidFill>
                  <a:srgbClr val="ffff66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Arial"/>
                <a:ea typeface="Arial"/>
              </a:rPr>
              <a:t>(100)    Δ   (56)    (4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752480" y="1066680"/>
            <a:ext cx="1752840" cy="38124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CALCÁRIO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752480" y="2666880"/>
            <a:ext cx="1295640" cy="30492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ARGILA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352680" y="2666880"/>
            <a:ext cx="3276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(silicat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Arial"/>
                <a:ea typeface="Arial"/>
              </a:rPr>
              <a:t>SiO</a:t>
            </a:r>
            <a:r>
              <a:rPr b="1" lang="pt-BR" sz="1800" spc="-1" strike="noStrike" baseline="-25000">
                <a:solidFill>
                  <a:srgbClr val="ffff66"/>
                </a:solidFill>
                <a:latin typeface="Arial"/>
                <a:ea typeface="Arial"/>
              </a:rPr>
              <a:t>2</a:t>
            </a:r>
            <a:r>
              <a:rPr b="1" lang="pt-BR" sz="1800" spc="-1" strike="noStrike">
                <a:solidFill>
                  <a:srgbClr val="ffff66"/>
                </a:solidFill>
                <a:latin typeface="Arial"/>
                <a:ea typeface="Arial"/>
              </a:rPr>
              <a:t> Al</a:t>
            </a:r>
            <a:r>
              <a:rPr b="1" lang="pt-BR" sz="1800" spc="-1" strike="noStrike" baseline="-25000">
                <a:solidFill>
                  <a:srgbClr val="ffff66"/>
                </a:solidFill>
                <a:latin typeface="Arial"/>
                <a:ea typeface="Arial"/>
              </a:rPr>
              <a:t>2</a:t>
            </a:r>
            <a:r>
              <a:rPr b="1" lang="pt-BR" sz="1800" spc="-1" strike="noStrike">
                <a:solidFill>
                  <a:srgbClr val="ffff66"/>
                </a:solidFill>
                <a:latin typeface="Arial"/>
                <a:ea typeface="Arial"/>
              </a:rPr>
              <a:t>O</a:t>
            </a:r>
            <a:r>
              <a:rPr b="1" lang="pt-BR" sz="1800" spc="-1" strike="noStrike" baseline="-25000">
                <a:solidFill>
                  <a:srgbClr val="ffff66"/>
                </a:solidFill>
                <a:latin typeface="Arial"/>
                <a:ea typeface="Arial"/>
              </a:rPr>
              <a:t>3</a:t>
            </a:r>
            <a:r>
              <a:rPr b="1" lang="pt-BR" sz="1800" spc="-1" strike="noStrike">
                <a:solidFill>
                  <a:srgbClr val="ffff66"/>
                </a:solidFill>
                <a:latin typeface="Arial"/>
                <a:ea typeface="Arial"/>
              </a:rPr>
              <a:t> e Fe</a:t>
            </a:r>
            <a:r>
              <a:rPr b="1" lang="pt-BR" sz="1800" spc="-1" strike="noStrike" baseline="-25000">
                <a:solidFill>
                  <a:srgbClr val="ffff66"/>
                </a:solidFill>
                <a:latin typeface="Arial"/>
                <a:ea typeface="Arial"/>
              </a:rPr>
              <a:t>2</a:t>
            </a:r>
            <a:r>
              <a:rPr b="1" lang="pt-BR" sz="1800" spc="-1" strike="noStrike">
                <a:solidFill>
                  <a:srgbClr val="ffff66"/>
                </a:solidFill>
                <a:latin typeface="Arial"/>
                <a:ea typeface="Arial"/>
              </a:rPr>
              <a:t>O</a:t>
            </a:r>
            <a:r>
              <a:rPr b="1" lang="pt-BR" sz="1800" spc="-1" strike="noStrike" baseline="-25000">
                <a:solidFill>
                  <a:srgbClr val="ffff66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752480" y="3962520"/>
            <a:ext cx="1219320" cy="30456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GESSO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352680" y="3962520"/>
            <a:ext cx="3276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(gipsit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Arial"/>
                <a:ea typeface="Arial"/>
              </a:rPr>
              <a:t>Regular a pe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(Opção: Fosfogess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3500000">
            <a:off x="6079680" y="2606760"/>
            <a:ext cx="1371600" cy="425520"/>
          </a:xfrm>
          <a:prstGeom prst="leftArrow">
            <a:avLst>
              <a:gd name="adj1" fmla="val 50000"/>
              <a:gd name="adj2" fmla="val 80584"/>
            </a:avLst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10800000">
            <a:off x="5715000" y="3352680"/>
            <a:ext cx="1371600" cy="425520"/>
          </a:xfrm>
          <a:prstGeom prst="leftArrow">
            <a:avLst>
              <a:gd name="adj1" fmla="val 50000"/>
              <a:gd name="adj2" fmla="val 80584"/>
            </a:avLst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7238880" y="3429000"/>
            <a:ext cx="1524240" cy="53352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CLÍNQUER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7086600" y="5105520"/>
            <a:ext cx="1828800" cy="76176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CIMENTO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PORTLAND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6200000">
            <a:off x="7527600" y="4282560"/>
            <a:ext cx="762120" cy="425520"/>
          </a:xfrm>
          <a:prstGeom prst="leftArrow">
            <a:avLst>
              <a:gd name="adj1" fmla="val 50000"/>
              <a:gd name="adj2" fmla="val 44776"/>
            </a:avLst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12600000">
            <a:off x="5638680" y="4647600"/>
            <a:ext cx="1371600" cy="425160"/>
          </a:xfrm>
          <a:prstGeom prst="leftArrow">
            <a:avLst>
              <a:gd name="adj1" fmla="val 50000"/>
              <a:gd name="adj2" fmla="val 80652"/>
            </a:avLst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1752480" y="304920"/>
            <a:ext cx="6400800" cy="60948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CIMENTO PORTLAND - FABRICAÇÃ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676520" y="1143000"/>
            <a:ext cx="1752480" cy="990720"/>
          </a:xfrm>
          <a:prstGeom prst="ellipse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mericana XBd BT"/>
              </a:rPr>
              <a:t>CALCÁ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mericana XBd BT"/>
              </a:rPr>
              <a:t>CaCO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Americana XBd BT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343400" y="990720"/>
            <a:ext cx="1523880" cy="1447560"/>
          </a:xfrm>
          <a:prstGeom prst="ellipse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mericana XBd BT"/>
              </a:rPr>
              <a:t>ARGI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mericana XBd BT"/>
              </a:rPr>
              <a:t>SiO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Americana XBd BT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mericana XBd BT"/>
              </a:rPr>
              <a:t>Al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Americana XBd BT"/>
              </a:rPr>
              <a:t>2</a:t>
            </a:r>
            <a:r>
              <a:rPr b="0" lang="pt-BR" sz="2000" spc="-1" strike="noStrike">
                <a:solidFill>
                  <a:srgbClr val="ffffff"/>
                </a:solidFill>
                <a:latin typeface="Americana XBd BT"/>
              </a:rPr>
              <a:t>O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Americana XBd BT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mericana XBd BT"/>
              </a:rPr>
              <a:t>Fe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Americana XBd BT"/>
              </a:rPr>
              <a:t>2</a:t>
            </a:r>
            <a:r>
              <a:rPr b="0" lang="pt-BR" sz="2000" spc="-1" strike="noStrike">
                <a:solidFill>
                  <a:srgbClr val="ffffff"/>
                </a:solidFill>
                <a:latin typeface="Americana XBd BT"/>
              </a:rPr>
              <a:t>O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Americana XBd BT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581280" y="1371600"/>
            <a:ext cx="609840" cy="533520"/>
          </a:xfrm>
          <a:prstGeom prst="plus">
            <a:avLst>
              <a:gd name="adj" fmla="val 36907"/>
            </a:avLst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657600" y="205740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352680" y="2362320"/>
            <a:ext cx="1067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~1400º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895480" y="297180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RESFRIA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2004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CLÍNQUE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pt-BR" sz="1800" spc="-1" strike="noStrike">
                <a:solidFill>
                  <a:srgbClr val="ffff66"/>
                </a:solidFill>
                <a:latin typeface="Arial"/>
                <a:ea typeface="Arial"/>
              </a:rPr>
              <a:t>(INER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657600" y="266688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57600" y="32767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276720" y="4191120"/>
            <a:ext cx="3962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MOAGEM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pt-BR" sz="1800" spc="-1" strike="noStrike">
                <a:solidFill>
                  <a:srgbClr val="ffff66"/>
                </a:solidFill>
                <a:latin typeface="Arial"/>
                <a:ea typeface="Arial"/>
              </a:rPr>
              <a:t>(MUITO REATIV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657600" y="388620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895480" y="4800600"/>
            <a:ext cx="3733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ADIÇÃO DE CaSO</a:t>
            </a:r>
            <a:r>
              <a:rPr b="0" lang="pt-BR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pt-BR" sz="1800" spc="-1" strike="noStrike">
                <a:solidFill>
                  <a:srgbClr val="ffff66"/>
                </a:solidFill>
                <a:latin typeface="Arial"/>
                <a:ea typeface="Arial"/>
              </a:rPr>
              <a:t>(PEG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657600" y="449568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895480" y="5410080"/>
            <a:ext cx="5029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ADIÇÕES (POZOLANAS, ESCÓRIA, FILER, .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657600" y="51055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286000" y="6095880"/>
            <a:ext cx="3429000" cy="38124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CIMENTO PORTLAND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657600" y="571500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1752480" y="380880"/>
            <a:ext cx="3200400" cy="53352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FABRICAÇÃ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666880" y="1981080"/>
            <a:ext cx="5145120" cy="31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PREPARO E DOSAGEM DA MISTURA CRU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HOMOGENEIZ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CLINQUERIZ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RESFRIA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ADIÇÕES FINA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MOAG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ENSACA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2438280" y="1447920"/>
            <a:ext cx="2286000" cy="38088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OPERAÇÕES: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1752480" y="380880"/>
            <a:ext cx="4343400" cy="53352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CLINQUERIZAÇÃ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1828800" y="990720"/>
          <a:ext cx="6934320" cy="3743280"/>
        </p:xfrm>
        <a:graphic>
          <a:graphicData uri="http://schemas.openxmlformats.org/drawingml/2006/table">
            <a:tbl>
              <a:tblPr/>
              <a:tblGrid>
                <a:gridCol w="1905120"/>
                <a:gridCol w="3352680"/>
                <a:gridCol w="1676520"/>
              </a:tblGrid>
              <a:tr h="3362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MPERATU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88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té 100º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aporação da água liv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endotérm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00ºC e aci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idroxilação dos minerais argilos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endotérm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900ºC e aci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stalização dos argilo-minerais decompost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exotérm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528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900ºC e aci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omposição do carbona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endotérm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900ºC e aci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ção do CaO com os sílico-aluminat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exotérm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528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250ºC a 1280º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ício de formação da fase vítre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endotérm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&gt; 1280º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mação de vidro e dos compostos de cimento (clinquerização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endotérm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1" name=""/>
          <p:cNvSpPr txBox="1"/>
          <p:nvPr/>
        </p:nvSpPr>
        <p:spPr>
          <a:xfrm>
            <a:off x="1828800" y="4952880"/>
            <a:ext cx="1828800" cy="30492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PROCESSO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676520" y="5943600"/>
            <a:ext cx="1600200" cy="533520"/>
          </a:xfrm>
          <a:prstGeom prst="ellipse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mericana XBd BT"/>
              </a:rPr>
              <a:t>CALCÁ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676520" y="5410080"/>
            <a:ext cx="1600200" cy="457200"/>
          </a:xfrm>
          <a:prstGeom prst="ellipse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mericana XBd BT"/>
              </a:rPr>
              <a:t>ARGI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657600" y="5638680"/>
            <a:ext cx="1066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PER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DE H</a:t>
            </a:r>
            <a:r>
              <a:rPr b="1" lang="pt-BR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800600" y="5791320"/>
            <a:ext cx="1981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DECOMPOSI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352680" y="563868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3352680" y="594324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572000" y="59436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rot="16200000">
            <a:off x="6591240" y="5524200"/>
            <a:ext cx="1295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REAÇÕ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620120" y="5791320"/>
            <a:ext cx="1295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Arial"/>
                <a:ea typeface="Arial"/>
              </a:rPr>
              <a:t>CLÍNQU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858000" y="59436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391520" y="59436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1828800" y="228600"/>
            <a:ext cx="6858000" cy="83808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CLÍNQUER PORTLAND E SEU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COMPOSTOS ANIDROS - PRINCIPAI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752480" y="2895480"/>
            <a:ext cx="6858000" cy="144792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SILICATO TRICÁLCIO: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3.CaO.SiO</a:t>
            </a:r>
            <a:r>
              <a:rPr b="1" lang="pt-BR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SILICATO DICÁLCIO: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2.CaO.SiO</a:t>
            </a:r>
            <a:r>
              <a:rPr b="1" lang="pt-BR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ALUMINATO TRICÁLCIO: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3.CaO.Al</a:t>
            </a:r>
            <a:r>
              <a:rPr b="1" lang="pt-BR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pt-BR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FERROALUMINATO TETRACÁLCICO: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4.CaO.Al</a:t>
            </a:r>
            <a:r>
              <a:rPr b="1" lang="pt-BR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pt-BR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.Fe</a:t>
            </a:r>
            <a:r>
              <a:rPr b="1" lang="pt-BR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pt-BR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1905120" y="1371600"/>
            <a:ext cx="1371600" cy="129528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SÍLICA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ALUMINA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FERRITA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CAL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962520" y="1523880"/>
            <a:ext cx="1828800" cy="914400"/>
          </a:xfrm>
          <a:prstGeom prst="right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mericana XBd BT"/>
              </a:rPr>
              <a:t>REAG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324480" y="1676520"/>
            <a:ext cx="1371600" cy="60948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CLÍNQUER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76720" y="4495680"/>
            <a:ext cx="1218960" cy="144792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CaO =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SiO</a:t>
            </a:r>
            <a:r>
              <a:rPr b="1" lang="pt-BR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 =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Al</a:t>
            </a:r>
            <a:r>
              <a:rPr b="1" lang="pt-BR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pt-BR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=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Fe</a:t>
            </a:r>
            <a:r>
              <a:rPr b="1" lang="pt-BR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pt-BR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 = 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943600" y="4495680"/>
            <a:ext cx="990720" cy="144792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1" lang="pt-BR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1" lang="pt-BR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1" lang="pt-BR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1" lang="pt-BR" sz="1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92360" y="2133720"/>
            <a:ext cx="3124080" cy="86364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ASSÍRIOS 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BABILÔN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03640" y="2133720"/>
            <a:ext cx="1297080" cy="86364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66"/>
                </a:solidFill>
                <a:latin typeface="Arial"/>
              </a:rPr>
              <a:t>BETU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92360" y="1052640"/>
            <a:ext cx="3124080" cy="86364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GRÉ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ANTI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03640" y="1052640"/>
            <a:ext cx="1297080" cy="86364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66"/>
                </a:solidFill>
                <a:latin typeface="Arial"/>
              </a:rPr>
              <a:t>ARGI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92360" y="3141720"/>
            <a:ext cx="3124080" cy="86364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EGÍPC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03640" y="3141720"/>
            <a:ext cx="1297080" cy="86364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66"/>
                </a:solidFill>
                <a:latin typeface="Arial"/>
              </a:rPr>
              <a:t>GES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2360" y="4149720"/>
            <a:ext cx="3124080" cy="136836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GREG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ETRUS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ROM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03640" y="4149720"/>
            <a:ext cx="1297080" cy="136836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66"/>
                </a:solidFill>
                <a:latin typeface="Arial"/>
              </a:rPr>
              <a:t>CAL AÉR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04000" y="2924280"/>
            <a:ext cx="2160720" cy="12952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9933"/>
                </a:solidFill>
                <a:latin typeface="Arial"/>
              </a:rPr>
              <a:t>Início do uso de aglomerantes quimicamente a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72360" y="3284640"/>
            <a:ext cx="360360" cy="576000"/>
          </a:xfrm>
          <a:prstGeom prst="lef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1828800" y="304920"/>
            <a:ext cx="4648320" cy="76176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CIMENTO PORTLA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COMPOSTOS PRINCIPAI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5943600" y="1219320"/>
            <a:ext cx="2743200" cy="1218960"/>
            <a:chOff x="5943600" y="1219320"/>
            <a:chExt cx="2743200" cy="1218960"/>
          </a:xfrm>
        </p:grpSpPr>
        <p:grpSp>
          <p:nvGrpSpPr>
            <p:cNvPr id="442" name=""/>
            <p:cNvGrpSpPr/>
            <p:nvPr/>
          </p:nvGrpSpPr>
          <p:grpSpPr>
            <a:xfrm>
              <a:off x="5943600" y="1219320"/>
              <a:ext cx="2743200" cy="1218960"/>
              <a:chOff x="5943600" y="1219320"/>
              <a:chExt cx="2743200" cy="1218960"/>
            </a:xfrm>
          </p:grpSpPr>
          <p:sp>
            <p:nvSpPr>
              <p:cNvPr id="443" name=""/>
              <p:cNvSpPr/>
              <p:nvPr/>
            </p:nvSpPr>
            <p:spPr>
              <a:xfrm>
                <a:off x="5943600" y="1219320"/>
                <a:ext cx="1295280" cy="1218960"/>
              </a:xfrm>
              <a:custGeom>
                <a:avLst/>
                <a:gdLst>
                  <a:gd name="textAreaLeft" fmla="*/ 221400 w 1295280"/>
                  <a:gd name="textAreaRight" fmla="*/ 1073880 w 1295280"/>
                  <a:gd name="textAreaTop" fmla="*/ 208440 h 1218960"/>
                  <a:gd name="textAreaBottom" fmla="*/ 1010520 h 121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35" y="12718"/>
                    </a:lnTo>
                    <a:lnTo>
                      <a:pt x="786" y="14846"/>
                    </a:lnTo>
                    <a:lnTo>
                      <a:pt x="2371" y="16274"/>
                    </a:lnTo>
                    <a:lnTo>
                      <a:pt x="3163" y="18437"/>
                    </a:lnTo>
                    <a:lnTo>
                      <a:pt x="5180" y="19132"/>
                    </a:lnTo>
                    <a:lnTo>
                      <a:pt x="6580" y="20741"/>
                    </a:lnTo>
                    <a:lnTo>
                      <a:pt x="8710" y="20630"/>
                    </a:lnTo>
                    <a:lnTo>
                      <a:pt x="10800" y="21600"/>
                    </a:lnTo>
                    <a:lnTo>
                      <a:pt x="12718" y="20665"/>
                    </a:lnTo>
                    <a:lnTo>
                      <a:pt x="14846" y="20814"/>
                    </a:lnTo>
                    <a:lnTo>
                      <a:pt x="16274" y="19229"/>
                    </a:lnTo>
                    <a:lnTo>
                      <a:pt x="18437" y="18437"/>
                    </a:lnTo>
                    <a:lnTo>
                      <a:pt x="19132" y="16420"/>
                    </a:lnTo>
                    <a:lnTo>
                      <a:pt x="20741" y="15020"/>
                    </a:lnTo>
                    <a:lnTo>
                      <a:pt x="20630" y="12890"/>
                    </a:lnTo>
                    <a:lnTo>
                      <a:pt x="21600" y="10800"/>
                    </a:lnTo>
                    <a:lnTo>
                      <a:pt x="20665" y="8882"/>
                    </a:lnTo>
                    <a:lnTo>
                      <a:pt x="20814" y="6754"/>
                    </a:lnTo>
                    <a:lnTo>
                      <a:pt x="19229" y="5326"/>
                    </a:lnTo>
                    <a:lnTo>
                      <a:pt x="18437" y="3163"/>
                    </a:lnTo>
                    <a:lnTo>
                      <a:pt x="16420" y="2468"/>
                    </a:lnTo>
                    <a:lnTo>
                      <a:pt x="15020" y="859"/>
                    </a:lnTo>
                    <a:lnTo>
                      <a:pt x="12890" y="970"/>
                    </a:lnTo>
                    <a:lnTo>
                      <a:pt x="10800" y="0"/>
                    </a:lnTo>
                    <a:lnTo>
                      <a:pt x="8882" y="935"/>
                    </a:lnTo>
                    <a:lnTo>
                      <a:pt x="6754" y="786"/>
                    </a:lnTo>
                    <a:lnTo>
                      <a:pt x="5326" y="2371"/>
                    </a:lnTo>
                    <a:lnTo>
                      <a:pt x="3163" y="3163"/>
                    </a:lnTo>
                    <a:lnTo>
                      <a:pt x="2468" y="5180"/>
                    </a:lnTo>
                    <a:lnTo>
                      <a:pt x="859" y="6580"/>
                    </a:lnTo>
                    <a:lnTo>
                      <a:pt x="970" y="8710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248520" y="1676160"/>
                <a:ext cx="152280" cy="759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9720 h 75960"/>
                  <a:gd name="textAreaBottom" fmla="*/ 66240 h 7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3600" y="-3560"/>
                      <a:pt x="7200" y="6360"/>
                      <a:pt x="10800" y="1400"/>
                    </a:cubicBezTo>
                    <a:cubicBezTo>
                      <a:pt x="14400" y="-3560"/>
                      <a:pt x="18000" y="6360"/>
                      <a:pt x="21600" y="1400"/>
                    </a:cubicBezTo>
                    <a:lnTo>
                      <a:pt x="21600" y="20200"/>
                    </a:lnTo>
                    <a:cubicBezTo>
                      <a:pt x="18000" y="25160"/>
                      <a:pt x="14400" y="15240"/>
                      <a:pt x="10800" y="20200"/>
                    </a:cubicBezTo>
                    <a:cubicBezTo>
                      <a:pt x="7200" y="25160"/>
                      <a:pt x="3600" y="15240"/>
                      <a:pt x="0" y="20200"/>
                    </a:cubicBezTo>
                    <a:close/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781680" y="1447560"/>
                <a:ext cx="152640" cy="75960"/>
              </a:xfrm>
              <a:custGeom>
                <a:avLst/>
                <a:gdLst>
                  <a:gd name="textAreaLeft" fmla="*/ 0 w 152640"/>
                  <a:gd name="textAreaRight" fmla="*/ 153000 w 152640"/>
                  <a:gd name="textAreaTop" fmla="*/ 9720 h 75960"/>
                  <a:gd name="textAreaBottom" fmla="*/ 66240 h 7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3600" y="-3560"/>
                      <a:pt x="7200" y="6360"/>
                      <a:pt x="10800" y="1400"/>
                    </a:cubicBezTo>
                    <a:cubicBezTo>
                      <a:pt x="14400" y="-3560"/>
                      <a:pt x="18000" y="6360"/>
                      <a:pt x="21600" y="1400"/>
                    </a:cubicBezTo>
                    <a:lnTo>
                      <a:pt x="21600" y="20200"/>
                    </a:lnTo>
                    <a:cubicBezTo>
                      <a:pt x="18000" y="25160"/>
                      <a:pt x="14400" y="15240"/>
                      <a:pt x="10800" y="20200"/>
                    </a:cubicBezTo>
                    <a:cubicBezTo>
                      <a:pt x="7200" y="25160"/>
                      <a:pt x="3600" y="15240"/>
                      <a:pt x="0" y="20200"/>
                    </a:cubicBezTo>
                    <a:close/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2700000">
                <a:off x="6895800" y="1714320"/>
                <a:ext cx="152280" cy="759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9720 h 75960"/>
                  <a:gd name="textAreaBottom" fmla="*/ 66240 h 7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3600" y="-3560"/>
                      <a:pt x="7200" y="6360"/>
                      <a:pt x="10800" y="1400"/>
                    </a:cubicBezTo>
                    <a:cubicBezTo>
                      <a:pt x="14400" y="-3560"/>
                      <a:pt x="18000" y="6360"/>
                      <a:pt x="21600" y="1400"/>
                    </a:cubicBezTo>
                    <a:lnTo>
                      <a:pt x="21600" y="20200"/>
                    </a:lnTo>
                    <a:cubicBezTo>
                      <a:pt x="18000" y="25160"/>
                      <a:pt x="14400" y="15240"/>
                      <a:pt x="10800" y="20200"/>
                    </a:cubicBezTo>
                    <a:cubicBezTo>
                      <a:pt x="7200" y="25160"/>
                      <a:pt x="3600" y="15240"/>
                      <a:pt x="0" y="20200"/>
                    </a:cubicBezTo>
                    <a:close/>
                  </a:path>
                </a:pathLst>
              </a:custGeom>
              <a:noFill/>
              <a:ln w="93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>
                <a:off x="6629400" y="1751760"/>
                <a:ext cx="152280" cy="759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9720 h 75960"/>
                  <a:gd name="textAreaBottom" fmla="*/ 66240 h 7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3600" y="-3560"/>
                      <a:pt x="7200" y="6360"/>
                      <a:pt x="10800" y="1400"/>
                    </a:cubicBezTo>
                    <a:cubicBezTo>
                      <a:pt x="14400" y="-3560"/>
                      <a:pt x="18000" y="6360"/>
                      <a:pt x="21600" y="1400"/>
                    </a:cubicBezTo>
                    <a:lnTo>
                      <a:pt x="21600" y="20200"/>
                    </a:lnTo>
                    <a:cubicBezTo>
                      <a:pt x="18000" y="25160"/>
                      <a:pt x="14400" y="15240"/>
                      <a:pt x="10800" y="20200"/>
                    </a:cubicBezTo>
                    <a:cubicBezTo>
                      <a:pt x="7200" y="25160"/>
                      <a:pt x="3600" y="15240"/>
                      <a:pt x="0" y="20200"/>
                    </a:cubicBezTo>
                    <a:close/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V="1">
                <a:off x="6705720" y="1904040"/>
                <a:ext cx="152280" cy="7452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9360 h 74520"/>
                  <a:gd name="textAreaBottom" fmla="*/ 6516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3600" y="-3560"/>
                      <a:pt x="7200" y="6360"/>
                      <a:pt x="10800" y="1400"/>
                    </a:cubicBezTo>
                    <a:cubicBezTo>
                      <a:pt x="14400" y="-3560"/>
                      <a:pt x="18000" y="6360"/>
                      <a:pt x="21600" y="1400"/>
                    </a:cubicBezTo>
                    <a:lnTo>
                      <a:pt x="21600" y="20200"/>
                    </a:lnTo>
                    <a:cubicBezTo>
                      <a:pt x="18000" y="25160"/>
                      <a:pt x="14400" y="15240"/>
                      <a:pt x="10800" y="20200"/>
                    </a:cubicBezTo>
                    <a:cubicBezTo>
                      <a:pt x="7200" y="25160"/>
                      <a:pt x="3600" y="15240"/>
                      <a:pt x="0" y="20200"/>
                    </a:cubicBezTo>
                    <a:close/>
                  </a:path>
                </a:pathLst>
              </a:custGeom>
              <a:noFill/>
              <a:ln w="93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10080" bIns="10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172200" y="1981080"/>
                <a:ext cx="152280" cy="759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9720 h 75960"/>
                  <a:gd name="textAreaBottom" fmla="*/ 66240 h 7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3600" y="-3560"/>
                      <a:pt x="7200" y="6360"/>
                      <a:pt x="10800" y="1400"/>
                    </a:cubicBezTo>
                    <a:cubicBezTo>
                      <a:pt x="14400" y="-3560"/>
                      <a:pt x="18000" y="6360"/>
                      <a:pt x="21600" y="1400"/>
                    </a:cubicBezTo>
                    <a:lnTo>
                      <a:pt x="21600" y="20200"/>
                    </a:lnTo>
                    <a:cubicBezTo>
                      <a:pt x="18000" y="25160"/>
                      <a:pt x="14400" y="15240"/>
                      <a:pt x="10800" y="20200"/>
                    </a:cubicBezTo>
                    <a:cubicBezTo>
                      <a:pt x="7200" y="25160"/>
                      <a:pt x="3600" y="15240"/>
                      <a:pt x="0" y="20200"/>
                    </a:cubicBezTo>
                    <a:close/>
                  </a:path>
                </a:pathLst>
              </a:custGeom>
              <a:noFill/>
              <a:ln w="9360">
                <a:solidFill>
                  <a:srgbClr val="0af0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rot="2700000">
                <a:off x="6591600" y="1561680"/>
                <a:ext cx="151920" cy="763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9720 h 76320"/>
                  <a:gd name="textAreaBottom" fmla="*/ 6660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3600" y="-3560"/>
                      <a:pt x="7200" y="6360"/>
                      <a:pt x="10800" y="1400"/>
                    </a:cubicBezTo>
                    <a:cubicBezTo>
                      <a:pt x="14400" y="-3560"/>
                      <a:pt x="18000" y="6360"/>
                      <a:pt x="21600" y="1400"/>
                    </a:cubicBezTo>
                    <a:lnTo>
                      <a:pt x="21600" y="20200"/>
                    </a:lnTo>
                    <a:cubicBezTo>
                      <a:pt x="18000" y="25160"/>
                      <a:pt x="14400" y="15240"/>
                      <a:pt x="10800" y="20200"/>
                    </a:cubicBezTo>
                    <a:cubicBezTo>
                      <a:pt x="7200" y="25160"/>
                      <a:pt x="3600" y="15240"/>
                      <a:pt x="0" y="20200"/>
                    </a:cubicBezTo>
                    <a:close/>
                  </a:path>
                </a:pathLst>
              </a:custGeom>
              <a:noFill/>
              <a:ln w="9360">
                <a:solidFill>
                  <a:srgbClr val="0af0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11160" bIns="11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934320" y="1904760"/>
                <a:ext cx="152280" cy="759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9720 h 75960"/>
                  <a:gd name="textAreaBottom" fmla="*/ 66240 h 7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3600" y="-3560"/>
                      <a:pt x="7200" y="6360"/>
                      <a:pt x="10800" y="1400"/>
                    </a:cubicBezTo>
                    <a:cubicBezTo>
                      <a:pt x="14400" y="-3560"/>
                      <a:pt x="18000" y="6360"/>
                      <a:pt x="21600" y="1400"/>
                    </a:cubicBezTo>
                    <a:lnTo>
                      <a:pt x="21600" y="20200"/>
                    </a:lnTo>
                    <a:cubicBezTo>
                      <a:pt x="18000" y="25160"/>
                      <a:pt x="14400" y="15240"/>
                      <a:pt x="10800" y="20200"/>
                    </a:cubicBezTo>
                    <a:cubicBezTo>
                      <a:pt x="7200" y="25160"/>
                      <a:pt x="3600" y="15240"/>
                      <a:pt x="0" y="20200"/>
                    </a:cubicBezTo>
                    <a:close/>
                  </a:path>
                </a:pathLst>
              </a:custGeom>
              <a:noFill/>
              <a:ln w="9360">
                <a:solidFill>
                  <a:srgbClr val="0af0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V="1">
                <a:off x="6705720" y="2132640"/>
                <a:ext cx="152280" cy="759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9720 h 75960"/>
                  <a:gd name="textAreaBottom" fmla="*/ 66240 h 7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3600" y="-3560"/>
                      <a:pt x="7200" y="6360"/>
                      <a:pt x="10800" y="1400"/>
                    </a:cubicBezTo>
                    <a:cubicBezTo>
                      <a:pt x="14400" y="-3560"/>
                      <a:pt x="18000" y="6360"/>
                      <a:pt x="21600" y="1400"/>
                    </a:cubicBezTo>
                    <a:lnTo>
                      <a:pt x="21600" y="20200"/>
                    </a:lnTo>
                    <a:cubicBezTo>
                      <a:pt x="18000" y="25160"/>
                      <a:pt x="14400" y="15240"/>
                      <a:pt x="10800" y="20200"/>
                    </a:cubicBezTo>
                    <a:cubicBezTo>
                      <a:pt x="7200" y="25160"/>
                      <a:pt x="3600" y="15240"/>
                      <a:pt x="0" y="20200"/>
                    </a:cubicBezTo>
                    <a:close/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400800" y="1447560"/>
                <a:ext cx="152280" cy="759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9720 h 75960"/>
                  <a:gd name="textAreaBottom" fmla="*/ 66240 h 7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3600" y="-3560"/>
                      <a:pt x="7200" y="6360"/>
                      <a:pt x="10800" y="1400"/>
                    </a:cubicBezTo>
                    <a:cubicBezTo>
                      <a:pt x="14400" y="-3560"/>
                      <a:pt x="18000" y="6360"/>
                      <a:pt x="21600" y="1400"/>
                    </a:cubicBezTo>
                    <a:lnTo>
                      <a:pt x="21600" y="20200"/>
                    </a:lnTo>
                    <a:cubicBezTo>
                      <a:pt x="18000" y="25160"/>
                      <a:pt x="14400" y="15240"/>
                      <a:pt x="10800" y="20200"/>
                    </a:cubicBezTo>
                    <a:cubicBezTo>
                      <a:pt x="7200" y="25160"/>
                      <a:pt x="3600" y="15240"/>
                      <a:pt x="0" y="20200"/>
                    </a:cubicBezTo>
                    <a:close/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rot="2700000">
                <a:off x="6515280" y="2018880"/>
                <a:ext cx="151920" cy="763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9720 h 76320"/>
                  <a:gd name="textAreaBottom" fmla="*/ 6660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3600" y="-3560"/>
                      <a:pt x="7200" y="6360"/>
                      <a:pt x="10800" y="1400"/>
                    </a:cubicBezTo>
                    <a:cubicBezTo>
                      <a:pt x="14400" y="-3560"/>
                      <a:pt x="18000" y="6360"/>
                      <a:pt x="21600" y="1400"/>
                    </a:cubicBezTo>
                    <a:lnTo>
                      <a:pt x="21600" y="20200"/>
                    </a:lnTo>
                    <a:cubicBezTo>
                      <a:pt x="18000" y="25160"/>
                      <a:pt x="14400" y="15240"/>
                      <a:pt x="10800" y="20200"/>
                    </a:cubicBezTo>
                    <a:cubicBezTo>
                      <a:pt x="7200" y="25160"/>
                      <a:pt x="3600" y="15240"/>
                      <a:pt x="0" y="20200"/>
                    </a:cubicBezTo>
                    <a:close/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11160" bIns="11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rot="2700000">
                <a:off x="6210000" y="1485720"/>
                <a:ext cx="152280" cy="759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9720 h 75960"/>
                  <a:gd name="textAreaBottom" fmla="*/ 66240 h 7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3600" y="-3560"/>
                      <a:pt x="7200" y="6360"/>
                      <a:pt x="10800" y="1400"/>
                    </a:cubicBezTo>
                    <a:cubicBezTo>
                      <a:pt x="14400" y="-3560"/>
                      <a:pt x="18000" y="6360"/>
                      <a:pt x="21600" y="1400"/>
                    </a:cubicBezTo>
                    <a:lnTo>
                      <a:pt x="21600" y="20200"/>
                    </a:lnTo>
                    <a:cubicBezTo>
                      <a:pt x="18000" y="25160"/>
                      <a:pt x="14400" y="15240"/>
                      <a:pt x="10800" y="20200"/>
                    </a:cubicBezTo>
                    <a:cubicBezTo>
                      <a:pt x="7200" y="25160"/>
                      <a:pt x="3600" y="15240"/>
                      <a:pt x="0" y="20200"/>
                    </a:cubicBezTo>
                    <a:close/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rot="2700000">
                <a:off x="6286680" y="1866600"/>
                <a:ext cx="151920" cy="763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9720 h 76320"/>
                  <a:gd name="textAreaBottom" fmla="*/ 6660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3600" y="-3560"/>
                      <a:pt x="7200" y="6360"/>
                      <a:pt x="10800" y="1400"/>
                    </a:cubicBezTo>
                    <a:cubicBezTo>
                      <a:pt x="14400" y="-3560"/>
                      <a:pt x="18000" y="6360"/>
                      <a:pt x="21600" y="1400"/>
                    </a:cubicBezTo>
                    <a:lnTo>
                      <a:pt x="21600" y="20200"/>
                    </a:lnTo>
                    <a:cubicBezTo>
                      <a:pt x="18000" y="25160"/>
                      <a:pt x="14400" y="15240"/>
                      <a:pt x="10800" y="20200"/>
                    </a:cubicBezTo>
                    <a:cubicBezTo>
                      <a:pt x="7200" y="25160"/>
                      <a:pt x="3600" y="15240"/>
                      <a:pt x="0" y="20200"/>
                    </a:cubicBezTo>
                    <a:close/>
                  </a:path>
                </a:pathLst>
              </a:custGeom>
              <a:noFill/>
              <a:ln w="93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11160" bIns="11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rot="2700000">
                <a:off x="6363000" y="2171160"/>
                <a:ext cx="152280" cy="7632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9720 h 76320"/>
                  <a:gd name="textAreaBottom" fmla="*/ 6660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3600" y="-3560"/>
                      <a:pt x="7200" y="6360"/>
                      <a:pt x="10800" y="1400"/>
                    </a:cubicBezTo>
                    <a:cubicBezTo>
                      <a:pt x="14400" y="-3560"/>
                      <a:pt x="18000" y="6360"/>
                      <a:pt x="21600" y="1400"/>
                    </a:cubicBezTo>
                    <a:lnTo>
                      <a:pt x="21600" y="20200"/>
                    </a:lnTo>
                    <a:cubicBezTo>
                      <a:pt x="18000" y="25160"/>
                      <a:pt x="14400" y="15240"/>
                      <a:pt x="10800" y="20200"/>
                    </a:cubicBezTo>
                    <a:cubicBezTo>
                      <a:pt x="7200" y="25160"/>
                      <a:pt x="3600" y="15240"/>
                      <a:pt x="0" y="20200"/>
                    </a:cubicBezTo>
                    <a:close/>
                  </a:path>
                </a:pathLst>
              </a:custGeom>
              <a:noFill/>
              <a:ln w="9360">
                <a:solidFill>
                  <a:srgbClr val="0af0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11160" bIns="11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629400" y="121932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629400" y="243828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315200" y="1676160"/>
                <a:ext cx="13716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0 a 50 </a:t>
                </a:r>
                <a:r>
                  <a:rPr b="1" lang="pt-BR" sz="18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μm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467480" y="1219320"/>
                <a:ext cx="0" cy="456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7467480" y="1981080"/>
              <a:ext cx="0" cy="456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1752480" y="2362320"/>
            <a:ext cx="67057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ff9933"/>
                </a:solidFill>
                <a:uFillTx/>
                <a:latin typeface="Arial"/>
                <a:ea typeface="Arial"/>
              </a:rPr>
              <a:t>COMPOSTOS PRINCIPA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SILICATOS DE CÁLCIO: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1" lang="pt-BR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20 a 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1" lang="pt-BR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10 a 5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ALUMINATO DE CÁLCIO: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1" lang="pt-BR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5 a 2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FERROALUMINATO DE CÁLCIO: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1" lang="pt-BR" sz="1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AF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5 a 1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828800" y="4343400"/>
            <a:ext cx="3505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ff9933"/>
                </a:solidFill>
                <a:uFillTx/>
                <a:latin typeface="Arial"/>
                <a:ea typeface="Arial"/>
              </a:rPr>
              <a:t>COMPOSTOS SECUNDÁRIO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905120" y="4800600"/>
            <a:ext cx="12189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M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Ca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0 a 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200400" y="4800600"/>
            <a:ext cx="1219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Na</a:t>
            </a:r>
            <a:r>
              <a:rPr b="1" lang="pt-BR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K</a:t>
            </a:r>
            <a:r>
              <a:rPr b="1" lang="pt-BR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0 a 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419720" y="4724280"/>
            <a:ext cx="12952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Mn</a:t>
            </a:r>
            <a:r>
              <a:rPr b="1" lang="pt-BR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pt-BR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pt-BR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pt-BR" sz="18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TiO</a:t>
            </a:r>
            <a:r>
              <a:rPr b="1" lang="pt-BR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0 a 3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562720" y="4800600"/>
            <a:ext cx="12189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CaSO</a:t>
            </a:r>
            <a:r>
              <a:rPr b="1" lang="pt-BR" sz="1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1 a 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828800" y="48006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124080" y="48006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267080" y="4800600"/>
            <a:ext cx="152640" cy="990720"/>
          </a:xfrm>
          <a:custGeom>
            <a:avLst/>
            <a:gdLst>
              <a:gd name="textAreaLeft" fmla="*/ 97560 w 152640"/>
              <a:gd name="textAreaRight" fmla="*/ 153000 w 15264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1828800" y="304920"/>
            <a:ext cx="3886200" cy="53316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COMPOSIÇÃO POTENCI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2057400" y="1219320"/>
          <a:ext cx="3451320" cy="2425680"/>
        </p:xfrm>
        <a:graphic>
          <a:graphicData uri="http://schemas.openxmlformats.org/drawingml/2006/table">
            <a:tbl>
              <a:tblPr/>
              <a:tblGrid>
                <a:gridCol w="1479600"/>
                <a:gridCol w="1971720"/>
              </a:tblGrid>
              <a:tr h="566640">
                <a:tc>
                  <a:txBody>
                    <a:bodyPr lIns="93600" rIns="936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r>
                        <a:rPr b="0" lang="pt-BR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 a 6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28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3600" rIns="936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r>
                        <a:rPr b="0" lang="pt-BR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 a 3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28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93600" rIns="936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r>
                        <a:rPr b="0" lang="pt-BR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a 1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28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3600" rIns="936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r>
                        <a:rPr b="0" lang="pt-BR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136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a 1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 w="28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4" name=""/>
          <p:cNvSpPr/>
          <p:nvPr/>
        </p:nvSpPr>
        <p:spPr>
          <a:xfrm>
            <a:off x="1835280" y="4005360"/>
            <a:ext cx="38098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ff9933"/>
                </a:solidFill>
                <a:uFillTx/>
                <a:latin typeface="Arial"/>
                <a:ea typeface="Arial"/>
              </a:rPr>
              <a:t>COMPOSTOS SECUNDÁRIO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MgO e CaO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0 a 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Na</a:t>
            </a:r>
            <a:r>
              <a:rPr b="1" lang="pt-BR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O e K</a:t>
            </a:r>
            <a:r>
              <a:rPr b="1" lang="pt-BR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0 a 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Mn</a:t>
            </a:r>
            <a:r>
              <a:rPr b="1" lang="pt-BR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pt-BR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, P</a:t>
            </a:r>
            <a:r>
              <a:rPr b="1" lang="pt-BR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pt-BR" sz="16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 e TiO</a:t>
            </a:r>
            <a:r>
              <a:rPr b="1" lang="pt-BR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0 a 3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CaSO</a:t>
            </a:r>
            <a:r>
              <a:rPr b="1" lang="pt-BR" sz="1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pt-BR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1 a 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1828800" y="304920"/>
            <a:ext cx="4572000" cy="60948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HIDRATAÇÃO DO CIMEN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905120" y="1143000"/>
            <a:ext cx="4572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COMPOSTOS ANIDROS MAIS SOLÚVE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666880" y="14479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905120" y="1752480"/>
            <a:ext cx="533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COMPOSTOS HIDRATADOS MENOS SOLÚVE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962520" y="2971800"/>
            <a:ext cx="609480" cy="533520"/>
          </a:xfrm>
          <a:prstGeom prst="plus">
            <a:avLst>
              <a:gd name="adj" fmla="val 36907"/>
            </a:avLst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057400" y="2895480"/>
            <a:ext cx="1676520" cy="6858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Arial"/>
                <a:ea typeface="Arial"/>
              </a:rPr>
              <a:t>COMPOS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Arial"/>
                <a:ea typeface="Arial"/>
              </a:rPr>
              <a:t>ANID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800600" y="2895480"/>
            <a:ext cx="838080" cy="6858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Arial"/>
                <a:ea typeface="Arial"/>
              </a:rPr>
              <a:t>ÁGU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rot="18900000">
            <a:off x="3352680" y="3657600"/>
            <a:ext cx="457200" cy="457200"/>
          </a:xfrm>
          <a:prstGeom prst="downArrow">
            <a:avLst>
              <a:gd name="adj1" fmla="val 44194"/>
              <a:gd name="adj2" fmla="val 40181"/>
            </a:avLst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809880" y="4038480"/>
            <a:ext cx="762120" cy="38124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Arial"/>
                <a:ea typeface="Arial"/>
              </a:rPr>
              <a:t>G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952880" y="4038480"/>
            <a:ext cx="358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Arial"/>
                <a:ea typeface="Arial"/>
              </a:rPr>
              <a:t>(SOLUÇÃO SUPER SATURAD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rot="18900000">
            <a:off x="4495680" y="4572000"/>
            <a:ext cx="457200" cy="457200"/>
          </a:xfrm>
          <a:prstGeom prst="downArrow">
            <a:avLst>
              <a:gd name="adj1" fmla="val 44194"/>
              <a:gd name="adj2" fmla="val 40181"/>
            </a:avLst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4952880"/>
            <a:ext cx="1828800" cy="6858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Arial"/>
                <a:ea typeface="Arial"/>
              </a:rPr>
              <a:t>COMPOS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Arial"/>
                <a:ea typeface="Arial"/>
              </a:rPr>
              <a:t>HIDRAT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1905120" y="1600200"/>
            <a:ext cx="5562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2C</a:t>
            </a:r>
            <a:r>
              <a:rPr b="1" lang="pt-BR" sz="1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S + 6H</a:t>
            </a:r>
            <a:r>
              <a:rPr b="1" lang="pt-BR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→ 3CaO.2SiO</a:t>
            </a:r>
            <a:r>
              <a:rPr b="1" lang="pt-BR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.3H</a:t>
            </a:r>
            <a:r>
              <a:rPr b="1" lang="pt-BR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O + 3Ca(OH)</a:t>
            </a:r>
            <a:r>
              <a:rPr b="1" lang="pt-BR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 + 120 cal/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100       24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75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        4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rot="20400000">
            <a:off x="2133360" y="137160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66"/>
                </a:solidFill>
                <a:latin typeface="Arial"/>
                <a:ea typeface="Arial"/>
              </a:rPr>
              <a:t>ali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828800" y="228600"/>
            <a:ext cx="5181480" cy="76212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CIMENTO PORTLA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REAÇÕES DE HIDRATAÇÃ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066680"/>
            <a:ext cx="1143000" cy="381240"/>
          </a:xfrm>
          <a:prstGeom prst="ellipse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mericana XBd BT"/>
              </a:rPr>
              <a:t>C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Americana XBd BT"/>
              </a:rPr>
              <a:t>3</a:t>
            </a:r>
            <a:r>
              <a:rPr b="0" lang="pt-BR" sz="2000" spc="-1" strike="noStrike">
                <a:solidFill>
                  <a:srgbClr val="ffffff"/>
                </a:solidFill>
                <a:latin typeface="Americana XBd BT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rot="20400000">
            <a:off x="3733560" y="1371600"/>
            <a:ext cx="1298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66"/>
                </a:solidFill>
                <a:latin typeface="Arial"/>
                <a:ea typeface="Arial"/>
              </a:rPr>
              <a:t>tobermori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rot="20400000">
            <a:off x="5333760" y="1371240"/>
            <a:ext cx="121896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66"/>
                </a:solidFill>
                <a:latin typeface="Arial"/>
                <a:ea typeface="Arial"/>
              </a:rPr>
              <a:t>portlandi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828800" y="289548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2C</a:t>
            </a:r>
            <a:r>
              <a:rPr b="1" lang="pt-BR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S + 4H</a:t>
            </a:r>
            <a:r>
              <a:rPr b="1" lang="pt-BR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→ 3CaO.2SiO</a:t>
            </a:r>
            <a:r>
              <a:rPr b="1" lang="pt-BR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.3H</a:t>
            </a:r>
            <a:r>
              <a:rPr b="1" lang="pt-BR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O + Ca(OH)</a:t>
            </a:r>
            <a:r>
              <a:rPr b="1" lang="pt-BR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 + 62 cal/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100        21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100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        2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828800" y="2362320"/>
            <a:ext cx="1143000" cy="380880"/>
          </a:xfrm>
          <a:prstGeom prst="ellipse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mericana XBd BT"/>
              </a:rPr>
              <a:t>C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Americana XBd BT"/>
              </a:rPr>
              <a:t>2</a:t>
            </a:r>
            <a:r>
              <a:rPr b="0" lang="pt-BR" sz="2000" spc="-1" strike="noStrike">
                <a:solidFill>
                  <a:srgbClr val="ffffff"/>
                </a:solidFill>
                <a:latin typeface="Americana XBd BT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rot="20400000">
            <a:off x="2133720" y="274320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66"/>
                </a:solidFill>
                <a:latin typeface="Arial"/>
                <a:ea typeface="Arial"/>
              </a:rPr>
              <a:t>beli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828800" y="434340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457200" indent="-45720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pt-BR" sz="1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A + 3CaSO</a:t>
            </a:r>
            <a:r>
              <a:rPr b="1" lang="pt-BR" sz="1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.2H</a:t>
            </a:r>
            <a:r>
              <a:rPr b="1" lang="pt-BR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O + 26H</a:t>
            </a:r>
            <a:r>
              <a:rPr b="1" lang="pt-BR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→ 3CaO.Al</a:t>
            </a:r>
            <a:r>
              <a:rPr b="1" lang="pt-BR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pt-BR" sz="1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.3CaSO</a:t>
            </a:r>
            <a:r>
              <a:rPr b="1" lang="pt-BR" sz="1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.32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pt-BR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 + cal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100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   191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  173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46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pt-BR" sz="1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A + 6H</a:t>
            </a:r>
            <a:r>
              <a:rPr b="1" lang="pt-BR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→ 3CaO.Al</a:t>
            </a:r>
            <a:r>
              <a:rPr b="1" lang="pt-BR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pt-BR" sz="1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.6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pt-BR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 + calor                      (calor total = 207 cal/g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20400000">
            <a:off x="1981080" y="4190760"/>
            <a:ext cx="6858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66"/>
                </a:solidFill>
                <a:latin typeface="Arial"/>
                <a:ea typeface="Arial"/>
              </a:rPr>
              <a:t>celi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828800" y="3733920"/>
            <a:ext cx="1143000" cy="380880"/>
          </a:xfrm>
          <a:prstGeom prst="ellipse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mericana XBd BT"/>
              </a:rPr>
              <a:t>C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Americana XBd BT"/>
              </a:rPr>
              <a:t>3</a:t>
            </a:r>
            <a:r>
              <a:rPr b="0" lang="pt-BR" sz="2000" spc="-1" strike="noStrike">
                <a:solidFill>
                  <a:srgbClr val="ffffff"/>
                </a:solidFill>
                <a:latin typeface="Americana XBd BT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rot="20400000">
            <a:off x="3047760" y="3962520"/>
            <a:ext cx="110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66"/>
                </a:solidFill>
                <a:latin typeface="Arial"/>
                <a:ea typeface="Arial"/>
              </a:rPr>
              <a:t>sulfa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66"/>
                </a:solidFill>
                <a:latin typeface="Arial"/>
                <a:ea typeface="Arial"/>
              </a:rPr>
              <a:t>de cálc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rot="20400000">
            <a:off x="5257440" y="4190760"/>
            <a:ext cx="10666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66"/>
                </a:solidFill>
                <a:latin typeface="Arial"/>
                <a:ea typeface="Arial"/>
              </a:rPr>
              <a:t>etringi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828800" y="601992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pt-BR" sz="1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AF + 2 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Ca(OH) </a:t>
            </a:r>
            <a:r>
              <a:rPr b="1" lang="pt-BR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 + 10H</a:t>
            </a:r>
            <a:r>
              <a:rPr b="1" lang="pt-BR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→ 3CaO. Al</a:t>
            </a:r>
            <a:r>
              <a:rPr b="1" lang="pt-BR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pt-BR" sz="1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.6H</a:t>
            </a:r>
            <a:r>
              <a:rPr b="1" lang="pt-BR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O + 3CaO.Fe</a:t>
            </a:r>
            <a:r>
              <a:rPr b="1" lang="pt-BR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pt-BR" sz="1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.6H</a:t>
            </a:r>
            <a:r>
              <a:rPr b="1" lang="pt-BR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O + 100 cal/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20400000">
            <a:off x="2146320" y="5635440"/>
            <a:ext cx="1363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66"/>
                </a:solidFill>
                <a:latin typeface="Arial"/>
                <a:ea typeface="Arial"/>
              </a:rPr>
              <a:t>brownmilleri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752480" y="5410080"/>
            <a:ext cx="1143000" cy="381240"/>
          </a:xfrm>
          <a:prstGeom prst="ellipse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mericana XBd BT"/>
              </a:rPr>
              <a:t>C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Americana XBd BT"/>
              </a:rPr>
              <a:t>4</a:t>
            </a:r>
            <a:r>
              <a:rPr b="0" lang="pt-BR" sz="2000" spc="-1" strike="noStrike">
                <a:solidFill>
                  <a:srgbClr val="ffffff"/>
                </a:solidFill>
                <a:latin typeface="Americana XBd BT"/>
              </a:rPr>
              <a:t>A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rot="20400000">
            <a:off x="5256360" y="5713200"/>
            <a:ext cx="9903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66"/>
                </a:solidFill>
                <a:latin typeface="Arial"/>
                <a:ea typeface="Arial"/>
              </a:rPr>
              <a:t>alumina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rot="20400000">
            <a:off x="6933960" y="5714640"/>
            <a:ext cx="6858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66"/>
                </a:solidFill>
                <a:latin typeface="Arial"/>
                <a:ea typeface="Arial"/>
              </a:rPr>
              <a:t>ferri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1828800" y="304920"/>
            <a:ext cx="5943600" cy="76176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EVOLUÇÃO DA HIDRATAÇÃO D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COMPOSTOS DO CIMEN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2120760" y="1447920"/>
            <a:ext cx="6050880" cy="4068000"/>
            <a:chOff x="2120760" y="1447920"/>
            <a:chExt cx="6050880" cy="4068000"/>
          </a:xfrm>
        </p:grpSpPr>
        <p:sp>
          <p:nvSpPr>
            <p:cNvPr id="508" name=""/>
            <p:cNvSpPr/>
            <p:nvPr/>
          </p:nvSpPr>
          <p:spPr>
            <a:xfrm flipV="1">
              <a:off x="4930200" y="1854360"/>
              <a:ext cx="0" cy="2711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6875280" y="1854360"/>
              <a:ext cx="0" cy="2711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093120" y="4024080"/>
              <a:ext cx="4646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093120" y="3481920"/>
              <a:ext cx="4646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093120" y="2939400"/>
              <a:ext cx="4646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093120" y="2396520"/>
              <a:ext cx="4646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2120760" y="1447920"/>
              <a:ext cx="6050880" cy="4068000"/>
              <a:chOff x="2120760" y="1447920"/>
              <a:chExt cx="6050880" cy="4068000"/>
            </a:xfrm>
          </p:grpSpPr>
          <p:sp>
            <p:nvSpPr>
              <p:cNvPr id="515" name=""/>
              <p:cNvSpPr/>
              <p:nvPr/>
            </p:nvSpPr>
            <p:spPr>
              <a:xfrm>
                <a:off x="3093120" y="1854720"/>
                <a:ext cx="4646160" cy="27115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3093120" y="4295160"/>
                <a:ext cx="1836720" cy="135000"/>
              </a:xfrm>
              <a:prstGeom prst="line">
                <a:avLst/>
              </a:prstGeom>
              <a:ln w="255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4929840" y="4159080"/>
                <a:ext cx="972360" cy="135720"/>
              </a:xfrm>
              <a:prstGeom prst="line">
                <a:avLst/>
              </a:prstGeom>
              <a:ln w="255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5902560" y="3209760"/>
                <a:ext cx="972360" cy="949320"/>
              </a:xfrm>
              <a:prstGeom prst="line">
                <a:avLst/>
              </a:prstGeom>
              <a:ln w="255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6874920" y="3074760"/>
                <a:ext cx="864000" cy="135000"/>
              </a:xfrm>
              <a:prstGeom prst="line">
                <a:avLst/>
              </a:prstGeom>
              <a:ln w="255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3093120" y="3075120"/>
                <a:ext cx="1836720" cy="406800"/>
              </a:xfrm>
              <a:prstGeom prst="line">
                <a:avLst/>
              </a:prstGeom>
              <a:ln w="255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4929840" y="2668320"/>
                <a:ext cx="1944720" cy="406800"/>
              </a:xfrm>
              <a:prstGeom prst="line">
                <a:avLst/>
              </a:prstGeom>
              <a:ln w="255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4920" y="2668320"/>
                <a:ext cx="864000" cy="0"/>
              </a:xfrm>
              <a:prstGeom prst="line">
                <a:avLst/>
              </a:prstGeom>
              <a:ln w="255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3093120" y="2261520"/>
                <a:ext cx="1836720" cy="270720"/>
              </a:xfrm>
              <a:prstGeom prst="line">
                <a:avLst/>
              </a:prstGeom>
              <a:ln w="25560">
                <a:solidFill>
                  <a:srgbClr val="0af0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4929840" y="1989720"/>
                <a:ext cx="1944720" cy="271440"/>
              </a:xfrm>
              <a:prstGeom prst="line">
                <a:avLst/>
              </a:prstGeom>
              <a:ln w="25560">
                <a:solidFill>
                  <a:srgbClr val="0af0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874920" y="1989720"/>
                <a:ext cx="864000" cy="0"/>
              </a:xfrm>
              <a:prstGeom prst="line">
                <a:avLst/>
              </a:prstGeom>
              <a:ln w="25560">
                <a:solidFill>
                  <a:srgbClr val="0af0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3093120" y="1989360"/>
                <a:ext cx="1836720" cy="135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4929840" y="1854360"/>
                <a:ext cx="1944720" cy="13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874920" y="1854720"/>
                <a:ext cx="864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444760" y="1582920"/>
                <a:ext cx="648000" cy="31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marL="285840" indent="-285840" algn="r">
                  <a:lnSpc>
                    <a:spcPct val="105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285840" indent="-285840" algn="r">
                  <a:lnSpc>
                    <a:spcPct val="105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8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285840" indent="-285840" algn="r">
                  <a:lnSpc>
                    <a:spcPct val="105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6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285840" indent="-285840" algn="r">
                  <a:lnSpc>
                    <a:spcPct val="105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285840" indent="-285840" algn="r">
                  <a:lnSpc>
                    <a:spcPct val="105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285840" indent="-285840" algn="r">
                  <a:lnSpc>
                    <a:spcPct val="105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876760" y="4702320"/>
                <a:ext cx="5294880" cy="40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marL="285840" indent="-285840"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                    10                 100       18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686560" y="5109120"/>
                <a:ext cx="2485080" cy="40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marL="285840" indent="-285840"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empo (log) dia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rot="16200000">
                <a:off x="520200" y="3048480"/>
                <a:ext cx="3525120" cy="32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marL="285840" indent="-285840"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fração hidratada (%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3" name=""/>
          <p:cNvSpPr/>
          <p:nvPr/>
        </p:nvSpPr>
        <p:spPr>
          <a:xfrm>
            <a:off x="7237440" y="2852640"/>
            <a:ext cx="151128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mericana XBd BT"/>
              </a:rPr>
              <a:t>C</a:t>
            </a:r>
            <a:r>
              <a:rPr b="1" lang="pt-BR" sz="1800" spc="-1" strike="noStrike" baseline="-25000">
                <a:solidFill>
                  <a:srgbClr val="ffffff"/>
                </a:solidFill>
                <a:latin typeface="Americana XBd BT"/>
              </a:rPr>
              <a:t>2</a:t>
            </a:r>
            <a:r>
              <a:rPr b="1" lang="pt-BR" sz="1800" spc="-1" strike="noStrike">
                <a:solidFill>
                  <a:srgbClr val="ffffff"/>
                </a:solidFill>
                <a:latin typeface="Americana XBd BT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237440" y="2421000"/>
            <a:ext cx="151128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mericana XBd BT"/>
              </a:rPr>
              <a:t>C</a:t>
            </a:r>
            <a:r>
              <a:rPr b="1" lang="pt-BR" sz="1800" spc="-1" strike="noStrike" baseline="-25000">
                <a:solidFill>
                  <a:srgbClr val="ffffff"/>
                </a:solidFill>
                <a:latin typeface="Americana XBd BT"/>
              </a:rPr>
              <a:t>3</a:t>
            </a:r>
            <a:r>
              <a:rPr b="1" lang="pt-BR" sz="1800" spc="-1" strike="noStrike">
                <a:solidFill>
                  <a:srgbClr val="ffffff"/>
                </a:solidFill>
                <a:latin typeface="Americana XBd BT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308720" y="1557360"/>
            <a:ext cx="151128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mericana XBd BT"/>
              </a:rPr>
              <a:t>C</a:t>
            </a:r>
            <a:r>
              <a:rPr b="1" lang="pt-BR" sz="1800" spc="-1" strike="noStrike" baseline="-25000">
                <a:solidFill>
                  <a:srgbClr val="ffffff"/>
                </a:solidFill>
                <a:latin typeface="Americana XBd BT"/>
              </a:rPr>
              <a:t>4</a:t>
            </a:r>
            <a:r>
              <a:rPr b="1" lang="pt-BR" sz="1800" spc="-1" strike="noStrike">
                <a:solidFill>
                  <a:srgbClr val="ffffff"/>
                </a:solidFill>
                <a:latin typeface="Americana XBd BT"/>
              </a:rPr>
              <a:t>A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667640" y="1838160"/>
            <a:ext cx="6476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mericana XBd BT"/>
              </a:rPr>
              <a:t>C</a:t>
            </a:r>
            <a:r>
              <a:rPr b="1" lang="pt-BR" sz="1800" spc="-1" strike="noStrike" baseline="-25000">
                <a:solidFill>
                  <a:srgbClr val="ffffff"/>
                </a:solidFill>
                <a:latin typeface="Americana XBd BT"/>
              </a:rPr>
              <a:t>3</a:t>
            </a:r>
            <a:r>
              <a:rPr b="1" lang="pt-BR" sz="1800" spc="-1" strike="noStrike">
                <a:solidFill>
                  <a:srgbClr val="ffffff"/>
                </a:solidFill>
                <a:latin typeface="Americana XBd BT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1828800" y="304920"/>
            <a:ext cx="4800600" cy="68580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HIDRATAÇÃO DOS COMPOST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1752480" y="1371600"/>
          <a:ext cx="5410440" cy="1703520"/>
        </p:xfrm>
        <a:graphic>
          <a:graphicData uri="http://schemas.openxmlformats.org/drawingml/2006/table">
            <a:tbl>
              <a:tblPr/>
              <a:tblGrid>
                <a:gridCol w="381240"/>
                <a:gridCol w="2438280"/>
                <a:gridCol w="457200"/>
                <a:gridCol w="2133720"/>
              </a:tblGrid>
              <a:tr h="299880">
                <a:tc gridSpan="2"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  <a:ea typeface="Arial"/>
                        </a:rPr>
                        <a:t>3CaO.SiO</a:t>
                      </a:r>
                      <a:r>
                        <a:rPr b="1" lang="pt-BR" sz="1200" spc="-1" strike="noStrike" baseline="-25000">
                          <a:solidFill>
                            <a:srgbClr val="ffffff"/>
                          </a:solidFill>
                          <a:latin typeface="Americana XBd BT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  <a:ea typeface="Arial"/>
                        </a:rPr>
                        <a:t>2CaO.SiO</a:t>
                      </a:r>
                      <a:r>
                        <a:rPr b="1" lang="pt-BR" sz="1200" spc="-1" strike="noStrike" baseline="-25000">
                          <a:solidFill>
                            <a:srgbClr val="ffffff"/>
                          </a:solidFill>
                          <a:latin typeface="Americana XBd BT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12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PARCI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  <a:ea typeface="Arial"/>
                        </a:rPr>
                        <a:t>2CaO.SiO</a:t>
                      </a:r>
                      <a:r>
                        <a:rPr b="1" lang="pt-BR" sz="1200" spc="-1" strike="noStrike" baseline="-25000">
                          <a:solidFill>
                            <a:srgbClr val="ffffff"/>
                          </a:solidFill>
                          <a:latin typeface="Americana XBd BT"/>
                        </a:rPr>
                        <a:t>2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  <a:ea typeface="Arial"/>
                        </a:rPr>
                        <a:t>.aq. + Ca(OH)</a:t>
                      </a:r>
                      <a:r>
                        <a:rPr b="1" lang="pt-BR" sz="1200" spc="-1" strike="noStrike" baseline="-25000">
                          <a:solidFill>
                            <a:srgbClr val="ffffff"/>
                          </a:solidFill>
                          <a:latin typeface="Americana XBd BT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(tobermorita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PARCI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  <a:ea typeface="Arial"/>
                        </a:rPr>
                        <a:t>2CaO.SiO</a:t>
                      </a:r>
                      <a:r>
                        <a:rPr b="1" lang="pt-BR" sz="1200" spc="-1" strike="noStrike" baseline="-25000">
                          <a:solidFill>
                            <a:srgbClr val="ffffff"/>
                          </a:solidFill>
                          <a:latin typeface="Americana XBd BT"/>
                        </a:rPr>
                        <a:t>2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  <a:ea typeface="Arial"/>
                        </a:rPr>
                        <a:t>.aq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(tobermorita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I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COMPLE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  <a:ea typeface="Arial"/>
                        </a:rPr>
                        <a:t>2CaO.SiO</a:t>
                      </a:r>
                      <a:r>
                        <a:rPr b="1" lang="pt-BR" sz="1200" spc="-1" strike="noStrike" baseline="-25000">
                          <a:solidFill>
                            <a:srgbClr val="ffffff"/>
                          </a:solidFill>
                          <a:latin typeface="Americana XBd BT"/>
                        </a:rPr>
                        <a:t>2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  <a:ea typeface="Arial"/>
                        </a:rPr>
                        <a:t>.3H</a:t>
                      </a:r>
                      <a:r>
                        <a:rPr b="1" lang="pt-BR" sz="1200" spc="-1" strike="noStrike" baseline="-25000">
                          <a:solidFill>
                            <a:srgbClr val="ffffff"/>
                          </a:solidFill>
                          <a:latin typeface="Americana XBd BT"/>
                        </a:rPr>
                        <a:t>2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  <a:ea typeface="Arial"/>
                        </a:rPr>
                        <a:t>O + Ca(OH)</a:t>
                      </a:r>
                      <a:r>
                        <a:rPr b="1" lang="pt-BR" sz="1200" spc="-1" strike="noStrike" baseline="-25000">
                          <a:solidFill>
                            <a:srgbClr val="ffffff"/>
                          </a:solidFill>
                          <a:latin typeface="Americana XBd BT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(afwillita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39" name=""/>
          <p:cNvSpPr/>
          <p:nvPr/>
        </p:nvSpPr>
        <p:spPr>
          <a:xfrm>
            <a:off x="1752480" y="106668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mericana XBd BT"/>
              </a:rPr>
              <a:t>HIDRATAÇÃO DOS SILICA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2209680" y="3581280"/>
          <a:ext cx="6629400" cy="2595600"/>
        </p:xfrm>
        <a:graphic>
          <a:graphicData uri="http://schemas.openxmlformats.org/drawingml/2006/table">
            <a:tbl>
              <a:tblPr/>
              <a:tblGrid>
                <a:gridCol w="457200"/>
                <a:gridCol w="2438640"/>
                <a:gridCol w="533160"/>
                <a:gridCol w="3200400"/>
              </a:tblGrid>
              <a:tr h="299880">
                <a:tc gridSpan="2"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  <a:ea typeface="Arial"/>
                        </a:rPr>
                        <a:t>3CaO.Al</a:t>
                      </a:r>
                      <a:r>
                        <a:rPr b="1" lang="pt-BR" sz="1200" spc="-1" strike="noStrike" baseline="-25000">
                          <a:solidFill>
                            <a:srgbClr val="ffffff"/>
                          </a:solidFill>
                          <a:latin typeface="Americana XBd BT"/>
                        </a:rPr>
                        <a:t>2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O</a:t>
                      </a:r>
                      <a:r>
                        <a:rPr b="1" lang="pt-BR" sz="1200" spc="-1" strike="noStrike" baseline="-25000">
                          <a:solidFill>
                            <a:srgbClr val="ffffff"/>
                          </a:solidFill>
                          <a:latin typeface="Americana XBd BT"/>
                        </a:rPr>
                        <a:t>3 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  <a:ea typeface="Arial"/>
                        </a:rPr>
                        <a:t>+ CaSO</a:t>
                      </a:r>
                      <a:r>
                        <a:rPr b="1" lang="pt-BR" sz="1200" spc="-1" strike="noStrike" baseline="-25000">
                          <a:solidFill>
                            <a:srgbClr val="ffffff"/>
                          </a:solidFill>
                          <a:latin typeface="Americana XBd BT"/>
                        </a:rPr>
                        <a:t>4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  <a:ea typeface="Arial"/>
                        </a:rPr>
                        <a:t>.2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H</a:t>
                      </a:r>
                      <a:r>
                        <a:rPr b="1" lang="pt-BR" sz="1200" spc="-1" strike="noStrike" baseline="-25000">
                          <a:solidFill>
                            <a:srgbClr val="ffffff"/>
                          </a:solidFill>
                          <a:latin typeface="Americana XBd BT"/>
                        </a:rPr>
                        <a:t>2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O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  <a:ea typeface="Arial"/>
                        </a:rPr>
                        <a:t>4CaO.Al</a:t>
                      </a:r>
                      <a:r>
                        <a:rPr b="1" lang="pt-BR" sz="1200" spc="-1" strike="noStrike" baseline="-25000">
                          <a:solidFill>
                            <a:srgbClr val="ffffff"/>
                          </a:solidFill>
                          <a:latin typeface="Americana XBd BT"/>
                        </a:rPr>
                        <a:t>2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O</a:t>
                      </a:r>
                      <a:r>
                        <a:rPr b="1" lang="pt-BR" sz="1200" spc="-1" strike="noStrike" baseline="-25000">
                          <a:solidFill>
                            <a:srgbClr val="ffffff"/>
                          </a:solidFill>
                          <a:latin typeface="Americana XBd BT"/>
                        </a:rPr>
                        <a:t>3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  <a:ea typeface="Arial"/>
                        </a:rPr>
                        <a:t>.Fe</a:t>
                      </a:r>
                      <a:r>
                        <a:rPr b="1" lang="pt-BR" sz="1200" spc="-1" strike="noStrike" baseline="-25000">
                          <a:solidFill>
                            <a:srgbClr val="ffffff"/>
                          </a:solidFill>
                          <a:latin typeface="Americana XBd BT"/>
                        </a:rPr>
                        <a:t>2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O</a:t>
                      </a:r>
                      <a:r>
                        <a:rPr b="1" lang="pt-BR" sz="1200" spc="-1" strike="noStrike" baseline="-25000">
                          <a:solidFill>
                            <a:srgbClr val="ffffff"/>
                          </a:solidFill>
                          <a:latin typeface="Americana XBd BT"/>
                        </a:rPr>
                        <a:t>3 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  <a:ea typeface="Arial"/>
                        </a:rPr>
                        <a:t>+ CaSO</a:t>
                      </a:r>
                      <a:r>
                        <a:rPr b="1" lang="pt-BR" sz="1200" spc="-1" strike="noStrike" baseline="-25000">
                          <a:solidFill>
                            <a:srgbClr val="ffffff"/>
                          </a:solidFill>
                          <a:latin typeface="Americana XBd BT"/>
                        </a:rPr>
                        <a:t>4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  <a:ea typeface="Arial"/>
                        </a:rPr>
                        <a:t>.2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H</a:t>
                      </a:r>
                      <a:r>
                        <a:rPr b="1" lang="pt-BR" sz="1200" spc="-1" strike="noStrike" baseline="-25000">
                          <a:solidFill>
                            <a:srgbClr val="ffffff"/>
                          </a:solidFill>
                          <a:latin typeface="Americana XBd BT"/>
                        </a:rPr>
                        <a:t>2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O 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  <a:ea typeface="Arial"/>
                        </a:rPr>
                        <a:t>+ Ca(OH)</a:t>
                      </a:r>
                      <a:r>
                        <a:rPr b="1" lang="pt-BR" sz="1200" spc="-1" strike="noStrike" baseline="-25000">
                          <a:solidFill>
                            <a:srgbClr val="ffffff"/>
                          </a:solidFill>
                          <a:latin typeface="Americana XBd BT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6928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IV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IMEDIA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Agulhas 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  <a:ea typeface="Arial"/>
                        </a:rPr>
                        <a:t>3CaO.Al</a:t>
                      </a:r>
                      <a:r>
                        <a:rPr b="1" lang="pt-BR" sz="1200" spc="-1" strike="noStrike" baseline="-25000">
                          <a:solidFill>
                            <a:srgbClr val="ffffff"/>
                          </a:solidFill>
                          <a:latin typeface="Americana XBd BT"/>
                        </a:rPr>
                        <a:t>2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O</a:t>
                      </a:r>
                      <a:r>
                        <a:rPr b="1" lang="pt-BR" sz="1200" spc="-1" strike="noStrike" baseline="-25000">
                          <a:solidFill>
                            <a:srgbClr val="ffffff"/>
                          </a:solidFill>
                          <a:latin typeface="Americana XBd BT"/>
                        </a:rPr>
                        <a:t>3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  <a:ea typeface="Arial"/>
                        </a:rPr>
                        <a:t>.3CaSO</a:t>
                      </a:r>
                      <a:r>
                        <a:rPr b="1" lang="pt-BR" sz="1200" spc="-1" strike="noStrike" baseline="-25000">
                          <a:solidFill>
                            <a:srgbClr val="ffffff"/>
                          </a:solidFill>
                          <a:latin typeface="Americana XBd BT"/>
                        </a:rPr>
                        <a:t>4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  <a:ea typeface="Arial"/>
                        </a:rPr>
                        <a:t>.aq. (semelhante a etringita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IV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RÁPID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Agulhas 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  <a:ea typeface="Arial"/>
                        </a:rPr>
                        <a:t>3CaO.Al</a:t>
                      </a:r>
                      <a:r>
                        <a:rPr b="1" lang="pt-BR" sz="1200" spc="-1" strike="noStrike" baseline="-25000">
                          <a:solidFill>
                            <a:srgbClr val="ffffff"/>
                          </a:solidFill>
                          <a:latin typeface="Americana XBd BT"/>
                        </a:rPr>
                        <a:t>2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O</a:t>
                      </a:r>
                      <a:r>
                        <a:rPr b="1" lang="pt-BR" sz="1200" spc="-1" strike="noStrike" baseline="-25000">
                          <a:solidFill>
                            <a:srgbClr val="ffffff"/>
                          </a:solidFill>
                          <a:latin typeface="Americana XBd BT"/>
                        </a:rPr>
                        <a:t>3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  <a:ea typeface="Arial"/>
                        </a:rPr>
                        <a:t>.3CaSO</a:t>
                      </a:r>
                      <a:r>
                        <a:rPr b="1" lang="pt-BR" sz="1200" spc="-1" strike="noStrike" baseline="-25000">
                          <a:solidFill>
                            <a:srgbClr val="ffffff"/>
                          </a:solidFill>
                          <a:latin typeface="Americana XBd BT"/>
                        </a:rPr>
                        <a:t>4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  <a:ea typeface="Arial"/>
                        </a:rPr>
                        <a:t>.aq. e 3CaO.Fe</a:t>
                      </a:r>
                      <a:r>
                        <a:rPr b="1" lang="pt-BR" sz="1200" spc="-1" strike="noStrike" baseline="-25000">
                          <a:solidFill>
                            <a:srgbClr val="ffffff"/>
                          </a:solidFill>
                          <a:latin typeface="Americana XBd BT"/>
                        </a:rPr>
                        <a:t>2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O</a:t>
                      </a:r>
                      <a:r>
                        <a:rPr b="1" lang="pt-BR" sz="1200" spc="-1" strike="noStrike" baseline="-25000">
                          <a:solidFill>
                            <a:srgbClr val="ffffff"/>
                          </a:solidFill>
                          <a:latin typeface="Americana XBd BT"/>
                        </a:rPr>
                        <a:t>3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  <a:ea typeface="Arial"/>
                        </a:rPr>
                        <a:t>.3CaSO</a:t>
                      </a:r>
                      <a:r>
                        <a:rPr b="1" lang="pt-BR" sz="1200" spc="-1" strike="noStrike" baseline="-25000">
                          <a:solidFill>
                            <a:srgbClr val="ffffff"/>
                          </a:solidFill>
                          <a:latin typeface="Americana XBd BT"/>
                        </a:rPr>
                        <a:t>4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  <a:ea typeface="Arial"/>
                        </a:rPr>
                        <a:t>.aq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  <a:ea typeface="Arial"/>
                        </a:rPr>
                        <a:t>(provavelmente em solução sólida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67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V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+ 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  <a:ea typeface="Arial"/>
                        </a:rPr>
                        <a:t>Ca(OH)</a:t>
                      </a:r>
                      <a:r>
                        <a:rPr b="1" lang="pt-BR" sz="1200" spc="-1" strike="noStrike" baseline="-25000">
                          <a:solidFill>
                            <a:srgbClr val="ffffff"/>
                          </a:solidFill>
                          <a:latin typeface="Americana XBd BT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PLACAS HEXAGONA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(solução sólida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  <a:ea typeface="Arial"/>
                        </a:rPr>
                        <a:t>3CaO.Al</a:t>
                      </a:r>
                      <a:r>
                        <a:rPr b="1" lang="pt-BR" sz="1200" spc="-1" strike="noStrike" baseline="-25000">
                          <a:solidFill>
                            <a:srgbClr val="ffffff"/>
                          </a:solidFill>
                          <a:latin typeface="Americana XBd BT"/>
                        </a:rPr>
                        <a:t>2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O</a:t>
                      </a:r>
                      <a:r>
                        <a:rPr b="1" lang="pt-BR" sz="1200" spc="-1" strike="noStrike" baseline="-25000">
                          <a:solidFill>
                            <a:srgbClr val="ffffff"/>
                          </a:solidFill>
                          <a:latin typeface="Americana XBd BT"/>
                        </a:rPr>
                        <a:t>3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  <a:ea typeface="Arial"/>
                        </a:rPr>
                        <a:t>.CaSO</a:t>
                      </a:r>
                      <a:r>
                        <a:rPr b="1" lang="pt-BR" sz="1200" spc="-1" strike="noStrike" baseline="-25000">
                          <a:solidFill>
                            <a:srgbClr val="ffffff"/>
                          </a:solidFill>
                          <a:latin typeface="Americana XBd BT"/>
                        </a:rPr>
                        <a:t>4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  <a:ea typeface="Arial"/>
                        </a:rPr>
                        <a:t>.aq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V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PLACAS HEXAGONA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(solução sólida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  <a:ea typeface="Arial"/>
                        </a:rPr>
                        <a:t>3CaO(Al</a:t>
                      </a:r>
                      <a:r>
                        <a:rPr b="1" lang="pt-BR" sz="1200" spc="-1" strike="noStrike" baseline="-25000">
                          <a:solidFill>
                            <a:srgbClr val="ffffff"/>
                          </a:solidFill>
                          <a:latin typeface="Americana XBd BT"/>
                        </a:rPr>
                        <a:t>2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O</a:t>
                      </a:r>
                      <a:r>
                        <a:rPr b="1" lang="pt-BR" sz="1200" spc="-1" strike="noStrike" baseline="-25000">
                          <a:solidFill>
                            <a:srgbClr val="ffffff"/>
                          </a:solidFill>
                          <a:latin typeface="Americana XBd BT"/>
                        </a:rPr>
                        <a:t>3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  <a:ea typeface="Arial"/>
                        </a:rPr>
                        <a:t>.Fe</a:t>
                      </a:r>
                      <a:r>
                        <a:rPr b="1" lang="pt-BR" sz="1200" spc="-1" strike="noStrike" baseline="-25000">
                          <a:solidFill>
                            <a:srgbClr val="ffffff"/>
                          </a:solidFill>
                          <a:latin typeface="Americana XBd BT"/>
                        </a:rPr>
                        <a:t>2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O</a:t>
                      </a:r>
                      <a:r>
                        <a:rPr b="1" lang="pt-BR" sz="1200" spc="-1" strike="noStrike" baseline="-25000">
                          <a:solidFill>
                            <a:srgbClr val="ffffff"/>
                          </a:solidFill>
                          <a:latin typeface="Americana XBd BT"/>
                        </a:rPr>
                        <a:t>3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  <a:ea typeface="Arial"/>
                        </a:rPr>
                        <a:t>).CaSO</a:t>
                      </a:r>
                      <a:r>
                        <a:rPr b="1" lang="pt-BR" sz="1200" spc="-1" strike="noStrike" baseline="-25000">
                          <a:solidFill>
                            <a:srgbClr val="ffffff"/>
                          </a:solidFill>
                          <a:latin typeface="Americana XBd BT"/>
                        </a:rPr>
                        <a:t>4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  <a:ea typeface="Arial"/>
                        </a:rPr>
                        <a:t>.aq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9880">
                <a:tc gridSpan="2"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  <a:ea typeface="Arial"/>
                        </a:rPr>
                        <a:t>3CaO.Al</a:t>
                      </a:r>
                      <a:r>
                        <a:rPr b="1" lang="pt-BR" sz="1200" spc="-1" strike="noStrike" baseline="-25000">
                          <a:solidFill>
                            <a:srgbClr val="ffffff"/>
                          </a:solidFill>
                          <a:latin typeface="Americana XBd BT"/>
                        </a:rPr>
                        <a:t>2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O</a:t>
                      </a:r>
                      <a:r>
                        <a:rPr b="1" lang="pt-BR" sz="1200" spc="-1" strike="noStrike" baseline="-25000">
                          <a:solidFill>
                            <a:srgbClr val="ffffff"/>
                          </a:solidFill>
                          <a:latin typeface="Americana XBd BT"/>
                        </a:rPr>
                        <a:t>3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  <a:ea typeface="Arial"/>
                        </a:rPr>
                        <a:t>.6H</a:t>
                      </a:r>
                      <a:r>
                        <a:rPr b="1" lang="pt-BR" sz="1200" spc="-1" strike="noStrike" baseline="-25000">
                          <a:solidFill>
                            <a:srgbClr val="ffffff"/>
                          </a:solidFill>
                          <a:latin typeface="Americana XBd BT"/>
                        </a:rPr>
                        <a:t>2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  <a:ea typeface="Arial"/>
                        </a:rPr>
                        <a:t>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  <a:ea typeface="Arial"/>
                        </a:rPr>
                        <a:t>3CaO.Al</a:t>
                      </a:r>
                      <a:r>
                        <a:rPr b="1" lang="pt-BR" sz="1200" spc="-1" strike="noStrike" baseline="-25000">
                          <a:solidFill>
                            <a:srgbClr val="ffffff"/>
                          </a:solidFill>
                          <a:latin typeface="Americana XBd BT"/>
                        </a:rPr>
                        <a:t>2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O</a:t>
                      </a:r>
                      <a:r>
                        <a:rPr b="1" lang="pt-BR" sz="1200" spc="-1" strike="noStrike" baseline="-25000">
                          <a:solidFill>
                            <a:srgbClr val="ffffff"/>
                          </a:solidFill>
                          <a:latin typeface="Americana XBd BT"/>
                        </a:rPr>
                        <a:t>3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  <a:ea typeface="Arial"/>
                        </a:rPr>
                        <a:t>.6H</a:t>
                      </a:r>
                      <a:r>
                        <a:rPr b="1" lang="pt-BR" sz="1200" spc="-1" strike="noStrike" baseline="-25000">
                          <a:solidFill>
                            <a:srgbClr val="ffffff"/>
                          </a:solidFill>
                          <a:latin typeface="Americana XBd BT"/>
                        </a:rPr>
                        <a:t>2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mericana XBd BT"/>
                          <a:ea typeface="Arial"/>
                        </a:rPr>
                        <a:t>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1" name=""/>
          <p:cNvSpPr/>
          <p:nvPr/>
        </p:nvSpPr>
        <p:spPr>
          <a:xfrm>
            <a:off x="2438280" y="32767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mericana XBd BT"/>
              </a:rPr>
              <a:t>HIDRATAÇÃO DOS ALUMINA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1828800" y="380880"/>
            <a:ext cx="4800600" cy="68580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ESTÁGIOS DA HIDRATAÇÃ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1828800" y="1295280"/>
          <a:ext cx="6629040" cy="1495440"/>
        </p:xfrm>
        <a:graphic>
          <a:graphicData uri="http://schemas.openxmlformats.org/drawingml/2006/table">
            <a:tbl>
              <a:tblPr/>
              <a:tblGrid>
                <a:gridCol w="2209320"/>
                <a:gridCol w="4419720"/>
              </a:tblGrid>
              <a:tr h="397440">
                <a:tc gridSpan="2"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ESTÁGI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I, Ia, IV, IV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inicia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V e V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Ocorrem quando a gipsita se esgota (12 a 24 horas apó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4" name=""/>
          <p:cNvSpPr/>
          <p:nvPr/>
        </p:nvSpPr>
        <p:spPr>
          <a:xfrm>
            <a:off x="1905120" y="297180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66"/>
                </a:solidFill>
                <a:latin typeface="Americana XBd BT"/>
              </a:rPr>
              <a:t>PODE OCORRER:</a:t>
            </a:r>
            <a:r>
              <a:rPr b="1" lang="pt-BR" sz="1400" spc="-1" strike="noStrike">
                <a:solidFill>
                  <a:srgbClr val="ffffff"/>
                </a:solidFill>
                <a:latin typeface="Americana XBd BT"/>
              </a:rPr>
              <a:t> estágio II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mericana XBd BT"/>
              </a:rPr>
              <a:t>Alumina + </a:t>
            </a:r>
            <a:r>
              <a:rPr b="1" lang="pt-BR" sz="1400" spc="-1" strike="noStrike">
                <a:solidFill>
                  <a:srgbClr val="ffffff"/>
                </a:solidFill>
                <a:latin typeface="Americana XBd BT"/>
                <a:ea typeface="Arial"/>
              </a:rPr>
              <a:t>3CaO.SiO</a:t>
            </a:r>
            <a:r>
              <a:rPr b="1" lang="pt-BR" sz="1400" spc="-1" strike="noStrike" baseline="-25000">
                <a:solidFill>
                  <a:srgbClr val="ffffff"/>
                </a:solidFill>
                <a:latin typeface="Americana XBd BT"/>
              </a:rPr>
              <a:t>2</a:t>
            </a:r>
            <a:r>
              <a:rPr b="1" lang="pt-BR" sz="1400" spc="-1" strike="noStrike">
                <a:solidFill>
                  <a:srgbClr val="ffffff"/>
                </a:solidFill>
                <a:latin typeface="Americana XBd BT"/>
                <a:ea typeface="Arial"/>
              </a:rPr>
              <a:t>.aq. 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pt-BR" sz="1400" spc="-1" strike="noStrike">
                <a:solidFill>
                  <a:srgbClr val="ffffff"/>
                </a:solidFill>
                <a:latin typeface="Americana XBd BT"/>
                <a:ea typeface="Arial"/>
              </a:rPr>
              <a:t>2CaO.Al</a:t>
            </a:r>
            <a:r>
              <a:rPr b="1" lang="pt-BR" sz="1400" spc="-1" strike="noStrike" baseline="-25000">
                <a:solidFill>
                  <a:srgbClr val="ffffff"/>
                </a:solidFill>
                <a:latin typeface="Americana XBd BT"/>
              </a:rPr>
              <a:t>2</a:t>
            </a:r>
            <a:r>
              <a:rPr b="1" lang="pt-BR" sz="1400" spc="-1" strike="noStrike">
                <a:solidFill>
                  <a:srgbClr val="ffffff"/>
                </a:solidFill>
                <a:latin typeface="Americana XBd BT"/>
              </a:rPr>
              <a:t>O</a:t>
            </a:r>
            <a:r>
              <a:rPr b="1" lang="pt-BR" sz="1400" spc="-1" strike="noStrike" baseline="-25000">
                <a:solidFill>
                  <a:srgbClr val="ffffff"/>
                </a:solidFill>
                <a:latin typeface="Americana XBd BT"/>
              </a:rPr>
              <a:t>3</a:t>
            </a:r>
            <a:r>
              <a:rPr b="1" lang="pt-BR" sz="1400" spc="-1" strike="noStrike">
                <a:solidFill>
                  <a:srgbClr val="ffffff"/>
                </a:solidFill>
                <a:latin typeface="Americana XBd BT"/>
                <a:ea typeface="Arial"/>
              </a:rPr>
              <a:t>.SiO</a:t>
            </a:r>
            <a:r>
              <a:rPr b="1" lang="pt-BR" sz="1400" spc="-1" strike="noStrike" baseline="-25000">
                <a:solidFill>
                  <a:srgbClr val="ffffff"/>
                </a:solidFill>
                <a:latin typeface="Americana XBd BT"/>
              </a:rPr>
              <a:t>2</a:t>
            </a:r>
            <a:r>
              <a:rPr b="1" lang="pt-BR" sz="1400" spc="-1" strike="noStrike">
                <a:solidFill>
                  <a:srgbClr val="ffffff"/>
                </a:solidFill>
                <a:latin typeface="Americana XBd BT"/>
                <a:ea typeface="Arial"/>
              </a:rPr>
              <a:t>.aq. + síl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057400" y="4191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743200" y="4114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mericana XBd BT"/>
                <a:ea typeface="Arial"/>
              </a:rPr>
              <a:t>Ca(OH)</a:t>
            </a:r>
            <a:r>
              <a:rPr b="1" lang="pt-BR" sz="2400" spc="-1" strike="noStrike" baseline="-25000">
                <a:solidFill>
                  <a:srgbClr val="ffff66"/>
                </a:solidFill>
                <a:latin typeface="Americana XBd BT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114800" y="4191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800600" y="4114800"/>
            <a:ext cx="380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66"/>
                </a:solidFill>
                <a:latin typeface="Americana XBd BT"/>
              </a:rPr>
              <a:t>ÚNICO COMPOSTO SOLÚ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66"/>
                </a:solidFill>
                <a:latin typeface="Americana XBd BT"/>
              </a:rPr>
              <a:t>RESULTANTE DA HIDRATAÇÃO (13 a 17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200400" y="4724280"/>
            <a:ext cx="457200" cy="609840"/>
          </a:xfrm>
          <a:prstGeom prst="downArrow">
            <a:avLst>
              <a:gd name="adj1" fmla="val 50000"/>
              <a:gd name="adj2" fmla="val 33346"/>
            </a:avLst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438280" y="548640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66"/>
                </a:solidFill>
                <a:latin typeface="Americana XBd BT"/>
              </a:rPr>
              <a:t>RESPONSÁVEL PEL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66"/>
                </a:solidFill>
                <a:latin typeface="Americana XBd BT"/>
              </a:rPr>
              <a:t>INSTABILIDADEM QUÍM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4648320" y="685800"/>
            <a:ext cx="419076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mericana XBd BT"/>
                <a:ea typeface="Arial"/>
              </a:rPr>
              <a:t>O</a:t>
            </a:r>
            <a:r>
              <a:rPr b="1" lang="pt-BR" sz="2400" spc="-1" strike="noStrike" baseline="-25000">
                <a:solidFill>
                  <a:srgbClr val="ffff66"/>
                </a:solidFill>
                <a:latin typeface="Americana XBd BT"/>
              </a:rPr>
              <a:t>2</a:t>
            </a:r>
            <a:r>
              <a:rPr b="1" lang="pt-BR" sz="2400" spc="-1" strike="noStrike">
                <a:solidFill>
                  <a:srgbClr val="ffff66"/>
                </a:solidFill>
                <a:latin typeface="Americana XBd BT"/>
              </a:rPr>
              <a:t>	</a:t>
            </a:r>
            <a:r>
              <a:rPr b="1" lang="pt-BR" sz="2400" spc="-1" strike="noStrike">
                <a:solidFill>
                  <a:srgbClr val="ffff66"/>
                </a:solidFill>
                <a:latin typeface="Americana XBd BT"/>
              </a:rPr>
              <a:t>Si</a:t>
            </a:r>
            <a:r>
              <a:rPr b="1" lang="pt-BR" sz="2400" spc="-1" strike="noStrike">
                <a:solidFill>
                  <a:srgbClr val="ffff66"/>
                </a:solidFill>
                <a:latin typeface="Americana XBd BT"/>
              </a:rPr>
              <a:t>	</a:t>
            </a:r>
            <a:r>
              <a:rPr b="1" lang="pt-BR" sz="2400" spc="-1" strike="noStrike">
                <a:solidFill>
                  <a:srgbClr val="ffff66"/>
                </a:solidFill>
                <a:latin typeface="Americana XBd BT"/>
              </a:rPr>
              <a:t>Ca</a:t>
            </a:r>
            <a:r>
              <a:rPr b="1" lang="pt-BR" sz="2400" spc="-1" strike="noStrike">
                <a:solidFill>
                  <a:srgbClr val="ffff66"/>
                </a:solidFill>
                <a:latin typeface="Americana XBd BT"/>
              </a:rPr>
              <a:t>	</a:t>
            </a:r>
            <a:r>
              <a:rPr b="1" lang="pt-BR" sz="2400" spc="-1" strike="noStrike">
                <a:solidFill>
                  <a:srgbClr val="ffff66"/>
                </a:solidFill>
                <a:latin typeface="Americana XBd BT"/>
              </a:rPr>
              <a:t>Al</a:t>
            </a:r>
            <a:r>
              <a:rPr b="1" lang="pt-BR" sz="2400" spc="-1" strike="noStrike">
                <a:solidFill>
                  <a:srgbClr val="ffff66"/>
                </a:solidFill>
                <a:latin typeface="Americana XBd BT"/>
              </a:rPr>
              <a:t>	</a:t>
            </a:r>
            <a:r>
              <a:rPr b="1" lang="pt-BR" sz="2400" spc="-1" strike="noStrike">
                <a:solidFill>
                  <a:srgbClr val="ffff66"/>
                </a:solidFill>
                <a:latin typeface="Americana XBd BT"/>
              </a:rPr>
              <a:t>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772400" y="12193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rot="18900000">
            <a:off x="3581280" y="761760"/>
            <a:ext cx="12956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66"/>
                </a:solidFill>
                <a:latin typeface="Americana XBd BT"/>
              </a:rPr>
              <a:t>ELEMENT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362320" y="1828800"/>
            <a:ext cx="647676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mericana XBd BT"/>
                <a:ea typeface="Arial"/>
              </a:rPr>
              <a:t>CaO</a:t>
            </a:r>
            <a:r>
              <a:rPr b="1" lang="pt-BR" sz="2400" spc="-1" strike="noStrike">
                <a:solidFill>
                  <a:srgbClr val="ffff66"/>
                </a:solidFill>
                <a:latin typeface="Americana XBd BT"/>
                <a:ea typeface="Arial"/>
              </a:rPr>
              <a:t>	</a:t>
            </a:r>
            <a:r>
              <a:rPr b="1" lang="pt-BR" sz="2400" spc="-1" strike="noStrike">
                <a:solidFill>
                  <a:srgbClr val="ffff66"/>
                </a:solidFill>
                <a:latin typeface="Americana XBd BT"/>
                <a:ea typeface="Arial"/>
              </a:rPr>
              <a:t>	</a:t>
            </a:r>
            <a:r>
              <a:rPr b="1" lang="pt-BR" sz="2400" spc="-1" strike="noStrike">
                <a:solidFill>
                  <a:srgbClr val="ffff66"/>
                </a:solidFill>
                <a:latin typeface="Americana XBd BT"/>
                <a:ea typeface="Arial"/>
              </a:rPr>
              <a:t>SiO</a:t>
            </a:r>
            <a:r>
              <a:rPr b="1" lang="pt-BR" sz="2400" spc="-1" strike="noStrike" baseline="-25000">
                <a:solidFill>
                  <a:srgbClr val="ffff66"/>
                </a:solidFill>
                <a:latin typeface="Americana XBd BT"/>
              </a:rPr>
              <a:t>2</a:t>
            </a:r>
            <a:r>
              <a:rPr b="1" lang="pt-BR" sz="2400" spc="-1" strike="noStrike">
                <a:solidFill>
                  <a:srgbClr val="ffff66"/>
                </a:solidFill>
                <a:latin typeface="Americana XBd BT"/>
              </a:rPr>
              <a:t>	</a:t>
            </a:r>
            <a:r>
              <a:rPr b="1" lang="pt-BR" sz="2400" spc="-1" strike="noStrike">
                <a:solidFill>
                  <a:srgbClr val="ffff66"/>
                </a:solidFill>
                <a:latin typeface="Americana XBd BT"/>
              </a:rPr>
              <a:t>	</a:t>
            </a:r>
            <a:r>
              <a:rPr b="1" lang="pt-BR" sz="2400" spc="-1" strike="noStrike">
                <a:solidFill>
                  <a:srgbClr val="ffff66"/>
                </a:solidFill>
                <a:latin typeface="Americana XBd BT"/>
              </a:rPr>
              <a:t>Al</a:t>
            </a:r>
            <a:r>
              <a:rPr b="1" lang="pt-BR" sz="2400" spc="-1" strike="noStrike" baseline="-25000">
                <a:solidFill>
                  <a:srgbClr val="ffff66"/>
                </a:solidFill>
                <a:latin typeface="Americana XBd BT"/>
              </a:rPr>
              <a:t>2</a:t>
            </a:r>
            <a:r>
              <a:rPr b="1" lang="pt-BR" sz="2400" spc="-1" strike="noStrike">
                <a:solidFill>
                  <a:srgbClr val="ffff66"/>
                </a:solidFill>
                <a:latin typeface="Americana XBd BT"/>
                <a:ea typeface="Arial"/>
              </a:rPr>
              <a:t>O</a:t>
            </a:r>
            <a:r>
              <a:rPr b="1" lang="pt-BR" sz="2400" spc="-1" strike="noStrike" baseline="-25000">
                <a:solidFill>
                  <a:srgbClr val="ffff66"/>
                </a:solidFill>
                <a:latin typeface="Americana XBd BT"/>
              </a:rPr>
              <a:t>3</a:t>
            </a:r>
            <a:r>
              <a:rPr b="1" lang="pt-BR" sz="2400" spc="-1" strike="noStrike">
                <a:solidFill>
                  <a:srgbClr val="ffff66"/>
                </a:solidFill>
                <a:latin typeface="Americana XBd BT"/>
              </a:rPr>
              <a:t>	</a:t>
            </a:r>
            <a:r>
              <a:rPr b="1" lang="pt-BR" sz="2400" spc="-1" strike="noStrike">
                <a:solidFill>
                  <a:srgbClr val="ffff66"/>
                </a:solidFill>
                <a:latin typeface="Americana XBd BT"/>
              </a:rPr>
              <a:t>	</a:t>
            </a:r>
            <a:r>
              <a:rPr b="1" lang="pt-BR" sz="2400" spc="-1" strike="noStrike">
                <a:solidFill>
                  <a:srgbClr val="ffff66"/>
                </a:solidFill>
                <a:latin typeface="Americana XBd BT"/>
              </a:rPr>
              <a:t>Fe</a:t>
            </a:r>
            <a:r>
              <a:rPr b="1" lang="pt-BR" sz="2400" spc="-1" strike="noStrike" baseline="-25000">
                <a:solidFill>
                  <a:srgbClr val="ffff66"/>
                </a:solidFill>
                <a:latin typeface="Americana XBd BT"/>
              </a:rPr>
              <a:t>2</a:t>
            </a:r>
            <a:r>
              <a:rPr b="1" lang="pt-BR" sz="2400" spc="-1" strike="noStrike">
                <a:solidFill>
                  <a:srgbClr val="ffff66"/>
                </a:solidFill>
                <a:latin typeface="Americana XBd BT"/>
                <a:ea typeface="Arial"/>
              </a:rPr>
              <a:t>O</a:t>
            </a:r>
            <a:r>
              <a:rPr b="1" lang="pt-BR" sz="2400" spc="-1" strike="noStrike" baseline="-25000">
                <a:solidFill>
                  <a:srgbClr val="ffff66"/>
                </a:solidFill>
                <a:latin typeface="Americana XBd BT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362320" y="3048120"/>
            <a:ext cx="647676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mericana XBd BT"/>
                <a:ea typeface="Arial"/>
              </a:rPr>
              <a:t>C</a:t>
            </a:r>
            <a:r>
              <a:rPr b="1" lang="pt-BR" sz="2400" spc="-1" strike="noStrike" baseline="-25000">
                <a:solidFill>
                  <a:srgbClr val="ffff66"/>
                </a:solidFill>
                <a:latin typeface="Americana XBd BT"/>
              </a:rPr>
              <a:t>3</a:t>
            </a:r>
            <a:r>
              <a:rPr b="1" lang="pt-BR" sz="2400" spc="-1" strike="noStrike">
                <a:solidFill>
                  <a:srgbClr val="ffff66"/>
                </a:solidFill>
                <a:latin typeface="Americana XBd BT"/>
                <a:ea typeface="Arial"/>
              </a:rPr>
              <a:t>S</a:t>
            </a:r>
            <a:r>
              <a:rPr b="1" lang="pt-BR" sz="2400" spc="-1" strike="noStrike">
                <a:solidFill>
                  <a:srgbClr val="ffff66"/>
                </a:solidFill>
                <a:latin typeface="Americana XBd BT"/>
                <a:ea typeface="Arial"/>
              </a:rPr>
              <a:t>	</a:t>
            </a:r>
            <a:r>
              <a:rPr b="1" lang="pt-BR" sz="2400" spc="-1" strike="noStrike">
                <a:solidFill>
                  <a:srgbClr val="ffff66"/>
                </a:solidFill>
                <a:latin typeface="Americana XBd BT"/>
                <a:ea typeface="Arial"/>
              </a:rPr>
              <a:t>	</a:t>
            </a:r>
            <a:r>
              <a:rPr b="1" lang="pt-BR" sz="2400" spc="-1" strike="noStrike">
                <a:solidFill>
                  <a:srgbClr val="ffff66"/>
                </a:solidFill>
                <a:latin typeface="Americana XBd BT"/>
                <a:ea typeface="Arial"/>
              </a:rPr>
              <a:t>C</a:t>
            </a:r>
            <a:r>
              <a:rPr b="1" lang="pt-BR" sz="2400" spc="-1" strike="noStrike" baseline="-25000">
                <a:solidFill>
                  <a:srgbClr val="ffff66"/>
                </a:solidFill>
                <a:latin typeface="Americana XBd BT"/>
              </a:rPr>
              <a:t>2</a:t>
            </a:r>
            <a:r>
              <a:rPr b="1" lang="pt-BR" sz="2400" spc="-1" strike="noStrike">
                <a:solidFill>
                  <a:srgbClr val="ffff66"/>
                </a:solidFill>
                <a:latin typeface="Americana XBd BT"/>
                <a:ea typeface="Arial"/>
              </a:rPr>
              <a:t>S</a:t>
            </a:r>
            <a:r>
              <a:rPr b="1" lang="pt-BR" sz="2400" spc="-1" strike="noStrike">
                <a:solidFill>
                  <a:srgbClr val="ffff66"/>
                </a:solidFill>
                <a:latin typeface="Americana XBd BT"/>
                <a:ea typeface="Arial"/>
              </a:rPr>
              <a:t>	</a:t>
            </a:r>
            <a:r>
              <a:rPr b="1" lang="pt-BR" sz="2400" spc="-1" strike="noStrike">
                <a:solidFill>
                  <a:srgbClr val="ffff66"/>
                </a:solidFill>
                <a:latin typeface="Americana XBd BT"/>
                <a:ea typeface="Arial"/>
              </a:rPr>
              <a:t>	</a:t>
            </a:r>
            <a:r>
              <a:rPr b="1" lang="pt-BR" sz="2400" spc="-1" strike="noStrike">
                <a:solidFill>
                  <a:srgbClr val="ffff66"/>
                </a:solidFill>
                <a:latin typeface="Americana XBd BT"/>
                <a:ea typeface="Arial"/>
              </a:rPr>
              <a:t>C</a:t>
            </a:r>
            <a:r>
              <a:rPr b="1" lang="pt-BR" sz="2400" spc="-1" strike="noStrike" baseline="-25000">
                <a:solidFill>
                  <a:srgbClr val="ffff66"/>
                </a:solidFill>
                <a:latin typeface="Americana XBd BT"/>
              </a:rPr>
              <a:t>3</a:t>
            </a:r>
            <a:r>
              <a:rPr b="1" lang="pt-BR" sz="2400" spc="-1" strike="noStrike">
                <a:solidFill>
                  <a:srgbClr val="ffff66"/>
                </a:solidFill>
                <a:latin typeface="Americana XBd BT"/>
                <a:ea typeface="Arial"/>
              </a:rPr>
              <a:t>A</a:t>
            </a:r>
            <a:r>
              <a:rPr b="1" lang="pt-BR" sz="2400" spc="-1" strike="noStrike">
                <a:solidFill>
                  <a:srgbClr val="ffff66"/>
                </a:solidFill>
                <a:latin typeface="Americana XBd BT"/>
                <a:ea typeface="Arial"/>
              </a:rPr>
              <a:t>	</a:t>
            </a:r>
            <a:r>
              <a:rPr b="1" lang="pt-BR" sz="2400" spc="-1" strike="noStrike">
                <a:solidFill>
                  <a:srgbClr val="ffff66"/>
                </a:solidFill>
                <a:latin typeface="Americana XBd BT"/>
                <a:ea typeface="Arial"/>
              </a:rPr>
              <a:t>	</a:t>
            </a:r>
            <a:r>
              <a:rPr b="1" lang="pt-BR" sz="2400" spc="-1" strike="noStrike">
                <a:solidFill>
                  <a:srgbClr val="ffff66"/>
                </a:solidFill>
                <a:latin typeface="Americana XBd BT"/>
                <a:ea typeface="Arial"/>
              </a:rPr>
              <a:t>C</a:t>
            </a:r>
            <a:r>
              <a:rPr b="1" lang="pt-BR" sz="2400" spc="-1" strike="noStrike" baseline="-25000">
                <a:solidFill>
                  <a:srgbClr val="ffff66"/>
                </a:solidFill>
                <a:latin typeface="Americana XBd BT"/>
              </a:rPr>
              <a:t>4</a:t>
            </a:r>
            <a:r>
              <a:rPr b="1" lang="pt-BR" sz="2400" spc="-1" strike="noStrike">
                <a:solidFill>
                  <a:srgbClr val="ffff66"/>
                </a:solidFill>
                <a:latin typeface="Americana XBd BT"/>
                <a:ea typeface="Arial"/>
              </a:rPr>
              <a:t>A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419720" y="4267080"/>
            <a:ext cx="441936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mericana XBd BT"/>
                <a:ea typeface="Arial"/>
              </a:rPr>
              <a:t>VÁRIOS TIPOS DE CIM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267080" y="5486400"/>
            <a:ext cx="45720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mericana XBd BT"/>
                <a:ea typeface="Arial"/>
              </a:rPr>
              <a:t>PRODUTOS DE HIDRATA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rot="18900000">
            <a:off x="1676520" y="175212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66"/>
                </a:solidFill>
                <a:latin typeface="Americana XBd BT"/>
              </a:rPr>
              <a:t>ÓXI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rot="18900000">
            <a:off x="1219320" y="3047760"/>
            <a:ext cx="1600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66"/>
                </a:solidFill>
                <a:latin typeface="Americana XBd BT"/>
              </a:rPr>
              <a:t>COMPOSTOS 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66"/>
                </a:solidFill>
                <a:latin typeface="Americana XBd BT"/>
              </a:rPr>
              <a:t>CIME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rot="18900000">
            <a:off x="3352320" y="411444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66"/>
                </a:solidFill>
                <a:latin typeface="Americana XBd BT"/>
              </a:rPr>
              <a:t>CIME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66"/>
                </a:solidFill>
                <a:latin typeface="Americana XBd BT"/>
              </a:rPr>
              <a:t>PORTLA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rot="18900000">
            <a:off x="2971440" y="5409720"/>
            <a:ext cx="1447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66"/>
                </a:solidFill>
                <a:latin typeface="Americana XBd BT"/>
              </a:rPr>
              <a:t>PRODUTOS 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66"/>
                </a:solidFill>
                <a:latin typeface="Americana XBd BT"/>
              </a:rPr>
              <a:t>HIDRATAÇÃ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772400" y="23623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772400" y="35812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772400" y="4800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1828800" y="457200"/>
            <a:ext cx="5257800" cy="38088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PEGA E ENDURECIMEN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971800" y="1981080"/>
            <a:ext cx="838080" cy="381240"/>
          </a:xfrm>
          <a:prstGeom prst="downArrow">
            <a:avLst>
              <a:gd name="adj1" fmla="val 50000"/>
              <a:gd name="adj2" fmla="val 51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1676520" y="1066680"/>
            <a:ext cx="1224000" cy="1130400"/>
            <a:chOff x="1676520" y="1066680"/>
            <a:chExt cx="1224000" cy="1130400"/>
          </a:xfrm>
        </p:grpSpPr>
        <p:sp>
          <p:nvSpPr>
            <p:cNvPr id="568" name=""/>
            <p:cNvSpPr/>
            <p:nvPr/>
          </p:nvSpPr>
          <p:spPr>
            <a:xfrm>
              <a:off x="1676520" y="1066680"/>
              <a:ext cx="1224000" cy="1130400"/>
            </a:xfrm>
            <a:custGeom>
              <a:avLst/>
              <a:gdLst/>
              <a:ahLst/>
              <a:rect l="l" t="t" r="r" b="b"/>
              <a:pathLst>
                <a:path w="771" h="712">
                  <a:moveTo>
                    <a:pt x="107" y="200"/>
                  </a:moveTo>
                  <a:cubicBezTo>
                    <a:pt x="168" y="180"/>
                    <a:pt x="142" y="194"/>
                    <a:pt x="187" y="160"/>
                  </a:cubicBezTo>
                  <a:cubicBezTo>
                    <a:pt x="201" y="117"/>
                    <a:pt x="204" y="42"/>
                    <a:pt x="243" y="16"/>
                  </a:cubicBezTo>
                  <a:cubicBezTo>
                    <a:pt x="256" y="7"/>
                    <a:pt x="309" y="1"/>
                    <a:pt x="315" y="0"/>
                  </a:cubicBezTo>
                  <a:cubicBezTo>
                    <a:pt x="416" y="10"/>
                    <a:pt x="536" y="37"/>
                    <a:pt x="611" y="112"/>
                  </a:cubicBezTo>
                  <a:cubicBezTo>
                    <a:pt x="631" y="172"/>
                    <a:pt x="602" y="100"/>
                    <a:pt x="643" y="152"/>
                  </a:cubicBezTo>
                  <a:cubicBezTo>
                    <a:pt x="661" y="175"/>
                    <a:pt x="654" y="214"/>
                    <a:pt x="667" y="240"/>
                  </a:cubicBezTo>
                  <a:cubicBezTo>
                    <a:pt x="679" y="264"/>
                    <a:pt x="696" y="287"/>
                    <a:pt x="707" y="312"/>
                  </a:cubicBezTo>
                  <a:cubicBezTo>
                    <a:pt x="730" y="363"/>
                    <a:pt x="740" y="409"/>
                    <a:pt x="771" y="456"/>
                  </a:cubicBezTo>
                  <a:cubicBezTo>
                    <a:pt x="768" y="477"/>
                    <a:pt x="769" y="499"/>
                    <a:pt x="763" y="520"/>
                  </a:cubicBezTo>
                  <a:cubicBezTo>
                    <a:pt x="749" y="571"/>
                    <a:pt x="630" y="562"/>
                    <a:pt x="587" y="568"/>
                  </a:cubicBezTo>
                  <a:cubicBezTo>
                    <a:pt x="537" y="585"/>
                    <a:pt x="506" y="618"/>
                    <a:pt x="467" y="648"/>
                  </a:cubicBezTo>
                  <a:cubicBezTo>
                    <a:pt x="435" y="673"/>
                    <a:pt x="399" y="694"/>
                    <a:pt x="363" y="712"/>
                  </a:cubicBezTo>
                  <a:cubicBezTo>
                    <a:pt x="344" y="709"/>
                    <a:pt x="325" y="708"/>
                    <a:pt x="307" y="704"/>
                  </a:cubicBezTo>
                  <a:cubicBezTo>
                    <a:pt x="291" y="700"/>
                    <a:pt x="259" y="688"/>
                    <a:pt x="259" y="688"/>
                  </a:cubicBezTo>
                  <a:cubicBezTo>
                    <a:pt x="251" y="680"/>
                    <a:pt x="244" y="670"/>
                    <a:pt x="235" y="664"/>
                  </a:cubicBezTo>
                  <a:cubicBezTo>
                    <a:pt x="228" y="659"/>
                    <a:pt x="218" y="661"/>
                    <a:pt x="211" y="656"/>
                  </a:cubicBezTo>
                  <a:cubicBezTo>
                    <a:pt x="159" y="615"/>
                    <a:pt x="231" y="644"/>
                    <a:pt x="171" y="624"/>
                  </a:cubicBezTo>
                  <a:cubicBezTo>
                    <a:pt x="94" y="547"/>
                    <a:pt x="192" y="638"/>
                    <a:pt x="123" y="592"/>
                  </a:cubicBezTo>
                  <a:cubicBezTo>
                    <a:pt x="123" y="592"/>
                    <a:pt x="79" y="554"/>
                    <a:pt x="75" y="552"/>
                  </a:cubicBezTo>
                  <a:cubicBezTo>
                    <a:pt x="64" y="536"/>
                    <a:pt x="54" y="520"/>
                    <a:pt x="43" y="504"/>
                  </a:cubicBezTo>
                  <a:cubicBezTo>
                    <a:pt x="38" y="496"/>
                    <a:pt x="27" y="480"/>
                    <a:pt x="27" y="480"/>
                  </a:cubicBezTo>
                  <a:cubicBezTo>
                    <a:pt x="21" y="425"/>
                    <a:pt x="16" y="373"/>
                    <a:pt x="3" y="320"/>
                  </a:cubicBezTo>
                  <a:cubicBezTo>
                    <a:pt x="6" y="290"/>
                    <a:pt x="0" y="210"/>
                    <a:pt x="51" y="200"/>
                  </a:cubicBezTo>
                  <a:cubicBezTo>
                    <a:pt x="69" y="196"/>
                    <a:pt x="88" y="200"/>
                    <a:pt x="107" y="200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879560" y="1523880"/>
              <a:ext cx="177840" cy="304920"/>
            </a:xfrm>
            <a:custGeom>
              <a:avLst/>
              <a:gdLst/>
              <a:ahLst/>
              <a:rect l="l" t="t" r="r" b="b"/>
              <a:pathLst>
                <a:path w="112" h="192">
                  <a:moveTo>
                    <a:pt x="16" y="0"/>
                  </a:moveTo>
                  <a:cubicBezTo>
                    <a:pt x="8" y="56"/>
                    <a:pt x="0" y="112"/>
                    <a:pt x="16" y="144"/>
                  </a:cubicBezTo>
                  <a:cubicBezTo>
                    <a:pt x="32" y="176"/>
                    <a:pt x="104" y="176"/>
                    <a:pt x="112" y="192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362320" y="1218960"/>
              <a:ext cx="203040" cy="533520"/>
            </a:xfrm>
            <a:custGeom>
              <a:avLst/>
              <a:gdLst/>
              <a:ahLst/>
              <a:rect l="l" t="t" r="r" b="b"/>
              <a:pathLst>
                <a:path w="128" h="336">
                  <a:moveTo>
                    <a:pt x="16" y="0"/>
                  </a:moveTo>
                  <a:cubicBezTo>
                    <a:pt x="16" y="16"/>
                    <a:pt x="16" y="32"/>
                    <a:pt x="16" y="48"/>
                  </a:cubicBezTo>
                  <a:cubicBezTo>
                    <a:pt x="16" y="64"/>
                    <a:pt x="0" y="72"/>
                    <a:pt x="16" y="96"/>
                  </a:cubicBezTo>
                  <a:cubicBezTo>
                    <a:pt x="32" y="120"/>
                    <a:pt x="96" y="152"/>
                    <a:pt x="112" y="192"/>
                  </a:cubicBezTo>
                  <a:cubicBezTo>
                    <a:pt x="128" y="232"/>
                    <a:pt x="120" y="284"/>
                    <a:pt x="112" y="33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86000" y="190476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0"/>
                  </a:moveTo>
                  <a:cubicBezTo>
                    <a:pt x="24" y="20"/>
                    <a:pt x="0" y="40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133720" y="1447560"/>
              <a:ext cx="177840" cy="76320"/>
            </a:xfrm>
            <a:custGeom>
              <a:avLst/>
              <a:gdLst/>
              <a:ahLst/>
              <a:rect l="l" t="t" r="r" b="b"/>
              <a:pathLst>
                <a:path w="112" h="48">
                  <a:moveTo>
                    <a:pt x="112" y="48"/>
                  </a:moveTo>
                  <a:cubicBezTo>
                    <a:pt x="96" y="24"/>
                    <a:pt x="80" y="0"/>
                    <a:pt x="64" y="0"/>
                  </a:cubicBezTo>
                  <a:cubicBezTo>
                    <a:pt x="48" y="0"/>
                    <a:pt x="0" y="24"/>
                    <a:pt x="16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3" name=""/>
          <p:cNvSpPr/>
          <p:nvPr/>
        </p:nvSpPr>
        <p:spPr>
          <a:xfrm>
            <a:off x="3124080" y="1295280"/>
            <a:ext cx="533520" cy="533520"/>
          </a:xfrm>
          <a:prstGeom prst="plus">
            <a:avLst>
              <a:gd name="adj" fmla="val 4047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09880" y="1371600"/>
            <a:ext cx="838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ÁGU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2743200" y="2286000"/>
            <a:ext cx="1422360" cy="1299960"/>
            <a:chOff x="2743200" y="2286000"/>
            <a:chExt cx="1422360" cy="1299960"/>
          </a:xfrm>
        </p:grpSpPr>
        <p:sp>
          <p:nvSpPr>
            <p:cNvPr id="576" name=""/>
            <p:cNvSpPr/>
            <p:nvPr/>
          </p:nvSpPr>
          <p:spPr>
            <a:xfrm>
              <a:off x="2971800" y="2501640"/>
              <a:ext cx="841320" cy="838440"/>
            </a:xfrm>
            <a:custGeom>
              <a:avLst/>
              <a:gdLst/>
              <a:ahLst/>
              <a:rect l="l" t="t" r="r" b="b"/>
              <a:pathLst>
                <a:path w="530" h="528">
                  <a:moveTo>
                    <a:pt x="159" y="24"/>
                  </a:moveTo>
                  <a:cubicBezTo>
                    <a:pt x="178" y="21"/>
                    <a:pt x="197" y="20"/>
                    <a:pt x="215" y="16"/>
                  </a:cubicBezTo>
                  <a:cubicBezTo>
                    <a:pt x="231" y="12"/>
                    <a:pt x="263" y="0"/>
                    <a:pt x="263" y="0"/>
                  </a:cubicBezTo>
                  <a:cubicBezTo>
                    <a:pt x="279" y="3"/>
                    <a:pt x="295" y="5"/>
                    <a:pt x="311" y="8"/>
                  </a:cubicBezTo>
                  <a:cubicBezTo>
                    <a:pt x="333" y="13"/>
                    <a:pt x="375" y="24"/>
                    <a:pt x="375" y="24"/>
                  </a:cubicBezTo>
                  <a:cubicBezTo>
                    <a:pt x="415" y="51"/>
                    <a:pt x="421" y="102"/>
                    <a:pt x="455" y="136"/>
                  </a:cubicBezTo>
                  <a:cubicBezTo>
                    <a:pt x="471" y="185"/>
                    <a:pt x="446" y="212"/>
                    <a:pt x="431" y="256"/>
                  </a:cubicBezTo>
                  <a:cubicBezTo>
                    <a:pt x="443" y="292"/>
                    <a:pt x="471" y="347"/>
                    <a:pt x="503" y="368"/>
                  </a:cubicBezTo>
                  <a:cubicBezTo>
                    <a:pt x="524" y="400"/>
                    <a:pt x="530" y="410"/>
                    <a:pt x="519" y="448"/>
                  </a:cubicBezTo>
                  <a:cubicBezTo>
                    <a:pt x="514" y="464"/>
                    <a:pt x="517" y="487"/>
                    <a:pt x="503" y="496"/>
                  </a:cubicBezTo>
                  <a:cubicBezTo>
                    <a:pt x="487" y="507"/>
                    <a:pt x="455" y="528"/>
                    <a:pt x="455" y="528"/>
                  </a:cubicBezTo>
                  <a:cubicBezTo>
                    <a:pt x="389" y="515"/>
                    <a:pt x="374" y="479"/>
                    <a:pt x="327" y="432"/>
                  </a:cubicBezTo>
                  <a:cubicBezTo>
                    <a:pt x="321" y="426"/>
                    <a:pt x="311" y="425"/>
                    <a:pt x="303" y="424"/>
                  </a:cubicBezTo>
                  <a:cubicBezTo>
                    <a:pt x="258" y="419"/>
                    <a:pt x="212" y="419"/>
                    <a:pt x="167" y="416"/>
                  </a:cubicBezTo>
                  <a:cubicBezTo>
                    <a:pt x="146" y="413"/>
                    <a:pt x="124" y="413"/>
                    <a:pt x="103" y="408"/>
                  </a:cubicBezTo>
                  <a:cubicBezTo>
                    <a:pt x="87" y="404"/>
                    <a:pt x="55" y="392"/>
                    <a:pt x="55" y="392"/>
                  </a:cubicBezTo>
                  <a:cubicBezTo>
                    <a:pt x="0" y="310"/>
                    <a:pt x="79" y="241"/>
                    <a:pt x="103" y="168"/>
                  </a:cubicBezTo>
                  <a:cubicBezTo>
                    <a:pt x="106" y="131"/>
                    <a:pt x="96" y="90"/>
                    <a:pt x="111" y="56"/>
                  </a:cubicBezTo>
                  <a:cubicBezTo>
                    <a:pt x="118" y="41"/>
                    <a:pt x="159" y="57"/>
                    <a:pt x="159" y="40"/>
                  </a:cubicBezTo>
                  <a:cubicBezTo>
                    <a:pt x="159" y="35"/>
                    <a:pt x="159" y="29"/>
                    <a:pt x="159" y="24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43200" y="2946240"/>
              <a:ext cx="355680" cy="38160"/>
            </a:xfrm>
            <a:custGeom>
              <a:avLst/>
              <a:gdLst/>
              <a:ahLst/>
              <a:rect l="l" t="t" r="r" b="b"/>
              <a:pathLst>
                <a:path w="224" h="24">
                  <a:moveTo>
                    <a:pt x="224" y="0"/>
                  </a:moveTo>
                  <a:cubicBezTo>
                    <a:pt x="153" y="24"/>
                    <a:pt x="73" y="16"/>
                    <a:pt x="0" y="1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867040" y="2412720"/>
              <a:ext cx="320760" cy="304920"/>
            </a:xfrm>
            <a:custGeom>
              <a:avLst/>
              <a:gdLst/>
              <a:ahLst/>
              <a:rect l="l" t="t" r="r" b="b"/>
              <a:pathLst>
                <a:path w="202" h="192">
                  <a:moveTo>
                    <a:pt x="202" y="192"/>
                  </a:moveTo>
                  <a:cubicBezTo>
                    <a:pt x="160" y="129"/>
                    <a:pt x="109" y="86"/>
                    <a:pt x="50" y="40"/>
                  </a:cubicBezTo>
                  <a:cubicBezTo>
                    <a:pt x="0" y="1"/>
                    <a:pt x="2" y="28"/>
                    <a:pt x="2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695760" y="2286000"/>
              <a:ext cx="304920" cy="241200"/>
            </a:xfrm>
            <a:custGeom>
              <a:avLst/>
              <a:gdLst/>
              <a:ahLst/>
              <a:rect l="l" t="t" r="r" b="b"/>
              <a:pathLst>
                <a:path w="192" h="152">
                  <a:moveTo>
                    <a:pt x="0" y="152"/>
                  </a:moveTo>
                  <a:cubicBezTo>
                    <a:pt x="26" y="135"/>
                    <a:pt x="46" y="113"/>
                    <a:pt x="72" y="96"/>
                  </a:cubicBezTo>
                  <a:cubicBezTo>
                    <a:pt x="91" y="39"/>
                    <a:pt x="155" y="37"/>
                    <a:pt x="192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324240" y="3238200"/>
              <a:ext cx="142920" cy="347760"/>
            </a:xfrm>
            <a:custGeom>
              <a:avLst/>
              <a:gdLst/>
              <a:ahLst/>
              <a:rect l="l" t="t" r="r" b="b"/>
              <a:pathLst>
                <a:path w="90" h="219">
                  <a:moveTo>
                    <a:pt x="90" y="0"/>
                  </a:moveTo>
                  <a:cubicBezTo>
                    <a:pt x="72" y="72"/>
                    <a:pt x="59" y="130"/>
                    <a:pt x="18" y="192"/>
                  </a:cubicBezTo>
                  <a:cubicBezTo>
                    <a:pt x="0" y="219"/>
                    <a:pt x="21" y="216"/>
                    <a:pt x="2" y="21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848400" y="3060720"/>
              <a:ext cx="317160" cy="50760"/>
            </a:xfrm>
            <a:custGeom>
              <a:avLst/>
              <a:gdLst/>
              <a:ahLst/>
              <a:rect l="l" t="t" r="r" b="b"/>
              <a:pathLst>
                <a:path w="200" h="32">
                  <a:moveTo>
                    <a:pt x="0" y="0"/>
                  </a:moveTo>
                  <a:cubicBezTo>
                    <a:pt x="70" y="23"/>
                    <a:pt x="125" y="32"/>
                    <a:pt x="200" y="32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5040" bIns="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429000" y="2654280"/>
              <a:ext cx="203400" cy="457200"/>
            </a:xfrm>
            <a:custGeom>
              <a:avLst/>
              <a:gdLst/>
              <a:ahLst/>
              <a:rect l="l" t="t" r="r" b="b"/>
              <a:pathLst>
                <a:path w="128" h="336">
                  <a:moveTo>
                    <a:pt x="16" y="0"/>
                  </a:moveTo>
                  <a:cubicBezTo>
                    <a:pt x="16" y="16"/>
                    <a:pt x="16" y="32"/>
                    <a:pt x="16" y="48"/>
                  </a:cubicBezTo>
                  <a:cubicBezTo>
                    <a:pt x="16" y="64"/>
                    <a:pt x="0" y="72"/>
                    <a:pt x="16" y="96"/>
                  </a:cubicBezTo>
                  <a:cubicBezTo>
                    <a:pt x="32" y="120"/>
                    <a:pt x="96" y="152"/>
                    <a:pt x="112" y="192"/>
                  </a:cubicBezTo>
                  <a:cubicBezTo>
                    <a:pt x="128" y="232"/>
                    <a:pt x="120" y="284"/>
                    <a:pt x="112" y="33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276720" y="288288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0"/>
                  </a:moveTo>
                  <a:cubicBezTo>
                    <a:pt x="24" y="20"/>
                    <a:pt x="0" y="40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30240" bIns="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2971800" y="3657600"/>
            <a:ext cx="838080" cy="380880"/>
          </a:xfrm>
          <a:prstGeom prst="downArrow">
            <a:avLst>
              <a:gd name="adj1" fmla="val 50000"/>
              <a:gd name="adj2" fmla="val 51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2362320" y="4114800"/>
            <a:ext cx="1751040" cy="1815840"/>
            <a:chOff x="2362320" y="4114800"/>
            <a:chExt cx="1751040" cy="1815840"/>
          </a:xfrm>
        </p:grpSpPr>
        <p:sp>
          <p:nvSpPr>
            <p:cNvPr id="586" name=""/>
            <p:cNvSpPr/>
            <p:nvPr/>
          </p:nvSpPr>
          <p:spPr>
            <a:xfrm>
              <a:off x="2362320" y="4114800"/>
              <a:ext cx="1751040" cy="1815840"/>
            </a:xfrm>
            <a:custGeom>
              <a:avLst/>
              <a:gdLst/>
              <a:ahLst/>
              <a:rect l="l" t="t" r="r" b="b"/>
              <a:pathLst>
                <a:path w="1063" h="1096">
                  <a:moveTo>
                    <a:pt x="463" y="344"/>
                  </a:moveTo>
                  <a:cubicBezTo>
                    <a:pt x="479" y="266"/>
                    <a:pt x="503" y="190"/>
                    <a:pt x="519" y="112"/>
                  </a:cubicBezTo>
                  <a:cubicBezTo>
                    <a:pt x="516" y="77"/>
                    <a:pt x="511" y="43"/>
                    <a:pt x="511" y="8"/>
                  </a:cubicBezTo>
                  <a:cubicBezTo>
                    <a:pt x="511" y="0"/>
                    <a:pt x="517" y="24"/>
                    <a:pt x="519" y="32"/>
                  </a:cubicBezTo>
                  <a:cubicBezTo>
                    <a:pt x="522" y="45"/>
                    <a:pt x="524" y="59"/>
                    <a:pt x="527" y="72"/>
                  </a:cubicBezTo>
                  <a:cubicBezTo>
                    <a:pt x="536" y="112"/>
                    <a:pt x="541" y="152"/>
                    <a:pt x="551" y="192"/>
                  </a:cubicBezTo>
                  <a:cubicBezTo>
                    <a:pt x="554" y="229"/>
                    <a:pt x="555" y="267"/>
                    <a:pt x="559" y="304"/>
                  </a:cubicBezTo>
                  <a:cubicBezTo>
                    <a:pt x="560" y="312"/>
                    <a:pt x="559" y="332"/>
                    <a:pt x="567" y="328"/>
                  </a:cubicBezTo>
                  <a:cubicBezTo>
                    <a:pt x="577" y="323"/>
                    <a:pt x="571" y="306"/>
                    <a:pt x="575" y="296"/>
                  </a:cubicBezTo>
                  <a:cubicBezTo>
                    <a:pt x="579" y="287"/>
                    <a:pt x="586" y="280"/>
                    <a:pt x="591" y="272"/>
                  </a:cubicBezTo>
                  <a:cubicBezTo>
                    <a:pt x="602" y="218"/>
                    <a:pt x="608" y="175"/>
                    <a:pt x="655" y="144"/>
                  </a:cubicBezTo>
                  <a:cubicBezTo>
                    <a:pt x="658" y="136"/>
                    <a:pt x="655" y="120"/>
                    <a:pt x="663" y="120"/>
                  </a:cubicBezTo>
                  <a:cubicBezTo>
                    <a:pt x="671" y="120"/>
                    <a:pt x="672" y="136"/>
                    <a:pt x="671" y="144"/>
                  </a:cubicBezTo>
                  <a:cubicBezTo>
                    <a:pt x="669" y="156"/>
                    <a:pt x="659" y="165"/>
                    <a:pt x="655" y="176"/>
                  </a:cubicBezTo>
                  <a:cubicBezTo>
                    <a:pt x="643" y="207"/>
                    <a:pt x="634" y="240"/>
                    <a:pt x="623" y="272"/>
                  </a:cubicBezTo>
                  <a:cubicBezTo>
                    <a:pt x="621" y="278"/>
                    <a:pt x="604" y="325"/>
                    <a:pt x="607" y="328"/>
                  </a:cubicBezTo>
                  <a:cubicBezTo>
                    <a:pt x="615" y="336"/>
                    <a:pt x="628" y="323"/>
                    <a:pt x="639" y="320"/>
                  </a:cubicBezTo>
                  <a:cubicBezTo>
                    <a:pt x="662" y="290"/>
                    <a:pt x="680" y="261"/>
                    <a:pt x="703" y="232"/>
                  </a:cubicBezTo>
                  <a:cubicBezTo>
                    <a:pt x="715" y="217"/>
                    <a:pt x="735" y="184"/>
                    <a:pt x="735" y="184"/>
                  </a:cubicBezTo>
                  <a:cubicBezTo>
                    <a:pt x="746" y="217"/>
                    <a:pt x="738" y="227"/>
                    <a:pt x="719" y="256"/>
                  </a:cubicBezTo>
                  <a:cubicBezTo>
                    <a:pt x="714" y="277"/>
                    <a:pt x="708" y="299"/>
                    <a:pt x="703" y="320"/>
                  </a:cubicBezTo>
                  <a:cubicBezTo>
                    <a:pt x="700" y="331"/>
                    <a:pt x="698" y="342"/>
                    <a:pt x="695" y="352"/>
                  </a:cubicBezTo>
                  <a:cubicBezTo>
                    <a:pt x="692" y="360"/>
                    <a:pt x="679" y="380"/>
                    <a:pt x="687" y="376"/>
                  </a:cubicBezTo>
                  <a:cubicBezTo>
                    <a:pt x="699" y="370"/>
                    <a:pt x="702" y="354"/>
                    <a:pt x="711" y="344"/>
                  </a:cubicBezTo>
                  <a:cubicBezTo>
                    <a:pt x="757" y="290"/>
                    <a:pt x="800" y="208"/>
                    <a:pt x="871" y="184"/>
                  </a:cubicBezTo>
                  <a:cubicBezTo>
                    <a:pt x="858" y="263"/>
                    <a:pt x="835" y="334"/>
                    <a:pt x="791" y="400"/>
                  </a:cubicBezTo>
                  <a:cubicBezTo>
                    <a:pt x="738" y="480"/>
                    <a:pt x="809" y="426"/>
                    <a:pt x="751" y="464"/>
                  </a:cubicBezTo>
                  <a:cubicBezTo>
                    <a:pt x="807" y="501"/>
                    <a:pt x="943" y="499"/>
                    <a:pt x="1007" y="504"/>
                  </a:cubicBezTo>
                  <a:cubicBezTo>
                    <a:pt x="1023" y="509"/>
                    <a:pt x="1039" y="515"/>
                    <a:pt x="1055" y="520"/>
                  </a:cubicBezTo>
                  <a:cubicBezTo>
                    <a:pt x="1063" y="523"/>
                    <a:pt x="1054" y="540"/>
                    <a:pt x="1047" y="544"/>
                  </a:cubicBezTo>
                  <a:cubicBezTo>
                    <a:pt x="1000" y="570"/>
                    <a:pt x="921" y="571"/>
                    <a:pt x="871" y="584"/>
                  </a:cubicBezTo>
                  <a:cubicBezTo>
                    <a:pt x="842" y="604"/>
                    <a:pt x="812" y="604"/>
                    <a:pt x="783" y="624"/>
                  </a:cubicBezTo>
                  <a:cubicBezTo>
                    <a:pt x="834" y="630"/>
                    <a:pt x="855" y="629"/>
                    <a:pt x="895" y="656"/>
                  </a:cubicBezTo>
                  <a:cubicBezTo>
                    <a:pt x="900" y="664"/>
                    <a:pt x="904" y="673"/>
                    <a:pt x="911" y="680"/>
                  </a:cubicBezTo>
                  <a:cubicBezTo>
                    <a:pt x="934" y="703"/>
                    <a:pt x="951" y="691"/>
                    <a:pt x="911" y="704"/>
                  </a:cubicBezTo>
                  <a:cubicBezTo>
                    <a:pt x="881" y="694"/>
                    <a:pt x="754" y="669"/>
                    <a:pt x="831" y="720"/>
                  </a:cubicBezTo>
                  <a:cubicBezTo>
                    <a:pt x="836" y="728"/>
                    <a:pt x="840" y="738"/>
                    <a:pt x="847" y="744"/>
                  </a:cubicBezTo>
                  <a:cubicBezTo>
                    <a:pt x="861" y="757"/>
                    <a:pt x="895" y="776"/>
                    <a:pt x="895" y="776"/>
                  </a:cubicBezTo>
                  <a:cubicBezTo>
                    <a:pt x="907" y="811"/>
                    <a:pt x="929" y="839"/>
                    <a:pt x="943" y="872"/>
                  </a:cubicBezTo>
                  <a:cubicBezTo>
                    <a:pt x="948" y="883"/>
                    <a:pt x="954" y="893"/>
                    <a:pt x="959" y="904"/>
                  </a:cubicBezTo>
                  <a:cubicBezTo>
                    <a:pt x="962" y="912"/>
                    <a:pt x="975" y="930"/>
                    <a:pt x="967" y="928"/>
                  </a:cubicBezTo>
                  <a:cubicBezTo>
                    <a:pt x="921" y="919"/>
                    <a:pt x="921" y="890"/>
                    <a:pt x="895" y="864"/>
                  </a:cubicBezTo>
                  <a:cubicBezTo>
                    <a:pt x="868" y="837"/>
                    <a:pt x="876" y="856"/>
                    <a:pt x="847" y="840"/>
                  </a:cubicBezTo>
                  <a:cubicBezTo>
                    <a:pt x="811" y="820"/>
                    <a:pt x="789" y="797"/>
                    <a:pt x="751" y="784"/>
                  </a:cubicBezTo>
                  <a:cubicBezTo>
                    <a:pt x="746" y="792"/>
                    <a:pt x="733" y="799"/>
                    <a:pt x="735" y="808"/>
                  </a:cubicBezTo>
                  <a:cubicBezTo>
                    <a:pt x="739" y="827"/>
                    <a:pt x="761" y="838"/>
                    <a:pt x="767" y="856"/>
                  </a:cubicBezTo>
                  <a:cubicBezTo>
                    <a:pt x="777" y="886"/>
                    <a:pt x="795" y="907"/>
                    <a:pt x="807" y="936"/>
                  </a:cubicBezTo>
                  <a:cubicBezTo>
                    <a:pt x="830" y="993"/>
                    <a:pt x="837" y="989"/>
                    <a:pt x="799" y="976"/>
                  </a:cubicBezTo>
                  <a:cubicBezTo>
                    <a:pt x="781" y="940"/>
                    <a:pt x="759" y="919"/>
                    <a:pt x="735" y="888"/>
                  </a:cubicBezTo>
                  <a:cubicBezTo>
                    <a:pt x="690" y="830"/>
                    <a:pt x="725" y="847"/>
                    <a:pt x="679" y="832"/>
                  </a:cubicBezTo>
                  <a:cubicBezTo>
                    <a:pt x="693" y="918"/>
                    <a:pt x="696" y="993"/>
                    <a:pt x="679" y="1080"/>
                  </a:cubicBezTo>
                  <a:cubicBezTo>
                    <a:pt x="630" y="1006"/>
                    <a:pt x="634" y="914"/>
                    <a:pt x="607" y="832"/>
                  </a:cubicBezTo>
                  <a:cubicBezTo>
                    <a:pt x="583" y="927"/>
                    <a:pt x="566" y="1014"/>
                    <a:pt x="511" y="1096"/>
                  </a:cubicBezTo>
                  <a:cubicBezTo>
                    <a:pt x="474" y="1041"/>
                    <a:pt x="491" y="973"/>
                    <a:pt x="511" y="912"/>
                  </a:cubicBezTo>
                  <a:cubicBezTo>
                    <a:pt x="508" y="888"/>
                    <a:pt x="523" y="854"/>
                    <a:pt x="503" y="840"/>
                  </a:cubicBezTo>
                  <a:cubicBezTo>
                    <a:pt x="487" y="829"/>
                    <a:pt x="471" y="861"/>
                    <a:pt x="455" y="872"/>
                  </a:cubicBezTo>
                  <a:cubicBezTo>
                    <a:pt x="428" y="890"/>
                    <a:pt x="406" y="905"/>
                    <a:pt x="383" y="928"/>
                  </a:cubicBezTo>
                  <a:cubicBezTo>
                    <a:pt x="380" y="920"/>
                    <a:pt x="374" y="912"/>
                    <a:pt x="375" y="904"/>
                  </a:cubicBezTo>
                  <a:cubicBezTo>
                    <a:pt x="378" y="887"/>
                    <a:pt x="444" y="797"/>
                    <a:pt x="383" y="848"/>
                  </a:cubicBezTo>
                  <a:cubicBezTo>
                    <a:pt x="374" y="855"/>
                    <a:pt x="367" y="864"/>
                    <a:pt x="359" y="872"/>
                  </a:cubicBezTo>
                  <a:cubicBezTo>
                    <a:pt x="345" y="914"/>
                    <a:pt x="358" y="891"/>
                    <a:pt x="303" y="928"/>
                  </a:cubicBezTo>
                  <a:cubicBezTo>
                    <a:pt x="295" y="933"/>
                    <a:pt x="279" y="944"/>
                    <a:pt x="279" y="944"/>
                  </a:cubicBezTo>
                  <a:cubicBezTo>
                    <a:pt x="290" y="912"/>
                    <a:pt x="303" y="896"/>
                    <a:pt x="327" y="872"/>
                  </a:cubicBezTo>
                  <a:cubicBezTo>
                    <a:pt x="335" y="848"/>
                    <a:pt x="343" y="824"/>
                    <a:pt x="351" y="800"/>
                  </a:cubicBezTo>
                  <a:cubicBezTo>
                    <a:pt x="354" y="791"/>
                    <a:pt x="336" y="812"/>
                    <a:pt x="327" y="816"/>
                  </a:cubicBezTo>
                  <a:cubicBezTo>
                    <a:pt x="319" y="820"/>
                    <a:pt x="311" y="821"/>
                    <a:pt x="303" y="824"/>
                  </a:cubicBezTo>
                  <a:cubicBezTo>
                    <a:pt x="263" y="839"/>
                    <a:pt x="233" y="856"/>
                    <a:pt x="191" y="864"/>
                  </a:cubicBezTo>
                  <a:cubicBezTo>
                    <a:pt x="150" y="891"/>
                    <a:pt x="103" y="890"/>
                    <a:pt x="55" y="896"/>
                  </a:cubicBezTo>
                  <a:cubicBezTo>
                    <a:pt x="39" y="893"/>
                    <a:pt x="16" y="901"/>
                    <a:pt x="7" y="888"/>
                  </a:cubicBezTo>
                  <a:cubicBezTo>
                    <a:pt x="0" y="878"/>
                    <a:pt x="29" y="878"/>
                    <a:pt x="39" y="872"/>
                  </a:cubicBezTo>
                  <a:cubicBezTo>
                    <a:pt x="82" y="847"/>
                    <a:pt x="42" y="861"/>
                    <a:pt x="95" y="848"/>
                  </a:cubicBezTo>
                  <a:cubicBezTo>
                    <a:pt x="165" y="801"/>
                    <a:pt x="257" y="799"/>
                    <a:pt x="327" y="752"/>
                  </a:cubicBezTo>
                  <a:cubicBezTo>
                    <a:pt x="289" y="727"/>
                    <a:pt x="241" y="712"/>
                    <a:pt x="199" y="696"/>
                  </a:cubicBezTo>
                  <a:cubicBezTo>
                    <a:pt x="188" y="692"/>
                    <a:pt x="178" y="684"/>
                    <a:pt x="167" y="680"/>
                  </a:cubicBezTo>
                  <a:cubicBezTo>
                    <a:pt x="151" y="674"/>
                    <a:pt x="119" y="664"/>
                    <a:pt x="119" y="664"/>
                  </a:cubicBezTo>
                  <a:cubicBezTo>
                    <a:pt x="163" y="649"/>
                    <a:pt x="125" y="655"/>
                    <a:pt x="175" y="680"/>
                  </a:cubicBezTo>
                  <a:cubicBezTo>
                    <a:pt x="205" y="695"/>
                    <a:pt x="246" y="704"/>
                    <a:pt x="279" y="712"/>
                  </a:cubicBezTo>
                  <a:cubicBezTo>
                    <a:pt x="287" y="709"/>
                    <a:pt x="303" y="712"/>
                    <a:pt x="303" y="704"/>
                  </a:cubicBezTo>
                  <a:cubicBezTo>
                    <a:pt x="303" y="693"/>
                    <a:pt x="286" y="689"/>
                    <a:pt x="279" y="680"/>
                  </a:cubicBezTo>
                  <a:cubicBezTo>
                    <a:pt x="239" y="634"/>
                    <a:pt x="273" y="660"/>
                    <a:pt x="231" y="632"/>
                  </a:cubicBezTo>
                  <a:cubicBezTo>
                    <a:pt x="217" y="590"/>
                    <a:pt x="228" y="615"/>
                    <a:pt x="191" y="560"/>
                  </a:cubicBezTo>
                  <a:cubicBezTo>
                    <a:pt x="186" y="553"/>
                    <a:pt x="207" y="565"/>
                    <a:pt x="215" y="568"/>
                  </a:cubicBezTo>
                  <a:cubicBezTo>
                    <a:pt x="237" y="578"/>
                    <a:pt x="262" y="583"/>
                    <a:pt x="279" y="600"/>
                  </a:cubicBezTo>
                  <a:cubicBezTo>
                    <a:pt x="309" y="630"/>
                    <a:pt x="292" y="620"/>
                    <a:pt x="327" y="632"/>
                  </a:cubicBezTo>
                  <a:cubicBezTo>
                    <a:pt x="310" y="545"/>
                    <a:pt x="255" y="482"/>
                    <a:pt x="199" y="416"/>
                  </a:cubicBezTo>
                  <a:cubicBezTo>
                    <a:pt x="181" y="395"/>
                    <a:pt x="157" y="357"/>
                    <a:pt x="143" y="336"/>
                  </a:cubicBezTo>
                  <a:cubicBezTo>
                    <a:pt x="138" y="328"/>
                    <a:pt x="118" y="309"/>
                    <a:pt x="127" y="312"/>
                  </a:cubicBezTo>
                  <a:cubicBezTo>
                    <a:pt x="180" y="330"/>
                    <a:pt x="212" y="343"/>
                    <a:pt x="263" y="368"/>
                  </a:cubicBezTo>
                  <a:cubicBezTo>
                    <a:pt x="278" y="376"/>
                    <a:pt x="297" y="375"/>
                    <a:pt x="311" y="384"/>
                  </a:cubicBezTo>
                  <a:cubicBezTo>
                    <a:pt x="344" y="406"/>
                    <a:pt x="370" y="428"/>
                    <a:pt x="407" y="440"/>
                  </a:cubicBezTo>
                  <a:cubicBezTo>
                    <a:pt x="392" y="394"/>
                    <a:pt x="377" y="367"/>
                    <a:pt x="367" y="320"/>
                  </a:cubicBezTo>
                  <a:cubicBezTo>
                    <a:pt x="365" y="312"/>
                    <a:pt x="351" y="300"/>
                    <a:pt x="359" y="296"/>
                  </a:cubicBezTo>
                  <a:cubicBezTo>
                    <a:pt x="371" y="290"/>
                    <a:pt x="386" y="301"/>
                    <a:pt x="399" y="304"/>
                  </a:cubicBezTo>
                  <a:cubicBezTo>
                    <a:pt x="413" y="315"/>
                    <a:pt x="443" y="344"/>
                    <a:pt x="463" y="344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817720" y="4711680"/>
              <a:ext cx="841320" cy="838080"/>
            </a:xfrm>
            <a:custGeom>
              <a:avLst/>
              <a:gdLst/>
              <a:ahLst/>
              <a:rect l="l" t="t" r="r" b="b"/>
              <a:pathLst>
                <a:path w="530" h="528">
                  <a:moveTo>
                    <a:pt x="159" y="24"/>
                  </a:moveTo>
                  <a:cubicBezTo>
                    <a:pt x="178" y="21"/>
                    <a:pt x="197" y="20"/>
                    <a:pt x="215" y="16"/>
                  </a:cubicBezTo>
                  <a:cubicBezTo>
                    <a:pt x="231" y="12"/>
                    <a:pt x="263" y="0"/>
                    <a:pt x="263" y="0"/>
                  </a:cubicBezTo>
                  <a:cubicBezTo>
                    <a:pt x="279" y="3"/>
                    <a:pt x="295" y="5"/>
                    <a:pt x="311" y="8"/>
                  </a:cubicBezTo>
                  <a:cubicBezTo>
                    <a:pt x="333" y="13"/>
                    <a:pt x="375" y="24"/>
                    <a:pt x="375" y="24"/>
                  </a:cubicBezTo>
                  <a:cubicBezTo>
                    <a:pt x="415" y="51"/>
                    <a:pt x="421" y="102"/>
                    <a:pt x="455" y="136"/>
                  </a:cubicBezTo>
                  <a:cubicBezTo>
                    <a:pt x="471" y="185"/>
                    <a:pt x="446" y="212"/>
                    <a:pt x="431" y="256"/>
                  </a:cubicBezTo>
                  <a:cubicBezTo>
                    <a:pt x="443" y="292"/>
                    <a:pt x="471" y="347"/>
                    <a:pt x="503" y="368"/>
                  </a:cubicBezTo>
                  <a:cubicBezTo>
                    <a:pt x="524" y="400"/>
                    <a:pt x="530" y="410"/>
                    <a:pt x="519" y="448"/>
                  </a:cubicBezTo>
                  <a:cubicBezTo>
                    <a:pt x="514" y="464"/>
                    <a:pt x="517" y="487"/>
                    <a:pt x="503" y="496"/>
                  </a:cubicBezTo>
                  <a:cubicBezTo>
                    <a:pt x="487" y="507"/>
                    <a:pt x="455" y="528"/>
                    <a:pt x="455" y="528"/>
                  </a:cubicBezTo>
                  <a:cubicBezTo>
                    <a:pt x="389" y="515"/>
                    <a:pt x="374" y="479"/>
                    <a:pt x="327" y="432"/>
                  </a:cubicBezTo>
                  <a:cubicBezTo>
                    <a:pt x="321" y="426"/>
                    <a:pt x="311" y="425"/>
                    <a:pt x="303" y="424"/>
                  </a:cubicBezTo>
                  <a:cubicBezTo>
                    <a:pt x="258" y="419"/>
                    <a:pt x="212" y="419"/>
                    <a:pt x="167" y="416"/>
                  </a:cubicBezTo>
                  <a:cubicBezTo>
                    <a:pt x="146" y="413"/>
                    <a:pt x="124" y="413"/>
                    <a:pt x="103" y="408"/>
                  </a:cubicBezTo>
                  <a:cubicBezTo>
                    <a:pt x="87" y="404"/>
                    <a:pt x="55" y="392"/>
                    <a:pt x="55" y="392"/>
                  </a:cubicBezTo>
                  <a:cubicBezTo>
                    <a:pt x="0" y="310"/>
                    <a:pt x="79" y="241"/>
                    <a:pt x="103" y="168"/>
                  </a:cubicBezTo>
                  <a:cubicBezTo>
                    <a:pt x="106" y="131"/>
                    <a:pt x="96" y="90"/>
                    <a:pt x="111" y="56"/>
                  </a:cubicBezTo>
                  <a:cubicBezTo>
                    <a:pt x="118" y="41"/>
                    <a:pt x="159" y="57"/>
                    <a:pt x="159" y="40"/>
                  </a:cubicBezTo>
                  <a:cubicBezTo>
                    <a:pt x="159" y="35"/>
                    <a:pt x="159" y="29"/>
                    <a:pt x="159" y="24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122640" y="4940280"/>
              <a:ext cx="177840" cy="304560"/>
            </a:xfrm>
            <a:custGeom>
              <a:avLst/>
              <a:gdLst/>
              <a:ahLst/>
              <a:rect l="l" t="t" r="r" b="b"/>
              <a:pathLst>
                <a:path w="112" h="192">
                  <a:moveTo>
                    <a:pt x="16" y="0"/>
                  </a:moveTo>
                  <a:cubicBezTo>
                    <a:pt x="8" y="56"/>
                    <a:pt x="0" y="112"/>
                    <a:pt x="16" y="144"/>
                  </a:cubicBezTo>
                  <a:cubicBezTo>
                    <a:pt x="32" y="176"/>
                    <a:pt x="104" y="176"/>
                    <a:pt x="112" y="192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198960" y="5016240"/>
              <a:ext cx="177480" cy="76320"/>
            </a:xfrm>
            <a:custGeom>
              <a:avLst/>
              <a:gdLst/>
              <a:ahLst/>
              <a:rect l="l" t="t" r="r" b="b"/>
              <a:pathLst>
                <a:path w="112" h="48">
                  <a:moveTo>
                    <a:pt x="112" y="48"/>
                  </a:moveTo>
                  <a:cubicBezTo>
                    <a:pt x="96" y="24"/>
                    <a:pt x="80" y="0"/>
                    <a:pt x="64" y="0"/>
                  </a:cubicBezTo>
                  <a:cubicBezTo>
                    <a:pt x="48" y="0"/>
                    <a:pt x="0" y="24"/>
                    <a:pt x="16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4876920" y="4191120"/>
            <a:ext cx="1066680" cy="1600200"/>
            <a:chOff x="4876920" y="4191120"/>
            <a:chExt cx="1066680" cy="1600200"/>
          </a:xfrm>
        </p:grpSpPr>
        <p:sp>
          <p:nvSpPr>
            <p:cNvPr id="591" name=""/>
            <p:cNvSpPr/>
            <p:nvPr/>
          </p:nvSpPr>
          <p:spPr>
            <a:xfrm>
              <a:off x="4876920" y="4191120"/>
              <a:ext cx="1066680" cy="1600200"/>
            </a:xfrm>
            <a:custGeom>
              <a:avLst/>
              <a:gdLst>
                <a:gd name="textAreaLeft" fmla="*/ 376200 w 1066680"/>
                <a:gd name="textAreaRight" fmla="*/ 690480 w 1066680"/>
                <a:gd name="textAreaTop" fmla="*/ 564480 h 1600200"/>
                <a:gd name="textAreaBottom" fmla="*/ 103572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6383" y="11659"/>
                  </a:lnTo>
                  <a:lnTo>
                    <a:pt x="786" y="14846"/>
                  </a:lnTo>
                  <a:lnTo>
                    <a:pt x="7026" y="13251"/>
                  </a:lnTo>
                  <a:lnTo>
                    <a:pt x="3163" y="18437"/>
                  </a:lnTo>
                  <a:lnTo>
                    <a:pt x="8284" y="14531"/>
                  </a:lnTo>
                  <a:lnTo>
                    <a:pt x="6580" y="20741"/>
                  </a:lnTo>
                  <a:lnTo>
                    <a:pt x="9864" y="15202"/>
                  </a:lnTo>
                  <a:lnTo>
                    <a:pt x="10800" y="21600"/>
                  </a:lnTo>
                  <a:lnTo>
                    <a:pt x="11659" y="15217"/>
                  </a:lnTo>
                  <a:lnTo>
                    <a:pt x="14846" y="20814"/>
                  </a:lnTo>
                  <a:lnTo>
                    <a:pt x="13251" y="14574"/>
                  </a:lnTo>
                  <a:lnTo>
                    <a:pt x="18437" y="18437"/>
                  </a:lnTo>
                  <a:lnTo>
                    <a:pt x="14531" y="13316"/>
                  </a:lnTo>
                  <a:lnTo>
                    <a:pt x="20741" y="15020"/>
                  </a:lnTo>
                  <a:lnTo>
                    <a:pt x="15202" y="11736"/>
                  </a:lnTo>
                  <a:lnTo>
                    <a:pt x="21600" y="10800"/>
                  </a:lnTo>
                  <a:lnTo>
                    <a:pt x="15217" y="9941"/>
                  </a:lnTo>
                  <a:lnTo>
                    <a:pt x="20814" y="6754"/>
                  </a:lnTo>
                  <a:lnTo>
                    <a:pt x="14574" y="8349"/>
                  </a:lnTo>
                  <a:lnTo>
                    <a:pt x="18437" y="3163"/>
                  </a:lnTo>
                  <a:lnTo>
                    <a:pt x="13316" y="7069"/>
                  </a:lnTo>
                  <a:lnTo>
                    <a:pt x="15020" y="859"/>
                  </a:lnTo>
                  <a:lnTo>
                    <a:pt x="11736" y="6398"/>
                  </a:lnTo>
                  <a:lnTo>
                    <a:pt x="10800" y="0"/>
                  </a:lnTo>
                  <a:lnTo>
                    <a:pt x="9941" y="6383"/>
                  </a:lnTo>
                  <a:lnTo>
                    <a:pt x="6754" y="786"/>
                  </a:lnTo>
                  <a:lnTo>
                    <a:pt x="8349" y="7026"/>
                  </a:lnTo>
                  <a:lnTo>
                    <a:pt x="3163" y="3163"/>
                  </a:lnTo>
                  <a:lnTo>
                    <a:pt x="7069" y="8284"/>
                  </a:lnTo>
                  <a:lnTo>
                    <a:pt x="859" y="6580"/>
                  </a:lnTo>
                  <a:lnTo>
                    <a:pt x="6398" y="986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257800" y="4724640"/>
              <a:ext cx="324000" cy="515880"/>
            </a:xfrm>
            <a:custGeom>
              <a:avLst/>
              <a:gdLst/>
              <a:ahLst/>
              <a:rect l="l" t="t" r="r" b="b"/>
              <a:pathLst>
                <a:path w="204" h="325">
                  <a:moveTo>
                    <a:pt x="72" y="213"/>
                  </a:moveTo>
                  <a:cubicBezTo>
                    <a:pt x="55" y="161"/>
                    <a:pt x="30" y="106"/>
                    <a:pt x="0" y="61"/>
                  </a:cubicBezTo>
                  <a:cubicBezTo>
                    <a:pt x="3" y="50"/>
                    <a:pt x="2" y="38"/>
                    <a:pt x="8" y="29"/>
                  </a:cubicBezTo>
                  <a:cubicBezTo>
                    <a:pt x="28" y="0"/>
                    <a:pt x="63" y="23"/>
                    <a:pt x="88" y="29"/>
                  </a:cubicBezTo>
                  <a:cubicBezTo>
                    <a:pt x="168" y="82"/>
                    <a:pt x="102" y="183"/>
                    <a:pt x="184" y="237"/>
                  </a:cubicBezTo>
                  <a:cubicBezTo>
                    <a:pt x="191" y="259"/>
                    <a:pt x="204" y="286"/>
                    <a:pt x="184" y="309"/>
                  </a:cubicBezTo>
                  <a:cubicBezTo>
                    <a:pt x="173" y="322"/>
                    <a:pt x="136" y="325"/>
                    <a:pt x="136" y="325"/>
                  </a:cubicBezTo>
                  <a:cubicBezTo>
                    <a:pt x="123" y="322"/>
                    <a:pt x="108" y="324"/>
                    <a:pt x="96" y="317"/>
                  </a:cubicBezTo>
                  <a:cubicBezTo>
                    <a:pt x="68" y="301"/>
                    <a:pt x="61" y="236"/>
                    <a:pt x="72" y="213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3" name=""/>
          <p:cNvSpPr/>
          <p:nvPr/>
        </p:nvSpPr>
        <p:spPr>
          <a:xfrm rot="16200000">
            <a:off x="4114800" y="4800600"/>
            <a:ext cx="838080" cy="380880"/>
          </a:xfrm>
          <a:prstGeom prst="downArrow">
            <a:avLst>
              <a:gd name="adj1" fmla="val 50000"/>
              <a:gd name="adj2" fmla="val 51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858000" y="4419720"/>
            <a:ext cx="1371600" cy="1218960"/>
          </a:xfrm>
          <a:custGeom>
            <a:avLst/>
            <a:gdLst>
              <a:gd name="textAreaLeft" fmla="*/ 591480 w 1371600"/>
              <a:gd name="textAreaRight" fmla="*/ 780120 w 1371600"/>
              <a:gd name="textAreaTop" fmla="*/ 525600 h 1218960"/>
              <a:gd name="textAreaBottom" fmla="*/ 69336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716" y="11056"/>
                </a:lnTo>
                <a:lnTo>
                  <a:pt x="368" y="13595"/>
                </a:lnTo>
                <a:lnTo>
                  <a:pt x="8853" y="11587"/>
                </a:lnTo>
                <a:lnTo>
                  <a:pt x="1447" y="16200"/>
                </a:lnTo>
                <a:lnTo>
                  <a:pt x="9123" y="12064"/>
                </a:lnTo>
                <a:lnTo>
                  <a:pt x="3163" y="18437"/>
                </a:lnTo>
                <a:lnTo>
                  <a:pt x="9507" y="12455"/>
                </a:lnTo>
                <a:lnTo>
                  <a:pt x="5400" y="20153"/>
                </a:lnTo>
                <a:lnTo>
                  <a:pt x="9979" y="12733"/>
                </a:lnTo>
                <a:lnTo>
                  <a:pt x="8005" y="21232"/>
                </a:lnTo>
                <a:lnTo>
                  <a:pt x="10508" y="12880"/>
                </a:lnTo>
                <a:lnTo>
                  <a:pt x="10800" y="21600"/>
                </a:lnTo>
                <a:lnTo>
                  <a:pt x="11056" y="12884"/>
                </a:lnTo>
                <a:lnTo>
                  <a:pt x="13595" y="21232"/>
                </a:lnTo>
                <a:lnTo>
                  <a:pt x="11587" y="12747"/>
                </a:lnTo>
                <a:lnTo>
                  <a:pt x="16200" y="20153"/>
                </a:lnTo>
                <a:lnTo>
                  <a:pt x="12064" y="12477"/>
                </a:lnTo>
                <a:lnTo>
                  <a:pt x="18437" y="18437"/>
                </a:lnTo>
                <a:lnTo>
                  <a:pt x="12455" y="12093"/>
                </a:lnTo>
                <a:lnTo>
                  <a:pt x="20153" y="16200"/>
                </a:lnTo>
                <a:lnTo>
                  <a:pt x="12733" y="11621"/>
                </a:lnTo>
                <a:lnTo>
                  <a:pt x="21232" y="13595"/>
                </a:lnTo>
                <a:lnTo>
                  <a:pt x="12880" y="11092"/>
                </a:lnTo>
                <a:lnTo>
                  <a:pt x="21600" y="10800"/>
                </a:lnTo>
                <a:lnTo>
                  <a:pt x="12884" y="10544"/>
                </a:lnTo>
                <a:lnTo>
                  <a:pt x="21232" y="8005"/>
                </a:lnTo>
                <a:lnTo>
                  <a:pt x="12747" y="10013"/>
                </a:lnTo>
                <a:lnTo>
                  <a:pt x="20153" y="5400"/>
                </a:lnTo>
                <a:lnTo>
                  <a:pt x="12477" y="9536"/>
                </a:lnTo>
                <a:lnTo>
                  <a:pt x="18437" y="3163"/>
                </a:lnTo>
                <a:lnTo>
                  <a:pt x="12093" y="9145"/>
                </a:lnTo>
                <a:lnTo>
                  <a:pt x="16200" y="1447"/>
                </a:lnTo>
                <a:lnTo>
                  <a:pt x="11621" y="8867"/>
                </a:lnTo>
                <a:lnTo>
                  <a:pt x="13595" y="368"/>
                </a:lnTo>
                <a:lnTo>
                  <a:pt x="11092" y="8720"/>
                </a:lnTo>
                <a:lnTo>
                  <a:pt x="10800" y="0"/>
                </a:lnTo>
                <a:lnTo>
                  <a:pt x="10544" y="8716"/>
                </a:lnTo>
                <a:lnTo>
                  <a:pt x="8005" y="368"/>
                </a:lnTo>
                <a:lnTo>
                  <a:pt x="10013" y="8853"/>
                </a:lnTo>
                <a:lnTo>
                  <a:pt x="5400" y="1447"/>
                </a:lnTo>
                <a:lnTo>
                  <a:pt x="9536" y="9123"/>
                </a:lnTo>
                <a:lnTo>
                  <a:pt x="3163" y="3163"/>
                </a:lnTo>
                <a:lnTo>
                  <a:pt x="9145" y="9507"/>
                </a:lnTo>
                <a:lnTo>
                  <a:pt x="1447" y="5400"/>
                </a:lnTo>
                <a:lnTo>
                  <a:pt x="8867" y="9979"/>
                </a:lnTo>
                <a:lnTo>
                  <a:pt x="368" y="8005"/>
                </a:lnTo>
                <a:lnTo>
                  <a:pt x="8720" y="10508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rot="16200000">
            <a:off x="5943600" y="4800600"/>
            <a:ext cx="838080" cy="380880"/>
          </a:xfrm>
          <a:prstGeom prst="downArrow">
            <a:avLst>
              <a:gd name="adj1" fmla="val 50000"/>
              <a:gd name="adj2" fmla="val 51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733920" y="2438280"/>
            <a:ext cx="1981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INÍCIO DE PE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581280" y="4038480"/>
            <a:ext cx="838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PE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572000" y="57913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FIM DE PE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705720" y="579132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ENDURECI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1828800" y="457200"/>
            <a:ext cx="5257800" cy="38088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PEGA E ENDURECIMEN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905120" y="1219320"/>
            <a:ext cx="838080" cy="3808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PE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495680" y="1219320"/>
            <a:ext cx="3733920" cy="3808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PERDA DE TRABALHABILID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905120" y="2209680"/>
            <a:ext cx="2133360" cy="3812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ENDURECI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257800" y="2209680"/>
            <a:ext cx="2971800" cy="3812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GANHO DE RESISTÊ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rot="16200000">
            <a:off x="3200400" y="1219320"/>
            <a:ext cx="838080" cy="380880"/>
          </a:xfrm>
          <a:prstGeom prst="downArrow">
            <a:avLst>
              <a:gd name="adj1" fmla="val 50000"/>
              <a:gd name="adj2" fmla="val 51667"/>
            </a:avLst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rot="16200000">
            <a:off x="4267080" y="2209320"/>
            <a:ext cx="838440" cy="381240"/>
          </a:xfrm>
          <a:prstGeom prst="downArrow">
            <a:avLst>
              <a:gd name="adj1" fmla="val 50000"/>
              <a:gd name="adj2" fmla="val 51667"/>
            </a:avLst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905120" y="3276720"/>
            <a:ext cx="6324480" cy="24382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Arial"/>
                <a:ea typeface="Arial"/>
              </a:rPr>
              <a:t>FATORES QUE INFLUENCIA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spcBef>
                <a:spcPts val="451"/>
              </a:spcBef>
              <a:buClr>
                <a:srgbClr val="ffff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Composição do clínquer / ciment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spcBef>
                <a:spcPts val="451"/>
              </a:spcBef>
              <a:buClr>
                <a:srgbClr val="ffff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Grau de moagem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spcBef>
                <a:spcPts val="451"/>
              </a:spcBef>
              <a:buClr>
                <a:srgbClr val="ffff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Quantidade de água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spcBef>
                <a:spcPts val="451"/>
              </a:spcBef>
              <a:buClr>
                <a:srgbClr val="ffff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Temperatura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spcBef>
                <a:spcPts val="451"/>
              </a:spcBef>
              <a:buClr>
                <a:srgbClr val="ffff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Adição de substâncias químic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836720" y="3933720"/>
            <a:ext cx="3124080" cy="86364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1796 – 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Joseph P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48360" y="3933720"/>
            <a:ext cx="3600360" cy="86364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66"/>
                </a:solidFill>
                <a:latin typeface="Arial"/>
              </a:rPr>
              <a:t>CIMENTO DE PEGA RÁP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36720" y="5013360"/>
            <a:ext cx="3124080" cy="86364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1800 – 18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VIC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48360" y="5013360"/>
            <a:ext cx="3600360" cy="86364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66"/>
                </a:solidFill>
                <a:latin typeface="Arial"/>
              </a:rPr>
              <a:t>CAL HIDRÁULICA ARTIFI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36720" y="2347920"/>
            <a:ext cx="3124080" cy="86364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INGL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(SÉC. XVII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48360" y="2347920"/>
            <a:ext cx="3600360" cy="86364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66"/>
                </a:solidFill>
                <a:latin typeface="Arial"/>
              </a:rPr>
              <a:t>CAL HIDRÁULICA NATU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36720" y="1268280"/>
            <a:ext cx="3124080" cy="86364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GREG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ROM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48360" y="1268280"/>
            <a:ext cx="3600360" cy="86364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66"/>
                </a:solidFill>
                <a:latin typeface="Arial"/>
              </a:rPr>
              <a:t>POZOLANAS NATURA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32360" y="3141720"/>
            <a:ext cx="2340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9933"/>
                </a:solidFill>
                <a:latin typeface="Arial"/>
              </a:rPr>
              <a:t>1756 - John Smeat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1828800" y="457200"/>
            <a:ext cx="2895480" cy="38088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FALSA PEG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28800" y="1371600"/>
            <a:ext cx="6705720" cy="30654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Arial"/>
                <a:ea typeface="Arial"/>
              </a:rPr>
              <a:t>CAUS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spcBef>
                <a:spcPts val="451"/>
              </a:spcBef>
              <a:buClr>
                <a:srgbClr val="ffff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Desidratação da gipsita quando da moag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pega do ges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spcBef>
                <a:spcPts val="451"/>
              </a:spcBef>
              <a:buClr>
                <a:srgbClr val="ffff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Álcalis do cimento: podem carbonatar durante 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armazena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reação com o Ca(OH)</a:t>
            </a:r>
            <a:r>
              <a:rPr b="1" lang="pt-BR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formando CaCO</a:t>
            </a:r>
            <a:r>
              <a:rPr b="1" lang="pt-BR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rot="5400000">
            <a:off x="7206840" y="2146320"/>
            <a:ext cx="304920" cy="53316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035" stAng="10800000" swAng="5400000"/>
                <a:lnTo>
                  <a:pt x="14624" y="4125"/>
                </a:lnTo>
                <a:lnTo>
                  <a:pt x="14624" y="0"/>
                </a:lnTo>
                <a:lnTo>
                  <a:pt x="21600" y="6079"/>
                </a:lnTo>
                <a:lnTo>
                  <a:pt x="14624" y="12158"/>
                </a:lnTo>
                <a:lnTo>
                  <a:pt x="14624" y="8033"/>
                </a:lnTo>
                <a:lnTo>
                  <a:pt x="12427" y="8033"/>
                </a:lnTo>
                <a:arcTo wR="8519" hR="4127" stAng="16200000" swAng="-5400000"/>
                <a:lnTo>
                  <a:pt x="3908" y="2160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rot="5400000">
            <a:off x="4800240" y="3170160"/>
            <a:ext cx="304560" cy="533160"/>
          </a:xfrm>
          <a:custGeom>
            <a:avLst/>
            <a:gdLst>
              <a:gd name="textAreaLeft" fmla="*/ 0 w 304560"/>
              <a:gd name="textAreaRight" fmla="*/ 304920 w 3045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035" stAng="10800000" swAng="5400000"/>
                <a:lnTo>
                  <a:pt x="14624" y="4125"/>
                </a:lnTo>
                <a:lnTo>
                  <a:pt x="14624" y="0"/>
                </a:lnTo>
                <a:lnTo>
                  <a:pt x="21600" y="6079"/>
                </a:lnTo>
                <a:lnTo>
                  <a:pt x="14624" y="12158"/>
                </a:lnTo>
                <a:lnTo>
                  <a:pt x="14624" y="8033"/>
                </a:lnTo>
                <a:lnTo>
                  <a:pt x="12427" y="8033"/>
                </a:lnTo>
                <a:arcTo wR="8519" hR="4127" stAng="16200000" swAng="-5400000"/>
                <a:lnTo>
                  <a:pt x="3908" y="2160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828800" y="4662360"/>
            <a:ext cx="6705720" cy="11430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Arial"/>
                <a:ea typeface="Arial"/>
              </a:rPr>
              <a:t>SOLUÇÃ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spcBef>
                <a:spcPts val="451"/>
              </a:spcBef>
              <a:buClr>
                <a:srgbClr val="ffff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Remistura enérgica sem adição de mais águ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 txBox="1"/>
          <p:nvPr/>
        </p:nvSpPr>
        <p:spPr>
          <a:xfrm>
            <a:off x="1828800" y="304920"/>
            <a:ext cx="4038480" cy="53316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CALOR DE HIDRATAÇÃ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752480" y="1066680"/>
            <a:ext cx="6934320" cy="15242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mericana XBd BT"/>
                <a:ea typeface="Arial"/>
              </a:rPr>
              <a:t>É a quantidade de calor, em calorias por grama (ou Joules por grama) de cimento anidro, que se desprende na hidratação completa a uma dada tempera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752480" y="3581280"/>
            <a:ext cx="2210040" cy="11430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mericana XBd BT"/>
                <a:ea typeface="Arial"/>
              </a:rPr>
              <a:t>Calor químico das reações de hidrataçã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477120" y="3581280"/>
            <a:ext cx="2209680" cy="12193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mericana XBd BT"/>
                <a:ea typeface="Arial"/>
              </a:rPr>
              <a:t>Calor de adsorção da água sobre a superfície do g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191120" y="2971800"/>
            <a:ext cx="2057400" cy="6858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mericana XBd BT"/>
                <a:ea typeface="Arial"/>
              </a:rPr>
              <a:t>CALOR DE HIDRATAÇÃ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rot="1500000">
            <a:off x="5486040" y="3885840"/>
            <a:ext cx="762120" cy="533520"/>
          </a:xfrm>
          <a:prstGeom prst="rightArrow">
            <a:avLst>
              <a:gd name="adj1" fmla="val 50000"/>
              <a:gd name="adj2" fmla="val 3571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rot="20100000">
            <a:off x="4191120" y="3885840"/>
            <a:ext cx="838080" cy="533520"/>
          </a:xfrm>
          <a:prstGeom prst="leftArrow">
            <a:avLst>
              <a:gd name="adj1" fmla="val 50000"/>
              <a:gd name="adj2" fmla="val 39271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029200" y="4114800"/>
            <a:ext cx="533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mericana XBd BT"/>
                <a:ea typeface="Arial"/>
              </a:rPr>
              <a:t>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477120" y="525780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mericana XBd BT"/>
                <a:ea typeface="Arial"/>
              </a:rPr>
              <a:t>¼ DO CALOR TOTAL LIBE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467480" y="487692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3657600" y="4648320"/>
            <a:ext cx="2895480" cy="1295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mericana XBd BT"/>
                <a:ea typeface="Arial"/>
              </a:rPr>
              <a:t>50% entre 1 e 3 d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mericana XBd BT"/>
                <a:ea typeface="Arial"/>
              </a:rPr>
              <a:t>75% aos 7 d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mericana XBd BT"/>
                <a:ea typeface="Arial"/>
              </a:rPr>
              <a:t>90% aos 28 d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572000" y="3962520"/>
            <a:ext cx="1066680" cy="533160"/>
          </a:xfrm>
          <a:prstGeom prst="downArrow">
            <a:avLst>
              <a:gd name="adj1" fmla="val 47324"/>
              <a:gd name="adj2" fmla="val 4791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1828800" y="1447920"/>
          <a:ext cx="6629400" cy="2394000"/>
        </p:xfrm>
        <a:graphic>
          <a:graphicData uri="http://schemas.openxmlformats.org/drawingml/2006/table">
            <a:tbl>
              <a:tblPr/>
              <a:tblGrid>
                <a:gridCol w="2514600"/>
                <a:gridCol w="4114800"/>
              </a:tblGrid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66"/>
                          </a:solidFill>
                          <a:latin typeface="Americana XBd BT"/>
                        </a:rPr>
                        <a:t>Idade (dia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66"/>
                          </a:solidFill>
                          <a:latin typeface="Americana XBd BT"/>
                        </a:rPr>
                        <a:t>Calor liberado (cal/g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41 a 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46 a 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80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2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61 a 1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72 a 1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1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74 a 1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6" name=""/>
          <p:cNvSpPr txBox="1"/>
          <p:nvPr/>
        </p:nvSpPr>
        <p:spPr>
          <a:xfrm>
            <a:off x="1905120" y="914400"/>
            <a:ext cx="3504960" cy="30492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"ORDEM DE GRANDEZA"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</p:spTree>
  </p:cSld>
  <p:transition spd="med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1752480" y="1066680"/>
            <a:ext cx="5257800" cy="15242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289080" indent="-2890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mericana XBd BT"/>
                <a:ea typeface="Arial"/>
              </a:rPr>
              <a:t>Composição do ciment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mericana XBd BT"/>
                <a:ea typeface="Arial"/>
              </a:rPr>
              <a:t>Temperatur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mericana XBd BT"/>
                <a:ea typeface="Arial"/>
              </a:rPr>
              <a:t>Finur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mericana XBd BT"/>
                <a:ea typeface="Arial"/>
              </a:rPr>
              <a:t>Quantidade de cimento na mis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828800" y="609480"/>
            <a:ext cx="3809880" cy="38124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FATORES QUE INFLUENCIAM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5181480" y="2819520"/>
            <a:ext cx="3505320" cy="30456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COMPOSIÇÃO DO CIMENTO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3809880" y="3200400"/>
          <a:ext cx="4952880" cy="2193840"/>
        </p:xfrm>
        <a:graphic>
          <a:graphicData uri="http://schemas.openxmlformats.org/drawingml/2006/table">
            <a:tbl>
              <a:tblPr/>
              <a:tblGrid>
                <a:gridCol w="1695240"/>
                <a:gridCol w="1629000"/>
                <a:gridCol w="1628640"/>
              </a:tblGrid>
              <a:tr h="351360">
                <a:tc gridSpan="3"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66"/>
                          </a:solidFill>
                          <a:latin typeface="Americana XBd BT"/>
                        </a:rPr>
                        <a:t>Calor de hidratação médi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3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66"/>
                          </a:solidFill>
                          <a:latin typeface="Americana XBd BT"/>
                        </a:rPr>
                        <a:t>compos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66"/>
                          </a:solidFill>
                          <a:latin typeface="Americana XBd BT"/>
                        </a:rPr>
                        <a:t>J/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66"/>
                          </a:solidFill>
                          <a:latin typeface="Americana XBd BT"/>
                        </a:rPr>
                        <a:t>cal/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700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C</a:t>
                      </a:r>
                      <a:r>
                        <a:rPr b="1" lang="pt-BR" sz="2000" spc="-1" strike="noStrike" baseline="-25000">
                          <a:solidFill>
                            <a:srgbClr val="ffffff"/>
                          </a:solidFill>
                          <a:latin typeface="Americana XBd BT"/>
                        </a:rPr>
                        <a:t>3</a:t>
                      </a: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5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700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C</a:t>
                      </a:r>
                      <a:r>
                        <a:rPr b="1" lang="pt-BR" sz="2000" spc="-1" strike="noStrike" baseline="-25000">
                          <a:solidFill>
                            <a:srgbClr val="ffffff"/>
                          </a:solidFill>
                          <a:latin typeface="Americana XBd BT"/>
                        </a:rPr>
                        <a:t>2</a:t>
                      </a: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2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700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C</a:t>
                      </a:r>
                      <a:r>
                        <a:rPr b="1" lang="pt-BR" sz="2000" spc="-1" strike="noStrike" baseline="-25000">
                          <a:solidFill>
                            <a:srgbClr val="ffffff"/>
                          </a:solidFill>
                          <a:latin typeface="Americana XBd BT"/>
                        </a:rPr>
                        <a:t>3</a:t>
                      </a: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86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2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700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C</a:t>
                      </a:r>
                      <a:r>
                        <a:rPr b="1" lang="pt-BR" sz="2000" spc="-1" strike="noStrike" baseline="-25000">
                          <a:solidFill>
                            <a:srgbClr val="ffffff"/>
                          </a:solidFill>
                          <a:latin typeface="Americana XBd BT"/>
                        </a:rPr>
                        <a:t>4</a:t>
                      </a: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A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4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1" name=""/>
          <p:cNvSpPr/>
          <p:nvPr/>
        </p:nvSpPr>
        <p:spPr>
          <a:xfrm>
            <a:off x="1476360" y="5734080"/>
            <a:ext cx="759636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  <a:ea typeface="Arial"/>
              </a:rPr>
              <a:t>Calor de hidratação (cal/g)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  <a:ea typeface="Arial"/>
              </a:rPr>
              <a:t>= 120 x (%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C</a:t>
            </a:r>
            <a:r>
              <a:rPr b="0" lang="pt-BR" sz="1800" spc="-1" strike="noStrike" baseline="-25000">
                <a:solidFill>
                  <a:srgbClr val="ffffff"/>
                </a:solidFill>
                <a:latin typeface="Americana XBd BT"/>
              </a:rPr>
              <a:t>3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S) + 62 x (%C</a:t>
            </a:r>
            <a:r>
              <a:rPr b="0" lang="pt-BR" sz="1800" spc="-1" strike="noStrike" baseline="-25000">
                <a:solidFill>
                  <a:srgbClr val="ffffff"/>
                </a:solidFill>
                <a:latin typeface="Americana XBd BT"/>
              </a:rPr>
              <a:t>2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S) + 207 x (%C</a:t>
            </a:r>
            <a:r>
              <a:rPr b="0" lang="pt-BR" sz="1800" spc="-1" strike="noStrike" baseline="-25000">
                <a:solidFill>
                  <a:srgbClr val="ffffff"/>
                </a:solidFill>
                <a:latin typeface="Americana XBd BT"/>
              </a:rPr>
              <a:t>3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A) + 100 x (%C</a:t>
            </a:r>
            <a:r>
              <a:rPr b="0" lang="pt-BR" sz="1800" spc="-1" strike="noStrike" baseline="-25000">
                <a:solidFill>
                  <a:srgbClr val="ffffff"/>
                </a:solidFill>
                <a:latin typeface="Americana XBd BT"/>
              </a:rPr>
              <a:t>4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AF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1828800" y="457200"/>
            <a:ext cx="2590920" cy="22860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TEMPERATURA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1828800" y="838080"/>
          <a:ext cx="7010280" cy="1828800"/>
        </p:xfrm>
        <a:graphic>
          <a:graphicData uri="http://schemas.openxmlformats.org/drawingml/2006/table">
            <a:tbl>
              <a:tblPr/>
              <a:tblGrid>
                <a:gridCol w="1447920"/>
                <a:gridCol w="1390680"/>
                <a:gridCol w="1390680"/>
                <a:gridCol w="1390320"/>
                <a:gridCol w="1390680"/>
              </a:tblGrid>
              <a:tr h="351360">
                <a:tc rowSpan="2"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66"/>
                          </a:solidFill>
                          <a:latin typeface="Americana XBd BT"/>
                        </a:rPr>
                        <a:t>CIMEN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66"/>
                          </a:solidFill>
                          <a:latin typeface="Americana XBd BT"/>
                        </a:rPr>
                        <a:t>Calor liberado (J/g) após 72h 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66"/>
                          </a:solidFill>
                          <a:latin typeface="Americana XBd BT"/>
                        </a:rPr>
                        <a:t>4º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66"/>
                          </a:solidFill>
                          <a:latin typeface="Americana XBd BT"/>
                        </a:rPr>
                        <a:t>24º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66"/>
                          </a:solidFill>
                          <a:latin typeface="Americana XBd BT"/>
                        </a:rPr>
                        <a:t>32º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66"/>
                          </a:solidFill>
                          <a:latin typeface="Americana XBd BT"/>
                        </a:rPr>
                        <a:t>41º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15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2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3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3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I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2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3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35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3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I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1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1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1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2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34" name=""/>
          <p:cNvGrpSpPr/>
          <p:nvPr/>
        </p:nvGrpSpPr>
        <p:grpSpPr>
          <a:xfrm>
            <a:off x="1828800" y="2743200"/>
            <a:ext cx="7010280" cy="762120"/>
            <a:chOff x="1828800" y="2743200"/>
            <a:chExt cx="7010280" cy="762120"/>
          </a:xfrm>
        </p:grpSpPr>
        <p:sp>
          <p:nvSpPr>
            <p:cNvPr id="635" name=""/>
            <p:cNvSpPr/>
            <p:nvPr/>
          </p:nvSpPr>
          <p:spPr>
            <a:xfrm>
              <a:off x="1828800" y="2743200"/>
              <a:ext cx="7010280" cy="762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just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Americana XBd BT"/>
                  <a:ea typeface="Arial"/>
                </a:rPr>
                <a:t>&gt; TEMPERATURA</a:t>
              </a:r>
              <a:r>
                <a:rPr b="0" lang="pt-BR" sz="2000" spc="-1" strike="noStrike">
                  <a:solidFill>
                    <a:srgbClr val="ffffff"/>
                  </a:solidFill>
                  <a:latin typeface="Americana XBd BT"/>
                  <a:ea typeface="Arial"/>
                </a:rPr>
                <a:t>	</a:t>
              </a:r>
              <a:r>
                <a:rPr b="0" lang="pt-BR" sz="2000" spc="-1" strike="noStrike">
                  <a:solidFill>
                    <a:srgbClr val="ffffff"/>
                  </a:solidFill>
                  <a:latin typeface="Americana XBd BT"/>
                  <a:ea typeface="Arial"/>
                </a:rPr>
                <a:t>&gt; QUANTIDADE DE CALOR D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4" marL="1828800" algn="just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Americana XBd BT"/>
                  <a:ea typeface="Arial"/>
                </a:rPr>
                <a:t>	</a:t>
              </a:r>
              <a:r>
                <a:rPr b="0" lang="pt-BR" sz="2000" spc="-1" strike="noStrike">
                  <a:solidFill>
                    <a:srgbClr val="ffffff"/>
                  </a:solidFill>
                  <a:latin typeface="Americana XBd BT"/>
                  <a:ea typeface="Arial"/>
                </a:rPr>
                <a:t>	</a:t>
              </a:r>
              <a:r>
                <a:rPr b="0" lang="pt-BR" sz="2000" spc="-1" strike="noStrike">
                  <a:solidFill>
                    <a:srgbClr val="ffffff"/>
                  </a:solidFill>
                  <a:latin typeface="Americana XBd BT"/>
                  <a:ea typeface="Arial"/>
                </a:rPr>
                <a:t>HIDRATAÇÃO LIBERAD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438280" y="3200400"/>
              <a:ext cx="2667240" cy="228600"/>
            </a:xfrm>
            <a:prstGeom prst="rightArrow">
              <a:avLst>
                <a:gd name="adj1" fmla="val 50000"/>
                <a:gd name="adj2" fmla="val 291693"/>
              </a:avLst>
            </a:prstGeom>
            <a:solidFill>
              <a:srgbClr val="ffffff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7" name=""/>
          <p:cNvSpPr txBox="1"/>
          <p:nvPr/>
        </p:nvSpPr>
        <p:spPr>
          <a:xfrm>
            <a:off x="1905120" y="3886200"/>
            <a:ext cx="3124080" cy="22860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FINURA DO CIMENTO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1828800" y="4267080"/>
            <a:ext cx="7010280" cy="762120"/>
            <a:chOff x="1828800" y="4267080"/>
            <a:chExt cx="7010280" cy="762120"/>
          </a:xfrm>
        </p:grpSpPr>
        <p:sp>
          <p:nvSpPr>
            <p:cNvPr id="639" name=""/>
            <p:cNvSpPr/>
            <p:nvPr/>
          </p:nvSpPr>
          <p:spPr>
            <a:xfrm>
              <a:off x="1828800" y="4267080"/>
              <a:ext cx="7010280" cy="762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just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Americana XBd BT"/>
                  <a:ea typeface="Arial"/>
                </a:rPr>
                <a:t>	</a:t>
              </a:r>
              <a:r>
                <a:rPr b="0" lang="pt-BR" sz="2000" spc="-1" strike="noStrike">
                  <a:solidFill>
                    <a:srgbClr val="ffffff"/>
                  </a:solidFill>
                  <a:latin typeface="Americana XBd BT"/>
                  <a:ea typeface="Arial"/>
                </a:rPr>
                <a:t>FINURA</a:t>
              </a:r>
              <a:r>
                <a:rPr b="0" lang="pt-BR" sz="2000" spc="-1" strike="noStrike">
                  <a:solidFill>
                    <a:srgbClr val="ffffff"/>
                  </a:solidFill>
                  <a:latin typeface="Americana XBd BT"/>
                  <a:ea typeface="Arial"/>
                </a:rPr>
                <a:t>	</a:t>
              </a:r>
              <a:r>
                <a:rPr b="0" lang="pt-BR" sz="2000" spc="-1" strike="noStrike">
                  <a:solidFill>
                    <a:srgbClr val="ffffff"/>
                  </a:solidFill>
                  <a:latin typeface="Americana XBd BT"/>
                  <a:ea typeface="Arial"/>
                </a:rPr>
                <a:t>&gt; LIBERAÇÃO INICIAL DE CALO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Americana XBd BT"/>
                  <a:ea typeface="Arial"/>
                </a:rPr>
                <a:t>	</a:t>
              </a:r>
              <a:r>
                <a:rPr b="0" lang="pt-BR" sz="2000" spc="-1" strike="noStrike">
                  <a:solidFill>
                    <a:srgbClr val="ffffff"/>
                  </a:solidFill>
                  <a:latin typeface="Americana XBd BT"/>
                  <a:ea typeface="Arial"/>
                </a:rPr>
                <a:t>	</a:t>
              </a:r>
              <a:r>
                <a:rPr b="0" lang="pt-BR" sz="2000" spc="-1" strike="noStrike">
                  <a:solidFill>
                    <a:srgbClr val="ffffff"/>
                  </a:solidFill>
                  <a:latin typeface="Americana XBd BT"/>
                  <a:ea typeface="Arial"/>
                </a:rPr>
                <a:t>	</a:t>
              </a:r>
              <a:r>
                <a:rPr b="0" lang="pt-BR" sz="2000" spc="-1" strike="noStrike">
                  <a:solidFill>
                    <a:srgbClr val="ffffff"/>
                  </a:solidFill>
                  <a:latin typeface="Americana XBd BT"/>
                  <a:ea typeface="Arial"/>
                </a:rPr>
                <a:t>= LIBERAÇÃO TOTAL DE CALO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962520" y="4343400"/>
              <a:ext cx="609480" cy="304560"/>
            </a:xfrm>
            <a:prstGeom prst="rightArrow">
              <a:avLst>
                <a:gd name="adj1" fmla="val 50000"/>
                <a:gd name="adj2" fmla="val 50030"/>
              </a:avLst>
            </a:prstGeom>
            <a:solidFill>
              <a:srgbClr val="ffffff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962520" y="464796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ffffff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362320" y="4343400"/>
              <a:ext cx="380880" cy="304560"/>
            </a:xfrm>
            <a:prstGeom prst="upArrow">
              <a:avLst>
                <a:gd name="adj1" fmla="val 50000"/>
                <a:gd name="adj2" fmla="val 45833"/>
              </a:avLst>
            </a:prstGeom>
            <a:solidFill>
              <a:srgbClr val="ffffff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3" name=""/>
          <p:cNvSpPr txBox="1"/>
          <p:nvPr/>
        </p:nvSpPr>
        <p:spPr>
          <a:xfrm>
            <a:off x="1905120" y="5486400"/>
            <a:ext cx="5867280" cy="30492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QUANTIDADE DE CIMENTO NA MISTURA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</p:spTree>
  </p:cSld>
  <p:transition spd="med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 txBox="1"/>
          <p:nvPr/>
        </p:nvSpPr>
        <p:spPr>
          <a:xfrm>
            <a:off x="1828800" y="304920"/>
            <a:ext cx="4343400" cy="83808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EXPANSIBILIDA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(estabilidade de volume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895480" y="1676520"/>
            <a:ext cx="601992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190440" indent="-190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  <a:ea typeface="Arial"/>
              </a:rPr>
              <a:t>CAL LIV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  <a:ea typeface="Arial"/>
              </a:rPr>
              <a:t>EXCESSO DE CALCÁRIO QUANDO DA FABRIC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676520" y="1600200"/>
            <a:ext cx="1066680" cy="762120"/>
          </a:xfrm>
          <a:prstGeom prst="rightArrow">
            <a:avLst>
              <a:gd name="adj1" fmla="val 50000"/>
              <a:gd name="adj2" fmla="val 34991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mericana XBd BT"/>
              </a:rPr>
              <a:t>Ca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895480" y="2590920"/>
            <a:ext cx="601992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190440" indent="-190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  <a:ea typeface="Arial"/>
              </a:rPr>
              <a:t>DISSOLVIDO NA FASE VÍTREA = INOFENS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  <a:ea typeface="Arial"/>
              </a:rPr>
              <a:t>FORMA CRISTALINA → PERICLÁS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  <a:ea typeface="Arial"/>
              </a:rPr>
              <a:t>“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  <a:ea typeface="Arial"/>
              </a:rPr>
              <a:t>CONTAMINAÇÃO” DA MATÉRIA-PRI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676520" y="2666880"/>
            <a:ext cx="1066680" cy="762120"/>
          </a:xfrm>
          <a:prstGeom prst="rightArrow">
            <a:avLst>
              <a:gd name="adj1" fmla="val 50000"/>
              <a:gd name="adj2" fmla="val 34991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mericana XBd BT"/>
              </a:rPr>
              <a:t>M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895480" y="3733920"/>
            <a:ext cx="601992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190440" indent="-190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  <a:ea typeface="Arial"/>
              </a:rPr>
              <a:t>ADIÇÃO EM EXCESSO QUANDO DA FABRIC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676520" y="3657600"/>
            <a:ext cx="1066680" cy="762120"/>
          </a:xfrm>
          <a:prstGeom prst="rightArrow">
            <a:avLst>
              <a:gd name="adj1" fmla="val 50000"/>
              <a:gd name="adj2" fmla="val 34991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mericana XBd BT"/>
              </a:rPr>
              <a:t>CaSO</a:t>
            </a:r>
            <a:r>
              <a:rPr b="1" lang="pt-BR" sz="2400" spc="-1" strike="noStrike" baseline="-25000">
                <a:solidFill>
                  <a:srgbClr val="ffffff"/>
                </a:solidFill>
                <a:latin typeface="Americana XBd BT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905120" y="4876920"/>
            <a:ext cx="2590560" cy="761760"/>
          </a:xfrm>
          <a:prstGeom prst="rightArrow">
            <a:avLst>
              <a:gd name="adj1" fmla="val 50000"/>
              <a:gd name="adj2" fmla="val 8501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mericana XBd BT"/>
              </a:rPr>
              <a:t>CONSEQUÊNC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724280" y="4876920"/>
            <a:ext cx="381024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190440" indent="-190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  <a:ea typeface="Arial"/>
              </a:rPr>
              <a:t>DESAGREGAÇÃO </a:t>
            </a:r>
            <a:r>
              <a:rPr b="1" lang="pt-BR" sz="2400" spc="-1" strike="noStrike">
                <a:solidFill>
                  <a:srgbClr val="ffff66"/>
                </a:solidFill>
                <a:latin typeface="Americana XBd BT"/>
                <a:ea typeface="Arial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PERDA DE RESISTÊ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 txBox="1"/>
          <p:nvPr/>
        </p:nvSpPr>
        <p:spPr>
          <a:xfrm>
            <a:off x="1828800" y="380880"/>
            <a:ext cx="2057400" cy="38124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FINUR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362320" y="1066680"/>
            <a:ext cx="5790960" cy="685800"/>
          </a:xfrm>
          <a:prstGeom prst="downArrowCallout">
            <a:avLst>
              <a:gd name="adj1" fmla="val 211122"/>
              <a:gd name="adj2" fmla="val 160125"/>
              <a:gd name="adj3" fmla="val 33333"/>
              <a:gd name="adj4" fmla="val 55324"/>
            </a:avLst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mericana XBd BT"/>
              </a:rPr>
              <a:t>MATERIAL DISPONÍVEL PARA HIDRATAÇÃ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362320" y="1905120"/>
            <a:ext cx="5790960" cy="3808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190440" indent="-1904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ÁREA TOTAL DA SUPERFÍCIE DO CI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981080" y="2895480"/>
            <a:ext cx="6629400" cy="457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190440" indent="-1904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mericana XBd BT"/>
              </a:rPr>
              <a:t>↑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FINURA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2800" spc="-1" strike="noStrike">
                <a:solidFill>
                  <a:srgbClr val="ffff66"/>
                </a:solidFill>
                <a:latin typeface="Americana XBd BT"/>
              </a:rPr>
              <a:t>→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mericana XBd BT"/>
              </a:rPr>
              <a:t>↑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VELOCIDADE DE HIRAT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819520" y="4114800"/>
            <a:ext cx="1422360" cy="1649520"/>
          </a:xfrm>
          <a:custGeom>
            <a:avLst/>
            <a:gdLst/>
            <a:ahLst/>
            <a:rect l="l" t="t" r="r" b="b"/>
            <a:pathLst>
              <a:path w="896" h="1039">
                <a:moveTo>
                  <a:pt x="128" y="527"/>
                </a:moveTo>
                <a:cubicBezTo>
                  <a:pt x="136" y="519"/>
                  <a:pt x="143" y="509"/>
                  <a:pt x="152" y="503"/>
                </a:cubicBezTo>
                <a:cubicBezTo>
                  <a:pt x="159" y="498"/>
                  <a:pt x="170" y="501"/>
                  <a:pt x="176" y="495"/>
                </a:cubicBezTo>
                <a:cubicBezTo>
                  <a:pt x="182" y="489"/>
                  <a:pt x="180" y="478"/>
                  <a:pt x="184" y="471"/>
                </a:cubicBezTo>
                <a:cubicBezTo>
                  <a:pt x="224" y="398"/>
                  <a:pt x="201" y="446"/>
                  <a:pt x="240" y="399"/>
                </a:cubicBezTo>
                <a:cubicBezTo>
                  <a:pt x="261" y="374"/>
                  <a:pt x="304" y="327"/>
                  <a:pt x="304" y="327"/>
                </a:cubicBezTo>
                <a:cubicBezTo>
                  <a:pt x="333" y="239"/>
                  <a:pt x="287" y="372"/>
                  <a:pt x="328" y="279"/>
                </a:cubicBezTo>
                <a:cubicBezTo>
                  <a:pt x="349" y="232"/>
                  <a:pt x="368" y="184"/>
                  <a:pt x="384" y="135"/>
                </a:cubicBezTo>
                <a:cubicBezTo>
                  <a:pt x="397" y="95"/>
                  <a:pt x="391" y="69"/>
                  <a:pt x="432" y="55"/>
                </a:cubicBezTo>
                <a:cubicBezTo>
                  <a:pt x="487" y="0"/>
                  <a:pt x="512" y="25"/>
                  <a:pt x="608" y="31"/>
                </a:cubicBezTo>
                <a:cubicBezTo>
                  <a:pt x="619" y="34"/>
                  <a:pt x="630" y="34"/>
                  <a:pt x="640" y="39"/>
                </a:cubicBezTo>
                <a:cubicBezTo>
                  <a:pt x="657" y="48"/>
                  <a:pt x="688" y="71"/>
                  <a:pt x="688" y="71"/>
                </a:cubicBezTo>
                <a:cubicBezTo>
                  <a:pt x="701" y="109"/>
                  <a:pt x="713" y="133"/>
                  <a:pt x="728" y="167"/>
                </a:cubicBezTo>
                <a:cubicBezTo>
                  <a:pt x="748" y="212"/>
                  <a:pt x="742" y="227"/>
                  <a:pt x="784" y="255"/>
                </a:cubicBezTo>
                <a:cubicBezTo>
                  <a:pt x="804" y="315"/>
                  <a:pt x="775" y="243"/>
                  <a:pt x="816" y="295"/>
                </a:cubicBezTo>
                <a:cubicBezTo>
                  <a:pt x="821" y="302"/>
                  <a:pt x="820" y="311"/>
                  <a:pt x="824" y="319"/>
                </a:cubicBezTo>
                <a:cubicBezTo>
                  <a:pt x="839" y="349"/>
                  <a:pt x="842" y="340"/>
                  <a:pt x="864" y="367"/>
                </a:cubicBezTo>
                <a:cubicBezTo>
                  <a:pt x="881" y="387"/>
                  <a:pt x="896" y="439"/>
                  <a:pt x="896" y="439"/>
                </a:cubicBezTo>
                <a:cubicBezTo>
                  <a:pt x="883" y="491"/>
                  <a:pt x="862" y="529"/>
                  <a:pt x="824" y="567"/>
                </a:cubicBezTo>
                <a:cubicBezTo>
                  <a:pt x="805" y="624"/>
                  <a:pt x="832" y="559"/>
                  <a:pt x="792" y="607"/>
                </a:cubicBezTo>
                <a:cubicBezTo>
                  <a:pt x="741" y="668"/>
                  <a:pt x="810" y="616"/>
                  <a:pt x="752" y="655"/>
                </a:cubicBezTo>
                <a:cubicBezTo>
                  <a:pt x="688" y="751"/>
                  <a:pt x="787" y="610"/>
                  <a:pt x="712" y="695"/>
                </a:cubicBezTo>
                <a:cubicBezTo>
                  <a:pt x="676" y="737"/>
                  <a:pt x="647" y="793"/>
                  <a:pt x="616" y="839"/>
                </a:cubicBezTo>
                <a:cubicBezTo>
                  <a:pt x="611" y="847"/>
                  <a:pt x="599" y="849"/>
                  <a:pt x="592" y="855"/>
                </a:cubicBezTo>
                <a:cubicBezTo>
                  <a:pt x="513" y="921"/>
                  <a:pt x="615" y="840"/>
                  <a:pt x="552" y="903"/>
                </a:cubicBezTo>
                <a:cubicBezTo>
                  <a:pt x="531" y="924"/>
                  <a:pt x="505" y="937"/>
                  <a:pt x="480" y="951"/>
                </a:cubicBezTo>
                <a:cubicBezTo>
                  <a:pt x="455" y="965"/>
                  <a:pt x="435" y="990"/>
                  <a:pt x="408" y="999"/>
                </a:cubicBezTo>
                <a:cubicBezTo>
                  <a:pt x="341" y="1021"/>
                  <a:pt x="287" y="1031"/>
                  <a:pt x="216" y="1039"/>
                </a:cubicBezTo>
                <a:cubicBezTo>
                  <a:pt x="146" y="1031"/>
                  <a:pt x="113" y="1032"/>
                  <a:pt x="64" y="983"/>
                </a:cubicBezTo>
                <a:cubicBezTo>
                  <a:pt x="67" y="967"/>
                  <a:pt x="72" y="951"/>
                  <a:pt x="72" y="935"/>
                </a:cubicBezTo>
                <a:cubicBezTo>
                  <a:pt x="72" y="866"/>
                  <a:pt x="20" y="819"/>
                  <a:pt x="0" y="759"/>
                </a:cubicBezTo>
                <a:cubicBezTo>
                  <a:pt x="3" y="727"/>
                  <a:pt x="3" y="695"/>
                  <a:pt x="8" y="663"/>
                </a:cubicBezTo>
                <a:cubicBezTo>
                  <a:pt x="20" y="593"/>
                  <a:pt x="82" y="573"/>
                  <a:pt x="128" y="527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819520" y="4367160"/>
            <a:ext cx="761760" cy="6094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600200" y="3962520"/>
            <a:ext cx="1828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190440" indent="-1904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HIDRAT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60" name=""/>
          <p:cNvGraphicFramePr/>
          <p:nvPr/>
        </p:nvGraphicFramePr>
        <p:xfrm>
          <a:off x="5029200" y="4114800"/>
          <a:ext cx="3352680" cy="1600200"/>
        </p:xfrm>
        <a:graphic>
          <a:graphicData uri="http://schemas.openxmlformats.org/drawingml/2006/table">
            <a:tbl>
              <a:tblPr/>
              <a:tblGrid>
                <a:gridCol w="1752480"/>
                <a:gridCol w="1600200"/>
              </a:tblGrid>
              <a:tr h="7023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66"/>
                          </a:solidFill>
                          <a:latin typeface="Americana XBd BT"/>
                        </a:rPr>
                        <a:t>Profundida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66"/>
                          </a:solidFill>
                          <a:latin typeface="Americana XBd BT"/>
                        </a:rPr>
                        <a:t>Ida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0,5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24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2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7 di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4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30 di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1905120" y="457200"/>
            <a:ext cx="6095880" cy="76212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RELAÇÃO ENTRE RESISTÊNCIA À COMPRESSÃO EM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DIVERSAS IDADES E A FINURA DO CIMENTO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2268360" y="1700280"/>
            <a:ext cx="5974920" cy="4392360"/>
            <a:chOff x="2268360" y="1700280"/>
            <a:chExt cx="5974920" cy="4392360"/>
          </a:xfrm>
        </p:grpSpPr>
        <p:sp>
          <p:nvSpPr>
            <p:cNvPr id="663" name=""/>
            <p:cNvSpPr/>
            <p:nvPr/>
          </p:nvSpPr>
          <p:spPr>
            <a:xfrm>
              <a:off x="2766240" y="1700280"/>
              <a:ext cx="497520" cy="372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285840" indent="-285840" algn="r">
                <a:lnSpc>
                  <a:spcPct val="2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r">
                <a:lnSpc>
                  <a:spcPct val="2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4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r">
                <a:lnSpc>
                  <a:spcPct val="2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r">
                <a:lnSpc>
                  <a:spcPct val="2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015000" y="5293800"/>
              <a:ext cx="5228280" cy="3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285840" indent="-28584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150</a:t>
              </a:r>
              <a:r>
                <a:rPr b="1" lang="pt-BR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pt-BR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      200</a:t>
              </a:r>
              <a:r>
                <a:rPr b="1" lang="pt-BR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pt-BR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    250</a:t>
              </a:r>
              <a:r>
                <a:rPr b="1" lang="pt-BR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pt-BR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pt-BR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3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882320" y="5693400"/>
              <a:ext cx="3236400" cy="3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285840" indent="-285840"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Área específica (m</a:t>
              </a:r>
              <a:r>
                <a:rPr b="1" lang="pt-BR" sz="14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r>
                <a:rPr b="1" lang="pt-BR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/kg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16200000">
              <a:off x="724680" y="3509280"/>
              <a:ext cx="346032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285840" indent="-285840"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sist. à compressão (MPa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3139920" y="2231640"/>
              <a:ext cx="4854240" cy="3061440"/>
              <a:chOff x="3139920" y="2231640"/>
              <a:chExt cx="4854240" cy="3061440"/>
            </a:xfrm>
          </p:grpSpPr>
          <p:sp>
            <p:nvSpPr>
              <p:cNvPr id="668" name=""/>
              <p:cNvSpPr/>
              <p:nvPr/>
            </p:nvSpPr>
            <p:spPr>
              <a:xfrm flipV="1">
                <a:off x="4705560" y="2231640"/>
                <a:ext cx="0" cy="3061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V="1">
                <a:off x="6428520" y="2231640"/>
                <a:ext cx="0" cy="3061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139920" y="4272840"/>
                <a:ext cx="4854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139920" y="3252240"/>
                <a:ext cx="4854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139920" y="2232000"/>
                <a:ext cx="4854240" cy="30610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609720" y="4102560"/>
                <a:ext cx="4384440" cy="849960"/>
              </a:xfrm>
              <a:custGeom>
                <a:avLst/>
                <a:gdLst/>
                <a:ahLst/>
                <a:rect l="l" t="t" r="r" b="b"/>
                <a:pathLst>
                  <a:path w="1344" h="288">
                    <a:moveTo>
                      <a:pt x="1344" y="0"/>
                    </a:moveTo>
                    <a:cubicBezTo>
                      <a:pt x="1188" y="32"/>
                      <a:pt x="1032" y="64"/>
                      <a:pt x="864" y="96"/>
                    </a:cubicBezTo>
                    <a:cubicBezTo>
                      <a:pt x="696" y="128"/>
                      <a:pt x="480" y="160"/>
                      <a:pt x="336" y="192"/>
                    </a:cubicBezTo>
                    <a:cubicBezTo>
                      <a:pt x="192" y="224"/>
                      <a:pt x="40" y="280"/>
                      <a:pt x="0" y="288"/>
                    </a:cubicBezTo>
                  </a:path>
                </a:pathLst>
              </a:custGeom>
              <a:noFill/>
              <a:ln w="25560">
                <a:solidFill>
                  <a:srgbClr val="ff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609720" y="3564000"/>
                <a:ext cx="4384440" cy="538200"/>
              </a:xfrm>
              <a:custGeom>
                <a:avLst/>
                <a:gdLst/>
                <a:ahLst/>
                <a:rect l="l" t="t" r="r" b="b"/>
                <a:pathLst>
                  <a:path w="1344" h="152">
                    <a:moveTo>
                      <a:pt x="0" y="152"/>
                    </a:moveTo>
                    <a:cubicBezTo>
                      <a:pt x="96" y="116"/>
                      <a:pt x="192" y="80"/>
                      <a:pt x="336" y="56"/>
                    </a:cubicBezTo>
                    <a:cubicBezTo>
                      <a:pt x="480" y="32"/>
                      <a:pt x="696" y="16"/>
                      <a:pt x="864" y="8"/>
                    </a:cubicBezTo>
                    <a:cubicBezTo>
                      <a:pt x="1032" y="0"/>
                      <a:pt x="1188" y="4"/>
                      <a:pt x="1344" y="8"/>
                    </a:cubicBezTo>
                  </a:path>
                </a:pathLst>
              </a:custGeom>
              <a:noFill/>
              <a:ln w="25560">
                <a:solidFill>
                  <a:srgbClr val="66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609720" y="3081960"/>
                <a:ext cx="4384440" cy="339840"/>
              </a:xfrm>
              <a:custGeom>
                <a:avLst/>
                <a:gdLst/>
                <a:ahLst/>
                <a:rect l="l" t="t" r="r" b="b"/>
                <a:pathLst>
                  <a:path w="1344" h="96">
                    <a:moveTo>
                      <a:pt x="0" y="96"/>
                    </a:moveTo>
                    <a:cubicBezTo>
                      <a:pt x="120" y="76"/>
                      <a:pt x="240" y="56"/>
                      <a:pt x="384" y="48"/>
                    </a:cubicBezTo>
                    <a:cubicBezTo>
                      <a:pt x="528" y="40"/>
                      <a:pt x="704" y="56"/>
                      <a:pt x="864" y="48"/>
                    </a:cubicBezTo>
                    <a:cubicBezTo>
                      <a:pt x="1024" y="40"/>
                      <a:pt x="1264" y="0"/>
                      <a:pt x="1344" y="0"/>
                    </a:cubicBezTo>
                  </a:path>
                </a:pathLst>
              </a:custGeom>
              <a:noFill/>
              <a:ln w="25560">
                <a:solidFill>
                  <a:srgbClr val="ff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609720" y="2911680"/>
                <a:ext cx="4384440" cy="340560"/>
              </a:xfrm>
              <a:custGeom>
                <a:avLst/>
                <a:gdLst/>
                <a:ahLst/>
                <a:rect l="l" t="t" r="r" b="b"/>
                <a:pathLst>
                  <a:path w="1344" h="96">
                    <a:moveTo>
                      <a:pt x="0" y="96"/>
                    </a:moveTo>
                    <a:cubicBezTo>
                      <a:pt x="96" y="76"/>
                      <a:pt x="192" y="56"/>
                      <a:pt x="336" y="48"/>
                    </a:cubicBezTo>
                    <a:cubicBezTo>
                      <a:pt x="480" y="40"/>
                      <a:pt x="696" y="56"/>
                      <a:pt x="864" y="48"/>
                    </a:cubicBezTo>
                    <a:cubicBezTo>
                      <a:pt x="1032" y="40"/>
                      <a:pt x="1264" y="0"/>
                      <a:pt x="1344" y="0"/>
                    </a:cubicBezTo>
                  </a:path>
                </a:pathLst>
              </a:custGeom>
              <a:noFill/>
              <a:ln w="25560">
                <a:solidFill>
                  <a:srgbClr val="66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6625080" y="2498760"/>
              <a:ext cx="1120320" cy="3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marL="285840" indent="-285840"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66ff66"/>
                  </a:solidFill>
                  <a:latin typeface="Arial"/>
                  <a:ea typeface="Arial"/>
                </a:rPr>
                <a:t>1 an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263760" y="3430080"/>
              <a:ext cx="1369440" cy="3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marL="285840" indent="-285840"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66"/>
                  </a:solidFill>
                  <a:latin typeface="Arial"/>
                  <a:ea typeface="Arial"/>
                </a:rPr>
                <a:t>90 di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31080" y="3696840"/>
              <a:ext cx="1369440" cy="3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marL="285840" indent="-285840"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66ff66"/>
                  </a:solidFill>
                  <a:latin typeface="Arial"/>
                  <a:ea typeface="Arial"/>
                </a:rPr>
                <a:t>28 di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007240" y="4628160"/>
              <a:ext cx="1120320" cy="3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marL="285840" indent="-285840"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66"/>
                  </a:solidFill>
                  <a:latin typeface="Arial"/>
                  <a:ea typeface="Arial"/>
                </a:rPr>
                <a:t>7 di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1828800" y="304920"/>
            <a:ext cx="6400800" cy="60948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RESISTÊNCIA A ESFORÇOS MECÂNIC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676520" y="1066680"/>
            <a:ext cx="2590560" cy="914400"/>
          </a:xfrm>
          <a:prstGeom prst="ellipse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95400" algn="ctr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mericana XBd BT"/>
              </a:rPr>
              <a:t>COMPRESSÃ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5400" algn="ctr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mericana XBd BT"/>
              </a:rPr>
              <a:t>TRAÇÃ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181480" y="1143000"/>
            <a:ext cx="2133720" cy="1066680"/>
          </a:xfrm>
          <a:prstGeom prst="ellipse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mericana XBd BT"/>
              </a:rPr>
              <a:t>ENSAIOS 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mericana XBd BT"/>
              </a:rPr>
              <a:t>ARGAMAS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419720" y="2438280"/>
            <a:ext cx="4419360" cy="685800"/>
          </a:xfrm>
          <a:prstGeom prst="ellipse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954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mericana XBd BT"/>
              </a:rPr>
              <a:t>INTERAÇÃO PASTA/AGREG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267080" y="1295280"/>
            <a:ext cx="838440" cy="22860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H="1" flipV="1">
            <a:off x="7391520" y="1828800"/>
            <a:ext cx="457200" cy="53352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1828800" y="2438280"/>
            <a:ext cx="2168640" cy="2566800"/>
            <a:chOff x="1828800" y="2438280"/>
            <a:chExt cx="2168640" cy="2566800"/>
          </a:xfrm>
        </p:grpSpPr>
        <p:sp>
          <p:nvSpPr>
            <p:cNvPr id="688" name=""/>
            <p:cNvSpPr/>
            <p:nvPr/>
          </p:nvSpPr>
          <p:spPr>
            <a:xfrm>
              <a:off x="1828800" y="2438280"/>
              <a:ext cx="2092320" cy="2566800"/>
            </a:xfrm>
            <a:custGeom>
              <a:avLst/>
              <a:gdLst/>
              <a:ahLst/>
              <a:rect l="l" t="t" r="r" b="b"/>
              <a:pathLst>
                <a:path w="1318" h="1734">
                  <a:moveTo>
                    <a:pt x="27" y="383"/>
                  </a:moveTo>
                  <a:cubicBezTo>
                    <a:pt x="34" y="283"/>
                    <a:pt x="104" y="224"/>
                    <a:pt x="180" y="151"/>
                  </a:cubicBezTo>
                  <a:cubicBezTo>
                    <a:pt x="196" y="101"/>
                    <a:pt x="255" y="46"/>
                    <a:pt x="306" y="31"/>
                  </a:cubicBezTo>
                  <a:cubicBezTo>
                    <a:pt x="337" y="34"/>
                    <a:pt x="366" y="38"/>
                    <a:pt x="396" y="39"/>
                  </a:cubicBezTo>
                  <a:cubicBezTo>
                    <a:pt x="487" y="43"/>
                    <a:pt x="675" y="0"/>
                    <a:pt x="765" y="5"/>
                  </a:cubicBezTo>
                  <a:cubicBezTo>
                    <a:pt x="788" y="6"/>
                    <a:pt x="804" y="28"/>
                    <a:pt x="825" y="39"/>
                  </a:cubicBezTo>
                  <a:cubicBezTo>
                    <a:pt x="844" y="49"/>
                    <a:pt x="867" y="63"/>
                    <a:pt x="885" y="74"/>
                  </a:cubicBezTo>
                  <a:cubicBezTo>
                    <a:pt x="893" y="80"/>
                    <a:pt x="970" y="99"/>
                    <a:pt x="970" y="99"/>
                  </a:cubicBezTo>
                  <a:cubicBezTo>
                    <a:pt x="1027" y="179"/>
                    <a:pt x="947" y="101"/>
                    <a:pt x="1012" y="153"/>
                  </a:cubicBezTo>
                  <a:cubicBezTo>
                    <a:pt x="1020" y="160"/>
                    <a:pt x="1052" y="217"/>
                    <a:pt x="1060" y="225"/>
                  </a:cubicBezTo>
                  <a:cubicBezTo>
                    <a:pt x="1080" y="249"/>
                    <a:pt x="1089" y="326"/>
                    <a:pt x="1108" y="351"/>
                  </a:cubicBezTo>
                  <a:cubicBezTo>
                    <a:pt x="1149" y="476"/>
                    <a:pt x="1021" y="508"/>
                    <a:pt x="1090" y="624"/>
                  </a:cubicBezTo>
                  <a:cubicBezTo>
                    <a:pt x="1111" y="659"/>
                    <a:pt x="1115" y="700"/>
                    <a:pt x="1145" y="727"/>
                  </a:cubicBezTo>
                  <a:cubicBezTo>
                    <a:pt x="1164" y="857"/>
                    <a:pt x="1150" y="809"/>
                    <a:pt x="1171" y="873"/>
                  </a:cubicBezTo>
                  <a:cubicBezTo>
                    <a:pt x="1182" y="949"/>
                    <a:pt x="1191" y="1105"/>
                    <a:pt x="1235" y="1166"/>
                  </a:cubicBezTo>
                  <a:cubicBezTo>
                    <a:pt x="1258" y="1234"/>
                    <a:pt x="1291" y="1296"/>
                    <a:pt x="1316" y="1363"/>
                  </a:cubicBezTo>
                  <a:cubicBezTo>
                    <a:pt x="1313" y="1416"/>
                    <a:pt x="1318" y="1497"/>
                    <a:pt x="1289" y="1553"/>
                  </a:cubicBezTo>
                  <a:cubicBezTo>
                    <a:pt x="1254" y="1618"/>
                    <a:pt x="1115" y="1661"/>
                    <a:pt x="1045" y="1681"/>
                  </a:cubicBezTo>
                  <a:cubicBezTo>
                    <a:pt x="1004" y="1708"/>
                    <a:pt x="956" y="1718"/>
                    <a:pt x="910" y="1733"/>
                  </a:cubicBezTo>
                  <a:cubicBezTo>
                    <a:pt x="829" y="1729"/>
                    <a:pt x="746" y="1734"/>
                    <a:pt x="667" y="1716"/>
                  </a:cubicBezTo>
                  <a:cubicBezTo>
                    <a:pt x="636" y="1709"/>
                    <a:pt x="605" y="1686"/>
                    <a:pt x="577" y="1673"/>
                  </a:cubicBezTo>
                  <a:cubicBezTo>
                    <a:pt x="552" y="1661"/>
                    <a:pt x="521" y="1659"/>
                    <a:pt x="496" y="1647"/>
                  </a:cubicBezTo>
                  <a:cubicBezTo>
                    <a:pt x="468" y="1633"/>
                    <a:pt x="446" y="1622"/>
                    <a:pt x="414" y="1613"/>
                  </a:cubicBezTo>
                  <a:cubicBezTo>
                    <a:pt x="375" y="1589"/>
                    <a:pt x="344" y="1560"/>
                    <a:pt x="306" y="1535"/>
                  </a:cubicBezTo>
                  <a:cubicBezTo>
                    <a:pt x="275" y="1490"/>
                    <a:pt x="275" y="1426"/>
                    <a:pt x="234" y="1389"/>
                  </a:cubicBezTo>
                  <a:cubicBezTo>
                    <a:pt x="189" y="1159"/>
                    <a:pt x="196" y="967"/>
                    <a:pt x="163" y="736"/>
                  </a:cubicBezTo>
                  <a:cubicBezTo>
                    <a:pt x="155" y="682"/>
                    <a:pt x="107" y="587"/>
                    <a:pt x="72" y="538"/>
                  </a:cubicBezTo>
                  <a:cubicBezTo>
                    <a:pt x="48" y="503"/>
                    <a:pt x="0" y="383"/>
                    <a:pt x="27" y="383"/>
                  </a:cubicBezTo>
                  <a:close/>
                </a:path>
              </a:pathLst>
            </a:custGeom>
            <a:noFill/>
            <a:ln w="1908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828800" y="2666880"/>
              <a:ext cx="18288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marL="190440" indent="-19044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Americana XBd BT"/>
                </a:rPr>
                <a:t>CONCRE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190440" indent="-19044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Americana XBd BT"/>
                </a:rPr>
                <a:t>ARGAMAS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20920" y="4243320"/>
              <a:ext cx="1676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marL="190440" indent="-19044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Americana XBd BT"/>
                </a:rPr>
                <a:t>MATERIA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190440" indent="-19044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Americana XBd BT"/>
                </a:rPr>
                <a:t>FRÁGE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854440" y="3404880"/>
              <a:ext cx="304920" cy="76212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4572000" y="3352680"/>
            <a:ext cx="4191120" cy="2743200"/>
            <a:chOff x="4572000" y="3352680"/>
            <a:chExt cx="4191120" cy="2743200"/>
          </a:xfrm>
        </p:grpSpPr>
        <p:sp>
          <p:nvSpPr>
            <p:cNvPr id="693" name=""/>
            <p:cNvSpPr/>
            <p:nvPr/>
          </p:nvSpPr>
          <p:spPr>
            <a:xfrm>
              <a:off x="4572000" y="3352680"/>
              <a:ext cx="4191120" cy="2743200"/>
            </a:xfrm>
            <a:prstGeom prst="rect">
              <a:avLst/>
            </a:pr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marL="190440" indent="-19044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 u="sng">
                  <a:solidFill>
                    <a:srgbClr val="ffff66"/>
                  </a:solidFill>
                  <a:uFillTx/>
                  <a:latin typeface="Americana XBd BT"/>
                </a:rPr>
                <a:t>FATORES QUE INFLUENCIAM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190440" indent="-19044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190440" indent="-190440">
                <a:lnSpc>
                  <a:spcPct val="90000"/>
                </a:lnSpc>
                <a:spcBef>
                  <a:spcPts val="451"/>
                </a:spcBef>
                <a:buClr>
                  <a:srgbClr val="ffffff"/>
                </a:buClr>
                <a:buSzPct val="70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mericana XBd BT"/>
                </a:rPr>
                <a:t>Finura do cimen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190440" indent="-190440">
                <a:lnSpc>
                  <a:spcPct val="90000"/>
                </a:lnSpc>
                <a:spcBef>
                  <a:spcPts val="451"/>
                </a:spcBef>
                <a:buClr>
                  <a:srgbClr val="ffffff"/>
                </a:buClr>
                <a:buSzPct val="70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mericana XBd BT"/>
                </a:rPr>
                <a:t>Composição do cimento</a:t>
              </a:r>
              <a:r>
                <a:rPr b="0" lang="pt-BR" sz="1800" spc="-1" strike="noStrike">
                  <a:solidFill>
                    <a:srgbClr val="ffffff"/>
                  </a:solidFill>
                  <a:latin typeface="Americana XBd BT"/>
                </a:rPr>
                <a:t>	</a:t>
              </a:r>
              <a:r>
                <a:rPr b="0" lang="pt-BR" sz="1800" spc="-1" strike="noStrike">
                  <a:solidFill>
                    <a:srgbClr val="ffffff"/>
                  </a:solidFill>
                  <a:latin typeface="Americana XBd BT"/>
                </a:rPr>
                <a:t>Hidrataçã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190440" indent="-190440">
                <a:lnSpc>
                  <a:spcPct val="90000"/>
                </a:lnSpc>
                <a:spcBef>
                  <a:spcPts val="451"/>
                </a:spcBef>
                <a:buClr>
                  <a:srgbClr val="ffffff"/>
                </a:buClr>
                <a:buSzPct val="70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mericana XBd BT"/>
                </a:rPr>
                <a:t>Temperatur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190440" indent="-19044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mericana XBd BT"/>
                </a:rPr>
                <a:t>..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190440" indent="-190440">
                <a:lnSpc>
                  <a:spcPct val="90000"/>
                </a:lnSpc>
                <a:spcBef>
                  <a:spcPts val="451"/>
                </a:spcBef>
                <a:buClr>
                  <a:srgbClr val="ffffff"/>
                </a:buClr>
                <a:buSzPct val="70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mericana XBd BT"/>
                </a:rPr>
                <a:t>Quantidade de águ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190440" indent="-19044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190440" indent="-19044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mericana XBd BT"/>
                </a:rPr>
                <a:t>	</a:t>
              </a:r>
              <a:r>
                <a:rPr b="0" lang="pt-BR" sz="1800" spc="-1" strike="noStrike">
                  <a:solidFill>
                    <a:srgbClr val="ffffff"/>
                  </a:solidFill>
                  <a:latin typeface="Americana XBd BT"/>
                </a:rPr>
                <a:t>	</a:t>
              </a:r>
              <a:r>
                <a:rPr b="0" lang="pt-BR" sz="1800" spc="-1" strike="noStrike">
                  <a:solidFill>
                    <a:srgbClr val="ffffff"/>
                  </a:solidFill>
                  <a:latin typeface="Americana XBd BT"/>
                </a:rPr>
                <a:t>	</a:t>
              </a:r>
              <a:r>
                <a:rPr b="0" lang="pt-BR" sz="1800" spc="-1" strike="noStrike">
                  <a:solidFill>
                    <a:srgbClr val="ffffff"/>
                  </a:solidFill>
                  <a:latin typeface="Americana XBd BT"/>
                </a:rPr>
                <a:t>Fator a/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162920" y="4038480"/>
              <a:ext cx="75960" cy="8380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flipV="1">
              <a:off x="6552720" y="5485680"/>
              <a:ext cx="304920" cy="304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1905120" y="685800"/>
            <a:ext cx="2438280" cy="76212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RESISTÊNCIA À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COMPRESSÃO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697" name=""/>
          <p:cNvSpPr/>
          <p:nvPr/>
        </p:nvSpPr>
        <p:spPr>
          <a:xfrm rot="1500000">
            <a:off x="4495320" y="990360"/>
            <a:ext cx="762120" cy="533160"/>
          </a:xfrm>
          <a:prstGeom prst="rightArrow">
            <a:avLst>
              <a:gd name="adj1" fmla="val 50000"/>
              <a:gd name="adj2" fmla="val 3573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5410080" y="1371600"/>
            <a:ext cx="1828800" cy="68580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CLASSES DE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RESISTÊNCIA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5105520" y="2971800"/>
            <a:ext cx="3047760" cy="76212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RESISTÊNCIA MÉDIA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IDADE DEFINIDA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700" name=""/>
          <p:cNvSpPr/>
          <p:nvPr/>
        </p:nvSpPr>
        <p:spPr>
          <a:xfrm rot="6000000">
            <a:off x="6285960" y="2323800"/>
            <a:ext cx="762120" cy="533520"/>
          </a:xfrm>
          <a:prstGeom prst="rightArrow">
            <a:avLst>
              <a:gd name="adj1" fmla="val 50000"/>
              <a:gd name="adj2" fmla="val 3571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952880" y="4876920"/>
            <a:ext cx="1676520" cy="91440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. 25 MPa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. 32 MPa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. 40 MPa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02" name=""/>
          <p:cNvSpPr/>
          <p:nvPr/>
        </p:nvSpPr>
        <p:spPr>
          <a:xfrm rot="6000000">
            <a:off x="5676480" y="4076640"/>
            <a:ext cx="761760" cy="533160"/>
          </a:xfrm>
          <a:prstGeom prst="rightArrow">
            <a:avLst>
              <a:gd name="adj1" fmla="val 50000"/>
              <a:gd name="adj2" fmla="val 3571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692360" y="549360"/>
            <a:ext cx="3124080" cy="86364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1824 – Jose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Aspd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03640" y="549360"/>
            <a:ext cx="3600720" cy="86364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66"/>
                </a:solidFill>
                <a:latin typeface="Arial"/>
              </a:rPr>
              <a:t>CIMENTO PORT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03640" y="1917720"/>
            <a:ext cx="3889440" cy="12952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9933"/>
                </a:solidFill>
                <a:latin typeface="Arial"/>
              </a:rPr>
              <a:t>Aglomerante obtido pelo cozimento de argila e calcá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9933"/>
                </a:solidFill>
                <a:latin typeface="Arial"/>
              </a:rPr>
              <a:t>CAL HIDRÁULICA ARTIFI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6624720" y="1377720"/>
            <a:ext cx="360360" cy="576360"/>
          </a:xfrm>
          <a:prstGeom prst="lef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77080" y="2494080"/>
            <a:ext cx="0" cy="2887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92360" y="3357720"/>
            <a:ext cx="3124080" cy="86328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1845 – Isa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John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03640" y="3357720"/>
            <a:ext cx="3600720" cy="86328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66"/>
                </a:solidFill>
                <a:latin typeface="Arial"/>
              </a:rPr>
              <a:t>CIMENTO DE PEGA NORM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92360" y="4294080"/>
            <a:ext cx="3124080" cy="86364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1888 - Bras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03640" y="4294080"/>
            <a:ext cx="3600720" cy="86364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66"/>
                </a:solidFill>
                <a:latin typeface="Arial"/>
              </a:rPr>
              <a:t>PIONEIRO AMÉRICA LAT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92360" y="5229360"/>
            <a:ext cx="3124080" cy="86364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1892 - Alemanh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03640" y="5229360"/>
            <a:ext cx="3600720" cy="86364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66"/>
                </a:solidFill>
                <a:latin typeface="Arial"/>
              </a:rPr>
              <a:t>CIMENTO PORTLAND COM ADIÇÕ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 txBox="1"/>
          <p:nvPr/>
        </p:nvSpPr>
        <p:spPr>
          <a:xfrm>
            <a:off x="1828800" y="533520"/>
            <a:ext cx="2438280" cy="45720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ADIÇÕ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4443480" y="603360"/>
            <a:ext cx="3657600" cy="30456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(SUBSTITUEM O CLÍNQUER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828800" y="1143000"/>
            <a:ext cx="3657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ff66"/>
                </a:solidFill>
                <a:uFillTx/>
                <a:latin typeface="Americana XBd BT"/>
              </a:rPr>
              <a:t>ADIÇÕES A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mericana XBd BT"/>
              </a:rPr>
              <a:t>POZOLON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mericana XBd BT"/>
              </a:rPr>
              <a:t>ESCÓRIA DE ALTO-FO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ff66"/>
                </a:solidFill>
                <a:uFillTx/>
                <a:latin typeface="Americana XBd BT"/>
              </a:rPr>
              <a:t>ADIÇÕES INER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FILER CALCÁ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1905120" y="3429000"/>
            <a:ext cx="3504960" cy="30492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FILER CALCÁRIO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752480" y="3657600"/>
            <a:ext cx="71629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mericana XBd BT"/>
              </a:rPr>
              <a:t>(CaCO</a:t>
            </a:r>
            <a:r>
              <a:rPr b="1" lang="pt-BR" sz="1800" spc="-1" strike="noStrike" baseline="-25000">
                <a:solidFill>
                  <a:srgbClr val="ffffff"/>
                </a:solidFill>
                <a:latin typeface="Americana XBd BT"/>
              </a:rPr>
              <a:t>3</a:t>
            </a:r>
            <a:r>
              <a:rPr b="1" lang="pt-BR" sz="1800" spc="-1" strike="noStrike">
                <a:solidFill>
                  <a:srgbClr val="ffffff"/>
                </a:solidFill>
                <a:latin typeface="Americana XBd BT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ADIÇÃO SEM FUNÇÃO AGLOMERA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 </a:t>
            </a:r>
            <a:r>
              <a:rPr b="1" lang="pt-BR" sz="2400" spc="-1" strike="noStrike">
                <a:solidFill>
                  <a:srgbClr val="ffff66"/>
                </a:solidFill>
                <a:latin typeface="Americana XBd BT"/>
                <a:ea typeface="Arial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ENCHI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 </a:t>
            </a:r>
            <a:r>
              <a:rPr b="1" lang="pt-BR" sz="2400" spc="-1" strike="noStrike">
                <a:solidFill>
                  <a:srgbClr val="ffff66"/>
                </a:solidFill>
                <a:latin typeface="Americana XBd BT"/>
                <a:ea typeface="Arial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COMPENSAÇÃO: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- AUMENTO DA FINU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- ALTERAÇÃO NA COMPOSIÇÃO DO CLÍNQU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 txBox="1"/>
          <p:nvPr/>
        </p:nvSpPr>
        <p:spPr>
          <a:xfrm>
            <a:off x="1828800" y="533520"/>
            <a:ext cx="2438280" cy="45720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ADIÇÕ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1828800" y="1295280"/>
            <a:ext cx="4114800" cy="38124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ESCÓRIA DE ALTO-FORNO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752480" y="1828800"/>
            <a:ext cx="7162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SILICATOS E ALUMINO-SILICATOS DE CÁL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 </a:t>
            </a:r>
            <a:r>
              <a:rPr b="1" lang="pt-BR" sz="2400" spc="-1" strike="noStrike">
                <a:solidFill>
                  <a:srgbClr val="ffff66"/>
                </a:solidFill>
                <a:latin typeface="Americana XBd BT"/>
                <a:ea typeface="Arial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CARACTERÍSTICAS DE HIDRAULICID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 </a:t>
            </a:r>
            <a:r>
              <a:rPr b="1" lang="pt-BR" sz="2400" spc="-1" strike="noStrike">
                <a:solidFill>
                  <a:srgbClr val="ffff66"/>
                </a:solidFill>
                <a:latin typeface="Americana XBd BT"/>
                <a:ea typeface="Arial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mericana XBd BT"/>
              </a:rPr>
              <a:t>CATALIZADOR:</a:t>
            </a:r>
            <a:r>
              <a:rPr b="1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mericana XBd BT"/>
              </a:rPr>
              <a:t>Ca(OH)</a:t>
            </a:r>
            <a:r>
              <a:rPr b="1" lang="pt-BR" sz="1800" spc="-1" strike="noStrike" baseline="-25000">
                <a:solidFill>
                  <a:srgbClr val="ffffff"/>
                </a:solidFill>
                <a:latin typeface="Americana XBd BT"/>
              </a:rPr>
              <a:t>2</a:t>
            </a:r>
            <a:r>
              <a:rPr b="1" lang="pt-BR" sz="1800" spc="-1" strike="noStrike">
                <a:solidFill>
                  <a:srgbClr val="ffffff"/>
                </a:solidFill>
                <a:latin typeface="Americana XBd BT"/>
              </a:rPr>
              <a:t> para ínicio da reação de hidrataçã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1828800" y="3809880"/>
            <a:ext cx="2133720" cy="30492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POZOLONA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4038480" y="3886200"/>
            <a:ext cx="4724640" cy="1219320"/>
            <a:chOff x="4038480" y="3886200"/>
            <a:chExt cx="4724640" cy="1219320"/>
          </a:xfrm>
        </p:grpSpPr>
        <p:sp>
          <p:nvSpPr>
            <p:cNvPr id="713" name=""/>
            <p:cNvSpPr/>
            <p:nvPr/>
          </p:nvSpPr>
          <p:spPr>
            <a:xfrm>
              <a:off x="4343400" y="3886200"/>
              <a:ext cx="44197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marL="291960" indent="-29196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Americana XBd BT"/>
                </a:rPr>
                <a:t>NATURAIS (Ex.: terras diatomácea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91960" indent="-29196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Americana XBd BT"/>
                </a:rPr>
                <a:t>ARTIFICIAIS (calcinação de argila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91960" indent="-29196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Americana XBd BT"/>
                </a:rPr>
                <a:t>CINZAS VOLANTES (carvão mineral e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91960" indent="-29196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Americana XBd BT"/>
                </a:rPr>
                <a:t>	</a:t>
              </a:r>
              <a:r>
                <a:rPr b="1" lang="pt-BR" sz="1800" spc="-1" strike="noStrike">
                  <a:solidFill>
                    <a:srgbClr val="ffffff"/>
                  </a:solidFill>
                  <a:latin typeface="Americana XBd BT"/>
                </a:rPr>
                <a:t>	</a:t>
              </a:r>
              <a:r>
                <a:rPr b="1" lang="pt-BR" sz="1800" spc="-1" strike="noStrike">
                  <a:solidFill>
                    <a:srgbClr val="ffffff"/>
                  </a:solidFill>
                  <a:latin typeface="Americana XBd BT"/>
                </a:rPr>
                <a:t>	</a:t>
              </a:r>
              <a:r>
                <a:rPr b="1" lang="pt-BR" sz="1800" spc="-1" strike="noStrike">
                  <a:solidFill>
                    <a:srgbClr val="ffffff"/>
                  </a:solidFill>
                  <a:latin typeface="Americana XBd BT"/>
                </a:rPr>
                <a:t>usinas termoelétrica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038480" y="4038480"/>
              <a:ext cx="304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038480" y="4038480"/>
              <a:ext cx="30492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038480" y="4038480"/>
              <a:ext cx="304920" cy="609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2590920" y="426708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1752480" y="5105520"/>
            <a:ext cx="6934320" cy="1066680"/>
            <a:chOff x="1752480" y="5105520"/>
            <a:chExt cx="6934320" cy="1066680"/>
          </a:xfrm>
        </p:grpSpPr>
        <p:sp>
          <p:nvSpPr>
            <p:cNvPr id="719" name=""/>
            <p:cNvSpPr/>
            <p:nvPr/>
          </p:nvSpPr>
          <p:spPr>
            <a:xfrm>
              <a:off x="1752480" y="5105520"/>
              <a:ext cx="44197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Americana XBd BT"/>
                </a:rPr>
                <a:t>Material que, quando finamente dividido </a:t>
              </a:r>
              <a:r>
                <a:rPr b="1" lang="pt-BR" sz="1800" spc="-1" strike="noStrike">
                  <a:solidFill>
                    <a:srgbClr val="ffff66"/>
                  </a:solidFill>
                  <a:latin typeface="Americana XBd BT"/>
                </a:rPr>
                <a:t>reage</a:t>
              </a:r>
              <a:r>
                <a:rPr b="1" lang="pt-BR" sz="1800" spc="-1" strike="noStrike">
                  <a:solidFill>
                    <a:srgbClr val="ffffff"/>
                  </a:solidFill>
                  <a:latin typeface="Americana XBd BT"/>
                </a:rPr>
                <a:t> com o hidróxido de cálcio formando compostos aglomerantes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105520" y="5791320"/>
              <a:ext cx="35812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Americana XBd BT"/>
                </a:rPr>
                <a:t>Material silicoso e silico aluminos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572000" y="5715000"/>
              <a:ext cx="53352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 txBox="1"/>
          <p:nvPr/>
        </p:nvSpPr>
        <p:spPr>
          <a:xfrm>
            <a:off x="1828800" y="457200"/>
            <a:ext cx="3962520" cy="53352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ESPECIFICAÇÕ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828800" y="1143000"/>
            <a:ext cx="70102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ff66"/>
                </a:solidFill>
                <a:uFillTx/>
                <a:latin typeface="Americana XBd BT"/>
              </a:rPr>
              <a:t>CIMENTOS NORMALIZADO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CPI – CIMENTO PORTLAND COM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24452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Americana XB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CPI-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24452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Americana XB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CPI-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CPII – CIMENTO PORTLAND COMPOS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24452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Americana XB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CPII-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24452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Americana XB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CPII-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24452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Americana XB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CPII-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CPIII – CIMENTO PORTLAND DE ALTO FO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CPIV – CIMENTO PORTLAND POZOLÂN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CPV – CIMENTO PORTLAND DE ALTA RESISTÊNCIA INI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ff66"/>
                </a:solidFill>
                <a:uFillTx/>
                <a:latin typeface="Americana XBd BT"/>
              </a:rPr>
              <a:t>CIMENTOS EM FASE DE NORMALIZAÇÃ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CIMENTO PORTLAND RESISTENTE A SULFA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CIMENTO PORTLAND COM ALTOS TEORES DE MATERIAL CARBONÁTICO (FILER CALCÁRI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 txBox="1"/>
          <p:nvPr/>
        </p:nvSpPr>
        <p:spPr>
          <a:xfrm>
            <a:off x="1828800" y="533520"/>
            <a:ext cx="4038480" cy="45720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ENSAIOS FÍSIC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2286000" y="1676520"/>
            <a:ext cx="6019920" cy="1904400"/>
            <a:chOff x="2286000" y="1676520"/>
            <a:chExt cx="6019920" cy="1904400"/>
          </a:xfrm>
        </p:grpSpPr>
        <p:sp>
          <p:nvSpPr>
            <p:cNvPr id="726" name=""/>
            <p:cNvSpPr/>
            <p:nvPr/>
          </p:nvSpPr>
          <p:spPr>
            <a:xfrm>
              <a:off x="4800600" y="2286000"/>
              <a:ext cx="3505320" cy="3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marL="291960" indent="-29196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mericana XBd BT"/>
                </a:rPr>
                <a:t>NÃO É INDICE DE QUALIDAD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286000" y="2819160"/>
              <a:ext cx="4191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mericana XBd BT"/>
                </a:rPr>
                <a:t>USADA PARA DOSAGEM E CÁLCULO DA SUPERFÍCIE ESPECÍFIC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514600" y="1676520"/>
              <a:ext cx="4648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marL="291960" indent="-291960" algn="ctr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 u="sng">
                  <a:solidFill>
                    <a:srgbClr val="ffff66"/>
                  </a:solidFill>
                  <a:uFillTx/>
                  <a:latin typeface="Americana XBd BT"/>
                </a:rPr>
                <a:t>I) MASSA ESPECÍFICA</a:t>
              </a:r>
              <a:r>
                <a:rPr b="0" lang="pt-BR" sz="1800" spc="-1" strike="noStrike">
                  <a:solidFill>
                    <a:srgbClr val="ffffff"/>
                  </a:solidFill>
                  <a:latin typeface="Americana XBd BT"/>
                </a:rPr>
                <a:t>	</a:t>
              </a:r>
              <a:r>
                <a:rPr b="0" lang="pt-BR" sz="1800" spc="-1" strike="noStrike">
                  <a:solidFill>
                    <a:srgbClr val="ffffff"/>
                  </a:solidFill>
                  <a:latin typeface="Americana XBd BT"/>
                </a:rPr>
                <a:t>(~ 3 a 3,20 g/cm</a:t>
              </a:r>
              <a:r>
                <a:rPr b="0" lang="pt-BR" sz="1800" spc="-1" strike="noStrike" baseline="30000">
                  <a:solidFill>
                    <a:srgbClr val="ffffff"/>
                  </a:solidFill>
                  <a:latin typeface="Americana XBd BT"/>
                </a:rPr>
                <a:t>3</a:t>
              </a:r>
              <a:r>
                <a:rPr b="0" lang="pt-BR" sz="1800" spc="-1" strike="noStrike">
                  <a:solidFill>
                    <a:srgbClr val="ffffff"/>
                  </a:solidFill>
                  <a:latin typeface="Americana XBd BT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200400" y="2133360"/>
              <a:ext cx="0" cy="6094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962520" y="2133360"/>
              <a:ext cx="761760" cy="30456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400800" y="3200400"/>
              <a:ext cx="1143000" cy="3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marL="291960" indent="-29196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mericana XBd BT"/>
                </a:rPr>
                <a:t>MEDID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095880" y="3124080"/>
              <a:ext cx="304920" cy="228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3" name=""/>
          <p:cNvSpPr/>
          <p:nvPr/>
        </p:nvSpPr>
        <p:spPr>
          <a:xfrm>
            <a:off x="2438280" y="4114800"/>
            <a:ext cx="3581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291960" indent="-291960"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ff66"/>
                </a:solidFill>
                <a:uFillTx/>
                <a:latin typeface="Americana XBd BT"/>
              </a:rPr>
              <a:t>MÉTODO DE DETERMIN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FRASCO DE LE CHATELI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(xilol ou querosen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2133720" y="1371600"/>
            <a:ext cx="5715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ff66"/>
                </a:solidFill>
                <a:uFillTx/>
                <a:latin typeface="Americana XBd BT"/>
              </a:rPr>
              <a:t>II) FINURA – MÉTODO DE DETERMIN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mericana XBd BT"/>
              </a:rPr>
              <a:t>RESÍDUO NA PENEIRA Nº 200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mericana XBd BT"/>
              </a:rPr>
              <a:t> </a:t>
            </a:r>
            <a:r>
              <a:rPr b="1" lang="pt-BR" sz="2800" spc="-1" strike="noStrike">
                <a:solidFill>
                  <a:srgbClr val="ffff66"/>
                </a:solidFill>
                <a:latin typeface="Americana XBd BT"/>
                <a:ea typeface="Arial"/>
              </a:rPr>
              <a:t>↓</a:t>
            </a:r>
            <a:r>
              <a:rPr b="1" lang="pt-BR" sz="1800" spc="-1" strike="noStrike">
                <a:solidFill>
                  <a:srgbClr val="ffffff"/>
                </a:solidFill>
                <a:latin typeface="Americana XBd BT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1" lang="pt-BR" sz="2800" spc="-1" strike="noStrike">
                <a:solidFill>
                  <a:srgbClr val="ffff66"/>
                </a:solidFill>
                <a:latin typeface="Americana XBd BT"/>
                <a:ea typeface="Arial"/>
              </a:rPr>
              <a:t>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mericana XBd BT"/>
              </a:rPr>
              <a:t> </a:t>
            </a:r>
            <a:r>
              <a:rPr b="1" lang="pt-BR" sz="2800" spc="-1" strike="noStrike">
                <a:solidFill>
                  <a:srgbClr val="ffff66"/>
                </a:solidFill>
                <a:latin typeface="Americana XBd BT"/>
                <a:ea typeface="Arial"/>
              </a:rPr>
              <a:t>↓</a:t>
            </a:r>
            <a:r>
              <a:rPr b="1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EXIGÊNCIA DE NOR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VARIA DE ACORDO COM O TIPO DE CI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mericana XBd BT"/>
              </a:rPr>
              <a:t>PERMEABILÍMETRO BLAIN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mericana XBd BT"/>
              </a:rPr>
              <a:t> </a:t>
            </a:r>
            <a:r>
              <a:rPr b="1" lang="pt-BR" sz="2800" spc="-1" strike="noStrike">
                <a:solidFill>
                  <a:srgbClr val="ffff66"/>
                </a:solidFill>
                <a:latin typeface="Americana XBd BT"/>
                <a:ea typeface="Arial"/>
              </a:rPr>
              <a:t>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DETERMINA A ÁREA ESPECÍFICA DO CI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 </a:t>
            </a:r>
            <a:r>
              <a:rPr b="1" lang="pt-BR" sz="2800" spc="-1" strike="noStrike">
                <a:solidFill>
                  <a:srgbClr val="ffff66"/>
                </a:solidFill>
                <a:latin typeface="Americana XBd BT"/>
                <a:ea typeface="Arial"/>
              </a:rPr>
              <a:t>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VARIA DE ACORDO COM O TIPO DE CI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1828800" y="533520"/>
            <a:ext cx="4038480" cy="45720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ENSAIOS FÍSIC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3124080" y="1066680"/>
            <a:ext cx="5715000" cy="2743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ff66"/>
                </a:solidFill>
                <a:uFillTx/>
                <a:latin typeface="Americana XBd BT"/>
              </a:rPr>
              <a:t>III) ÁGUA DA PASTA DE CONSISTÊNCIA NOR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66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66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66"/>
                </a:solidFill>
                <a:latin typeface="Americana XBd BT"/>
              </a:rPr>
              <a:t> </a:t>
            </a:r>
            <a:r>
              <a:rPr b="1" lang="pt-BR" sz="2400" spc="-1" strike="noStrike">
                <a:solidFill>
                  <a:srgbClr val="ffff66"/>
                </a:solidFill>
                <a:latin typeface="Americana XBd BT"/>
                <a:ea typeface="Arial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mericana XBd BT"/>
              </a:rPr>
              <a:t>ÁGUA PARA OS ENSAIOS DE TEMPOS DE PEGA E EXPANSIVID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ff66"/>
                </a:solidFill>
                <a:uFillTx/>
                <a:latin typeface="Americana XBd BT"/>
              </a:rPr>
              <a:t>MÉTODO DE DETERMINAÇÃ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SONDA DE TETMAJER (NO APARELHO DE VICA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6 </a:t>
            </a:r>
            <a:r>
              <a:rPr b="0" lang="pt-BR" sz="1800" spc="-1" strike="noStrike" u="sng">
                <a:solidFill>
                  <a:srgbClr val="ffffff"/>
                </a:solidFill>
                <a:uFillTx/>
                <a:latin typeface="Americana XBd BT"/>
              </a:rPr>
              <a:t>+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 1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1828800" y="533520"/>
            <a:ext cx="4038480" cy="45720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ENSAIOS FÍSIC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676520" y="3809880"/>
            <a:ext cx="5715000" cy="251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ff66"/>
                </a:solidFill>
                <a:uFillTx/>
                <a:latin typeface="Americana XBd BT"/>
              </a:rPr>
              <a:t>IV) TEMPOS DE PEGA</a:t>
            </a:r>
            <a:r>
              <a:rPr b="0" lang="pt-BR" sz="1800" spc="-1" strike="noStrike">
                <a:solidFill>
                  <a:srgbClr val="ffff66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66"/>
                </a:solidFill>
                <a:latin typeface="Americana XBd BT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mericana XBd BT"/>
              </a:rPr>
              <a:t>→</a:t>
            </a:r>
            <a:r>
              <a:rPr b="0" lang="pt-BR" sz="1800" spc="-1" strike="noStrike">
                <a:solidFill>
                  <a:srgbClr val="ffff66"/>
                </a:solidFill>
                <a:latin typeface="Americana XBd BT"/>
              </a:rPr>
              <a:t> </a:t>
            </a:r>
            <a:r>
              <a:rPr b="0" lang="pt-BR" sz="1800" spc="-1" strike="noStrike">
                <a:solidFill>
                  <a:srgbClr val="ffff66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TRABALHÁ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Americana XBd BT"/>
              </a:rPr>
              <a:t> </a:t>
            </a:r>
            <a:r>
              <a:rPr b="1" lang="pt-BR" sz="2400" spc="-1" strike="noStrike">
                <a:solidFill>
                  <a:srgbClr val="ffff66"/>
                </a:solidFill>
                <a:latin typeface="Americana XBd BT"/>
                <a:ea typeface="Arial"/>
              </a:rPr>
              <a:t>↓</a:t>
            </a:r>
            <a:r>
              <a:rPr b="1" lang="pt-BR" sz="2400" spc="-1" strike="noStrike">
                <a:solidFill>
                  <a:srgbClr val="ffff66"/>
                </a:solidFill>
                <a:latin typeface="Americana XBd BT"/>
                <a:ea typeface="Arial"/>
              </a:rPr>
              <a:t>	</a:t>
            </a:r>
            <a:r>
              <a:rPr b="1" lang="pt-BR" sz="2400" spc="-1" strike="noStrike">
                <a:solidFill>
                  <a:srgbClr val="ffff66"/>
                </a:solidFill>
                <a:latin typeface="Americana XBd BT"/>
                <a:ea typeface="Arial"/>
              </a:rPr>
              <a:t>	</a:t>
            </a:r>
            <a:r>
              <a:rPr b="1" lang="pt-BR" sz="2400" spc="-1" strike="noStrike">
                <a:solidFill>
                  <a:srgbClr val="ffff66"/>
                </a:solidFill>
                <a:latin typeface="Americana XBd BT"/>
                <a:ea typeface="Arial"/>
              </a:rPr>
              <a:t>	</a:t>
            </a:r>
            <a:r>
              <a:rPr b="1" lang="pt-BR" sz="2400" spc="-1" strike="noStrike">
                <a:solidFill>
                  <a:srgbClr val="ffff66"/>
                </a:solidFill>
                <a:latin typeface="Americana XBd BT"/>
                <a:ea typeface="Arial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ENRIJECIMENTO DA PA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ff66"/>
                </a:solidFill>
                <a:uFillTx/>
                <a:latin typeface="Americana XBd BT"/>
              </a:rPr>
              <a:t>MÉTODO DE DETERMINAÇÃ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AGULHA DE VICAT (NO APARELHO DE VICA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Início: 1 mm do fun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Fim: 1ª entre 3 leituras sucessivas e iguais, &gt;s 38,0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1905120" y="1143000"/>
            <a:ext cx="5943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ff66"/>
                </a:solidFill>
                <a:uFillTx/>
                <a:latin typeface="Americana XBd BT"/>
              </a:rPr>
              <a:t>VI) RESISTÊNCIA A COMPRESSÃO</a:t>
            </a:r>
            <a:r>
              <a:rPr b="0" lang="pt-BR" sz="1800" spc="-1" strike="noStrike" u="sng">
                <a:solidFill>
                  <a:srgbClr val="ffff66"/>
                </a:solidFill>
                <a:uFillTx/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66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66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66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66"/>
                </a:solidFill>
                <a:latin typeface="Americana XBd BT"/>
              </a:rPr>
              <a:t> </a:t>
            </a:r>
            <a:r>
              <a:rPr b="1" lang="pt-BR" sz="2400" spc="-1" strike="noStrike">
                <a:solidFill>
                  <a:srgbClr val="ffff66"/>
                </a:solidFill>
                <a:latin typeface="Americana XBd BT"/>
                <a:ea typeface="Arial"/>
              </a:rPr>
              <a:t>↓</a:t>
            </a:r>
            <a:r>
              <a:rPr b="0" lang="pt-BR" sz="1800" spc="-1" strike="noStrike">
                <a:solidFill>
                  <a:srgbClr val="ffff66"/>
                </a:solidFill>
                <a:latin typeface="Americana XBd BT"/>
              </a:rPr>
              <a:t>  </a:t>
            </a:r>
            <a:r>
              <a:rPr b="0" lang="pt-BR" sz="1800" spc="-1" strike="noStrike">
                <a:solidFill>
                  <a:srgbClr val="ffff66"/>
                </a:solidFill>
                <a:latin typeface="Americana XBd BT"/>
              </a:rPr>
              <a:t>	</a:t>
            </a:r>
            <a:r>
              <a:rPr b="1" lang="pt-BR" sz="2400" spc="-1" strike="noStrike">
                <a:solidFill>
                  <a:srgbClr val="ffff66"/>
                </a:solidFill>
                <a:latin typeface="Americana XBd BT"/>
                <a:ea typeface="Arial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mericana XBd BT"/>
              </a:rPr>
              <a:t> </a:t>
            </a:r>
            <a:r>
              <a:rPr b="1" lang="pt-BR" sz="2400" spc="-1" strike="noStrike">
                <a:solidFill>
                  <a:srgbClr val="ffff66"/>
                </a:solidFill>
                <a:latin typeface="Americana XBd BT"/>
                <a:ea typeface="Arial"/>
              </a:rPr>
              <a:t>↓</a:t>
            </a:r>
            <a:r>
              <a:rPr b="1" lang="pt-BR" sz="1800" spc="-1" strike="noStrike">
                <a:solidFill>
                  <a:srgbClr val="ffffff"/>
                </a:solidFill>
                <a:latin typeface="Americana XBd BT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CORPO DE PROVA 5x10 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ARGAMASSA COM TRAÇO E “OUTROS” MATERIAIS DEFINI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1828800" y="533520"/>
            <a:ext cx="4038480" cy="45720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ENSAIOS FÍSIC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aphicFrame>
        <p:nvGraphicFramePr>
          <p:cNvPr id="741" name=""/>
          <p:cNvGraphicFramePr/>
          <p:nvPr/>
        </p:nvGraphicFramePr>
        <p:xfrm>
          <a:off x="2895480" y="2895480"/>
          <a:ext cx="4496040" cy="3200400"/>
        </p:xfrm>
        <a:graphic>
          <a:graphicData uri="http://schemas.openxmlformats.org/drawingml/2006/table">
            <a:tbl>
              <a:tblPr/>
              <a:tblGrid>
                <a:gridCol w="2656440"/>
                <a:gridCol w="1839600"/>
              </a:tblGrid>
              <a:tr h="7023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66"/>
                          </a:solidFill>
                          <a:latin typeface="Americana XBd BT"/>
                        </a:rPr>
                        <a:t>Mater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66"/>
                          </a:solidFill>
                          <a:latin typeface="Americana XBd BT"/>
                        </a:rPr>
                        <a:t>Quantidade (g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Cimen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624 </a:t>
                      </a:r>
                      <a:r>
                        <a:rPr b="1" lang="pt-BR" sz="2000" spc="-1" strike="noStrike" u="sng">
                          <a:solidFill>
                            <a:srgbClr val="ffffff"/>
                          </a:solidFill>
                          <a:uFillTx/>
                          <a:latin typeface="Americana XBd BT"/>
                        </a:rPr>
                        <a:t>+</a:t>
                      </a: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 0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Águ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300 </a:t>
                      </a:r>
                      <a:r>
                        <a:rPr b="1" lang="pt-BR" sz="2000" spc="-1" strike="noStrike" u="sng">
                          <a:solidFill>
                            <a:srgbClr val="ffffff"/>
                          </a:solidFill>
                          <a:uFillTx/>
                          <a:latin typeface="Americana XBd BT"/>
                        </a:rPr>
                        <a:t>+</a:t>
                      </a: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 0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Areia nor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66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fração gross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468 </a:t>
                      </a:r>
                      <a:r>
                        <a:rPr b="1" lang="pt-BR" sz="2000" spc="-1" strike="noStrike" u="sng">
                          <a:solidFill>
                            <a:srgbClr val="ffffff"/>
                          </a:solidFill>
                          <a:uFillTx/>
                          <a:latin typeface="Americana XBd BT"/>
                        </a:rPr>
                        <a:t>+</a:t>
                      </a: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 0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66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fração média gross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468 </a:t>
                      </a:r>
                      <a:r>
                        <a:rPr b="1" lang="pt-BR" sz="2000" spc="-1" strike="noStrike" u="sng">
                          <a:solidFill>
                            <a:srgbClr val="ffffff"/>
                          </a:solidFill>
                          <a:uFillTx/>
                          <a:latin typeface="Americana XBd BT"/>
                        </a:rPr>
                        <a:t>+</a:t>
                      </a: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 0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66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fração média f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468 </a:t>
                      </a:r>
                      <a:r>
                        <a:rPr b="1" lang="pt-BR" sz="2000" spc="-1" strike="noStrike" u="sng">
                          <a:solidFill>
                            <a:srgbClr val="ffffff"/>
                          </a:solidFill>
                          <a:uFillTx/>
                          <a:latin typeface="Americana XBd BT"/>
                        </a:rPr>
                        <a:t>+</a:t>
                      </a: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 0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66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fração f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468 </a:t>
                      </a:r>
                      <a:r>
                        <a:rPr b="1" lang="pt-BR" sz="2000" spc="-1" strike="noStrike" u="sng">
                          <a:solidFill>
                            <a:srgbClr val="ffffff"/>
                          </a:solidFill>
                          <a:uFillTx/>
                          <a:latin typeface="Americana XBd BT"/>
                        </a:rPr>
                        <a:t>+</a:t>
                      </a: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 0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 txBox="1"/>
          <p:nvPr/>
        </p:nvSpPr>
        <p:spPr>
          <a:xfrm>
            <a:off x="1828800" y="533520"/>
            <a:ext cx="4038480" cy="45720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ENSAIOS FÍSIC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828800" y="1371600"/>
            <a:ext cx="5715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ff66"/>
                </a:solidFill>
                <a:uFillTx/>
                <a:latin typeface="Americana XBd BT"/>
              </a:rPr>
              <a:t>III) EXPANSIBILIDADE</a:t>
            </a:r>
            <a:r>
              <a:rPr b="0" lang="pt-BR" sz="1800" spc="-1" strike="noStrike">
                <a:solidFill>
                  <a:srgbClr val="ffff66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66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66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66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66"/>
                </a:solidFill>
                <a:latin typeface="Americana XBd BT"/>
              </a:rPr>
              <a:t> </a:t>
            </a:r>
            <a:r>
              <a:rPr b="1" lang="pt-BR" sz="2400" spc="-1" strike="noStrike">
                <a:solidFill>
                  <a:srgbClr val="ffff66"/>
                </a:solidFill>
                <a:latin typeface="Americana XBd BT"/>
                <a:ea typeface="Arial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mericana XBd BT"/>
              </a:rPr>
              <a:t>CaO, MgO, CaSO</a:t>
            </a:r>
            <a:r>
              <a:rPr b="1" lang="pt-BR" sz="1800" spc="-1" strike="noStrike" baseline="-25000">
                <a:solidFill>
                  <a:srgbClr val="ffffff"/>
                </a:solidFill>
                <a:latin typeface="Americana XBd BT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ff66"/>
                </a:solidFill>
                <a:uFillTx/>
                <a:latin typeface="Americana XBd BT"/>
              </a:rPr>
              <a:t>MÉTODO DE DETERMINAÇÃ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AGULHA DE LE CHATELI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24452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QUENTE: Ca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24452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FRIO: M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&lt; 5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 txBox="1"/>
          <p:nvPr/>
        </p:nvSpPr>
        <p:spPr>
          <a:xfrm>
            <a:off x="1828800" y="457200"/>
            <a:ext cx="4495680" cy="53352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EXIGÊNCIAS DAS NORM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828800" y="1523880"/>
            <a:ext cx="4724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ff66"/>
                </a:solidFill>
                <a:uFillTx/>
                <a:latin typeface="Americana XBd BT"/>
              </a:rPr>
              <a:t>QUANTO A COMPOSIÇÃO QUÍMIC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PERDA AO FO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RESÍDUO INSOLÚ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TRIÓXIDO DE ENXOFRE (SO</a:t>
            </a:r>
            <a:r>
              <a:rPr b="0" lang="pt-BR" sz="1800" spc="-1" strike="noStrike" baseline="-25000">
                <a:solidFill>
                  <a:srgbClr val="ffffff"/>
                </a:solidFill>
                <a:latin typeface="Americana XBd BT"/>
              </a:rPr>
              <a:t>3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ÓXIDO DE MAGNÉSIO (Mg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ff66"/>
                </a:solidFill>
                <a:uFillTx/>
                <a:latin typeface="Americana XBd BT"/>
              </a:rPr>
              <a:t>QUANTO AS CARACTERÍSTICAS FÍSIC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FINU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INÍCIO DE PE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FIM DE PE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EXPANSIBILID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RESISTÊNCIA À COMPRESS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 txBox="1"/>
          <p:nvPr/>
        </p:nvSpPr>
        <p:spPr>
          <a:xfrm>
            <a:off x="1828800" y="609480"/>
            <a:ext cx="2971800" cy="38124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PERDA AO FOGO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752480" y="990720"/>
            <a:ext cx="449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AMOSTRA </a:t>
            </a:r>
            <a:r>
              <a:rPr b="0" lang="pt-BR" sz="2400" spc="-1" strike="noStrike">
                <a:solidFill>
                  <a:srgbClr val="ffff66"/>
                </a:solidFill>
                <a:latin typeface="Americana XBd BT"/>
              </a:rPr>
              <a:t>→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 900 a 1000ºC </a:t>
            </a:r>
            <a:r>
              <a:rPr b="0" lang="pt-BR" sz="2400" spc="-1" strike="noStrike">
                <a:solidFill>
                  <a:srgbClr val="ffff66"/>
                </a:solidFill>
                <a:latin typeface="Americana XBd BT"/>
              </a:rPr>
              <a:t>→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 RESÍDU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ffff"/>
                </a:solidFill>
                <a:uFillTx/>
                <a:latin typeface="Americana XBd BT"/>
              </a:rPr>
              <a:t>DETECT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(INÍCIO DE) HIDRAT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(INÍCIO DE) CARBONAT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TEOR DE CaCO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400800" y="1981080"/>
            <a:ext cx="1246320" cy="749520"/>
          </a:xfrm>
          <a:custGeom>
            <a:avLst/>
            <a:gdLst/>
            <a:ahLst/>
            <a:rect l="l" t="t" r="r" b="b"/>
            <a:pathLst>
              <a:path w="785" h="472">
                <a:moveTo>
                  <a:pt x="128" y="464"/>
                </a:moveTo>
                <a:cubicBezTo>
                  <a:pt x="253" y="433"/>
                  <a:pt x="386" y="447"/>
                  <a:pt x="512" y="472"/>
                </a:cubicBezTo>
                <a:cubicBezTo>
                  <a:pt x="587" y="465"/>
                  <a:pt x="673" y="472"/>
                  <a:pt x="744" y="448"/>
                </a:cubicBezTo>
                <a:cubicBezTo>
                  <a:pt x="785" y="387"/>
                  <a:pt x="762" y="265"/>
                  <a:pt x="688" y="232"/>
                </a:cubicBezTo>
                <a:cubicBezTo>
                  <a:pt x="647" y="214"/>
                  <a:pt x="611" y="209"/>
                  <a:pt x="568" y="200"/>
                </a:cubicBezTo>
                <a:cubicBezTo>
                  <a:pt x="541" y="195"/>
                  <a:pt x="488" y="176"/>
                  <a:pt x="488" y="176"/>
                </a:cubicBezTo>
                <a:cubicBezTo>
                  <a:pt x="463" y="138"/>
                  <a:pt x="452" y="112"/>
                  <a:pt x="416" y="88"/>
                </a:cubicBezTo>
                <a:cubicBezTo>
                  <a:pt x="397" y="31"/>
                  <a:pt x="424" y="100"/>
                  <a:pt x="384" y="40"/>
                </a:cubicBezTo>
                <a:cubicBezTo>
                  <a:pt x="379" y="33"/>
                  <a:pt x="383" y="21"/>
                  <a:pt x="376" y="16"/>
                </a:cubicBezTo>
                <a:cubicBezTo>
                  <a:pt x="362" y="6"/>
                  <a:pt x="328" y="0"/>
                  <a:pt x="328" y="0"/>
                </a:cubicBezTo>
                <a:cubicBezTo>
                  <a:pt x="322" y="1"/>
                  <a:pt x="275" y="9"/>
                  <a:pt x="264" y="16"/>
                </a:cubicBezTo>
                <a:cubicBezTo>
                  <a:pt x="239" y="33"/>
                  <a:pt x="228" y="69"/>
                  <a:pt x="192" y="72"/>
                </a:cubicBezTo>
                <a:cubicBezTo>
                  <a:pt x="155" y="75"/>
                  <a:pt x="117" y="77"/>
                  <a:pt x="80" y="80"/>
                </a:cubicBezTo>
                <a:cubicBezTo>
                  <a:pt x="49" y="127"/>
                  <a:pt x="57" y="135"/>
                  <a:pt x="64" y="200"/>
                </a:cubicBezTo>
                <a:cubicBezTo>
                  <a:pt x="61" y="227"/>
                  <a:pt x="64" y="254"/>
                  <a:pt x="56" y="280"/>
                </a:cubicBezTo>
                <a:cubicBezTo>
                  <a:pt x="45" y="315"/>
                  <a:pt x="12" y="340"/>
                  <a:pt x="0" y="376"/>
                </a:cubicBezTo>
                <a:cubicBezTo>
                  <a:pt x="9" y="403"/>
                  <a:pt x="44" y="441"/>
                  <a:pt x="72" y="448"/>
                </a:cubicBezTo>
                <a:cubicBezTo>
                  <a:pt x="85" y="451"/>
                  <a:pt x="99" y="453"/>
                  <a:pt x="112" y="456"/>
                </a:cubicBezTo>
                <a:cubicBezTo>
                  <a:pt x="147" y="465"/>
                  <a:pt x="142" y="464"/>
                  <a:pt x="128" y="464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H="1" flipV="1">
            <a:off x="6019920" y="1905120"/>
            <a:ext cx="3808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1828800" y="3886200"/>
            <a:ext cx="4343400" cy="45720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RESÍDUO INSOLÚVEL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4343400"/>
            <a:ext cx="5410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AMOSTRA </a:t>
            </a:r>
            <a:r>
              <a:rPr b="0" lang="pt-BR" sz="2400" spc="-1" strike="noStrike">
                <a:solidFill>
                  <a:srgbClr val="ffff66"/>
                </a:solidFill>
                <a:latin typeface="Americana XBd BT"/>
              </a:rPr>
              <a:t>→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 ÁCIDO CLORÍDRICO </a:t>
            </a:r>
            <a:r>
              <a:rPr b="0" lang="pt-BR" sz="2400" spc="-1" strike="noStrike">
                <a:solidFill>
                  <a:srgbClr val="ffff66"/>
                </a:solidFill>
                <a:latin typeface="Americana XBd BT"/>
              </a:rPr>
              <a:t>→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 RESÍDU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ffff"/>
                </a:solidFill>
                <a:uFillTx/>
                <a:latin typeface="Americana XBd BT"/>
              </a:rPr>
              <a:t>DETECT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IMPURE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619280" y="260280"/>
            <a:ext cx="4648320" cy="99072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QUALIDAD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ESSENCIAI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411280" y="1413000"/>
            <a:ext cx="6481800" cy="172872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Aglomerante: material em forma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de pó, que quando misturado com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água, é capaz de endurecer por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secagem ou por reações químicas,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aderindo às superfícies com as quai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foram colocadas em contato.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619280" y="3500280"/>
            <a:ext cx="4248000" cy="53352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PROPRIEDAD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203640" y="5302080"/>
            <a:ext cx="5184720" cy="115128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* Alcançada ao fim de um determinado t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* Evolução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132000" y="4508640"/>
            <a:ext cx="4248360" cy="53316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RESISTÊNCIA MECÂN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wipe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 txBox="1"/>
          <p:nvPr/>
        </p:nvSpPr>
        <p:spPr>
          <a:xfrm>
            <a:off x="1828800" y="609480"/>
            <a:ext cx="4419720" cy="45720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TRIÓXIDO DE ENXOFRE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752480" y="1066680"/>
            <a:ext cx="5410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ffff"/>
                </a:solidFill>
                <a:uFillTx/>
                <a:latin typeface="Americana XBd BT"/>
              </a:rPr>
              <a:t>DETECT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TEOR DE GESSO (GIPSITA: CaSO</a:t>
            </a:r>
            <a:r>
              <a:rPr b="0" lang="pt-BR" sz="1800" spc="-1" strike="noStrike" baseline="-25000">
                <a:solidFill>
                  <a:srgbClr val="ffffff"/>
                </a:solidFill>
                <a:latin typeface="Americana XBd BT"/>
              </a:rPr>
              <a:t>4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.2H</a:t>
            </a:r>
            <a:r>
              <a:rPr b="0" lang="pt-BR" sz="1800" spc="-1" strike="noStrike" baseline="-25000">
                <a:solidFill>
                  <a:srgbClr val="ffffff"/>
                </a:solidFill>
                <a:latin typeface="Americana XBd BT"/>
              </a:rPr>
              <a:t>2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1828800" y="2819520"/>
            <a:ext cx="4038480" cy="45720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ÓXIDO DE MAGNÉSIO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828800" y="3276720"/>
            <a:ext cx="54100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ffff"/>
                </a:solidFill>
                <a:uFillTx/>
                <a:latin typeface="Americana XBd BT"/>
              </a:rPr>
              <a:t>DETECT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TEOR DE ÓXIDO DE MAGNÉS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690560" y="4365720"/>
            <a:ext cx="1729080" cy="31752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OUTR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692360" y="4869000"/>
            <a:ext cx="4464000" cy="71892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* Coloração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* Resistência ao calor elevado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92360" y="981000"/>
            <a:ext cx="2808360" cy="38916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DURABILIDA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63640" y="1557360"/>
            <a:ext cx="5184720" cy="36036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* Desempenho adequado quando do uso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619280" y="2060640"/>
            <a:ext cx="3095640" cy="1550880"/>
            <a:chOff x="1619280" y="2060640"/>
            <a:chExt cx="3095640" cy="1550880"/>
          </a:xfrm>
        </p:grpSpPr>
        <p:sp>
          <p:nvSpPr>
            <p:cNvPr id="104" name=""/>
            <p:cNvSpPr/>
            <p:nvPr/>
          </p:nvSpPr>
          <p:spPr>
            <a:xfrm>
              <a:off x="1619280" y="2060640"/>
              <a:ext cx="3095640" cy="1550880"/>
            </a:xfrm>
            <a:prstGeom prst="irregularSeal1">
              <a:avLst/>
            </a:prstGeom>
            <a:solidFill>
              <a:srgbClr val="ff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2411280" y="2563920"/>
              <a:ext cx="1598760" cy="463320"/>
            </a:xfrm>
            <a:prstGeom prst="rect">
              <a:avLst/>
            </a:prstGeom>
          </p:spPr>
          <p:txBody>
            <a:bodyPr wrap="none" lIns="91800" rIns="9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REAÇÃO DOS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COMPOSTOS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219640" y="2060640"/>
            <a:ext cx="3664080" cy="1622520"/>
            <a:chOff x="5219640" y="2060640"/>
            <a:chExt cx="3664080" cy="1622520"/>
          </a:xfrm>
        </p:grpSpPr>
        <p:sp>
          <p:nvSpPr>
            <p:cNvPr id="107" name=""/>
            <p:cNvSpPr/>
            <p:nvPr/>
          </p:nvSpPr>
          <p:spPr>
            <a:xfrm>
              <a:off x="5219640" y="2060640"/>
              <a:ext cx="3664080" cy="1622520"/>
            </a:xfrm>
            <a:prstGeom prst="irregularSeal1">
              <a:avLst/>
            </a:prstGeom>
            <a:solidFill>
              <a:srgbClr val="ff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6084720" y="2565360"/>
              <a:ext cx="1957680" cy="533520"/>
            </a:xfrm>
            <a:prstGeom prst="rect">
              <a:avLst/>
            </a:prstGeom>
          </p:spPr>
          <p:txBody>
            <a:bodyPr wrap="none" lIns="91800" rIns="9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AÇÃO DE AGENTES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EXTERNOS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 flipH="1">
            <a:off x="3995280" y="1989000"/>
            <a:ext cx="647640" cy="2876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43280" y="1989000"/>
            <a:ext cx="505080" cy="36036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692360" y="981000"/>
            <a:ext cx="5715000" cy="76212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CLASSIFICAÇÃ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63640" y="1989000"/>
            <a:ext cx="3743280" cy="79236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1. QUIMICAMENTE INERTE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----------------------------------------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ARGILA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2560" y="3068640"/>
            <a:ext cx="4680000" cy="2736720"/>
            <a:chOff x="3922560" y="3068640"/>
            <a:chExt cx="4680000" cy="2736720"/>
          </a:xfrm>
        </p:grpSpPr>
        <p:sp>
          <p:nvSpPr>
            <p:cNvPr id="114" name=""/>
            <p:cNvSpPr txBox="1"/>
            <p:nvPr/>
          </p:nvSpPr>
          <p:spPr>
            <a:xfrm>
              <a:off x="3922560" y="3068640"/>
              <a:ext cx="4680000" cy="1584360"/>
            </a:xfrm>
            <a:prstGeom prst="rect">
              <a:avLst/>
            </a:prstGeom>
          </p:spPr>
          <p:txBody>
            <a:bodyPr wrap="none" lIns="91800" rIns="91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9933"/>
                  </a:solidFill>
                  <a:latin typeface="Times New Roman"/>
                </a:rPr>
                <a:t>2. QUIMICAMENTE ATIVOS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9933"/>
                  </a:solidFill>
                  <a:latin typeface="Times New Roman"/>
                </a:rPr>
                <a:t>---------------------------------------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9933"/>
                  </a:solidFill>
                  <a:latin typeface="Times New Roman"/>
                </a:rPr>
                <a:t>  </a:t>
              </a: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9933"/>
                  </a:solidFill>
                  <a:latin typeface="Times New Roman"/>
                </a:rPr>
                <a:t>2.1. SIMPLES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9933"/>
                  </a:solidFill>
                  <a:latin typeface="Times New Roman"/>
                </a:rPr>
                <a:t>  </a:t>
              </a: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9933"/>
                  </a:solidFill>
                  <a:latin typeface="Times New Roman"/>
                </a:rPr>
                <a:t>------------------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9933"/>
                  </a:solidFill>
                  <a:latin typeface="Times New Roman"/>
                </a:rPr>
                <a:t>    </a:t>
              </a: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9933"/>
                  </a:solidFill>
                  <a:latin typeface="Times New Roman"/>
                </a:rPr>
                <a:t>Aéreo: gesso, cal cálcico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9933"/>
                  </a:solidFill>
                  <a:latin typeface="Times New Roman"/>
                </a:rPr>
                <a:t>    </a:t>
              </a: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9933"/>
                  </a:solidFill>
                  <a:latin typeface="Times New Roman"/>
                </a:rPr>
                <a:t>Hidráulico: cimento, cal hidráulica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4067280" y="4869000"/>
              <a:ext cx="4248000" cy="936360"/>
            </a:xfrm>
            <a:prstGeom prst="rect">
              <a:avLst/>
            </a:prstGeom>
          </p:spPr>
          <p:txBody>
            <a:bodyPr wrap="none" lIns="91800" rIns="91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9933"/>
                  </a:solidFill>
                  <a:latin typeface="Times New Roman"/>
                </a:rPr>
                <a:t>2.2. COMPOSTOS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9933"/>
                  </a:solidFill>
                  <a:latin typeface="Times New Roman"/>
                </a:rPr>
                <a:t>------------------------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9933"/>
                  </a:solidFill>
                  <a:latin typeface="Times New Roman"/>
                </a:rPr>
                <a:t>Cimento pozolânico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9933"/>
                  </a:solidFill>
                  <a:latin typeface="Times New Roman"/>
                </a:rPr>
                <a:t>Cimento com escória de alto forno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  <a:ea typeface="Times New Roman"/>
              </a:endParaRPr>
            </a:p>
          </p:txBody>
        </p:sp>
      </p:grp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8T19:59:38Z</dcterms:created>
  <dc:creator>Maryangela Geimba de Lima</dc:creator>
  <dc:description/>
  <dc:language>en-US</dc:language>
  <cp:lastModifiedBy>Administrador</cp:lastModifiedBy>
  <dcterms:modified xsi:type="dcterms:W3CDTF">2006-03-20T17:58:31Z</dcterms:modified>
  <cp:revision>482</cp:revision>
  <dc:subject/>
  <dc:title>Título aqu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27301277</vt:r8>
  </property>
  <property fmtid="{D5CDD505-2E9C-101B-9397-08002B2CF9AE}" pid="3" name="_AuthorEmail">
    <vt:lpwstr>pcaterine@terra.com.br</vt:lpwstr>
  </property>
  <property fmtid="{D5CDD505-2E9C-101B-9397-08002B2CF9AE}" pid="4" name="_AuthorEmailDisplayName">
    <vt:lpwstr>Priscila</vt:lpwstr>
  </property>
  <property fmtid="{D5CDD505-2E9C-101B-9397-08002B2CF9AE}" pid="5" name="_EmailSubject">
    <vt:lpwstr>material - agregados</vt:lpwstr>
  </property>
  <property fmtid="{D5CDD505-2E9C-101B-9397-08002B2CF9AE}" pid="6" name="_ReviewingToolsShownOnce">
    <vt:lpwstr/>
  </property>
</Properties>
</file>